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14B-F2FC-41CC-8876-CF96B49B6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B42-87E1-42FB-BFDF-8870428F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C608-60AE-4439-ABB2-DC0787CB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91F2-926B-46B9-B61C-A58BDC65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2D9-30BF-486B-B8C9-D636140C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9BB-2789-4C51-A133-2031B601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E4E-FA77-4545-9798-AEEF2E15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C71-08E3-4BF6-A0ED-F5B68CB0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A975-49FF-4AFC-BF6E-BC9AE944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AD73-8349-408A-918A-0F0C32A0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D8E-996D-4306-8C52-EEC30ABC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009-8EBA-4E2D-93D2-7D3103B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2772-F00D-4979-9FB2-7F16DC1AE11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3E88-1C48-4A77-99B0-051949832B4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hyperlink" Target="http://www.digiater.nl/lddriver" TargetMode="Externa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Technical Update Day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The Netherlan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ctober 11,2006</a:t>
            </a:r>
            <a:endParaRPr b="0" lang="en-US" sz="2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Software Resources International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www.softresint.eu</a:t>
            </a: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Hv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27800" y="0"/>
            <a:ext cx="271620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BA5-1204-46FF-9D96-B606604A00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C0F64-E141-4F13-96DF-783CDC2EA8C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3F8-94BF-4CBE-AD0C-8A1180CD3C0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21F28-1B0F-40C1-9C3B-1339F63841B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A0C7-0F8F-401C-93EC-98A639ECBC8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38AEB-C58E-4527-9EB8-F35D9F36158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EE9C-41FD-4917-A5C6-23456ED4AC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4907D-C0BC-4B3F-91C3-E4EEA68BFB6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09FF-8B25-4E16-A866-100C6105C2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7E3CE-312A-4B60-90E6-04601D8459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F64-4157-430B-B614-2CEBD4FB94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27D03-AB50-435F-B78B-85221C74768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1011-0B90-44CD-B4FB-F256557949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73CCC-CD3B-4452-84DD-EA70EDC18AB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6FD-EDAE-42DC-8E3B-CCAF09CF3A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61743-C2D3-423D-AB0F-F5484146266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re accurate timing in trace records (With VMS V8.3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564-57E9-4CCC-9C82-1C6E3FE2DB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E0C8B-52F6-499C-9F6E-61D18A19454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Erase container file on creation. This has no effect if highwater marking is turned on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will issue a warning if highwater-marking is turned on and the size of the container file is more than 100000 blocks (VMS V8.2 and up)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Will show all attributes of the selected LD device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all/fu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1: to $1$DGA100:[JUR.LD.V90.SRC]FILE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Share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_$3$LDA2: to _$3$DQA0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LD-I-OPTIONS, Replaced, Trace active, No DSE support, Not Forced Error cap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C308-865C-4508-B678-F2DCD63718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E72EE-1E99-4ED3-AE2B-F933961B752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on disk (V9.0, in developmen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009-DF36-4BCA-8948-4E5BC53A81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B4F99-4E45-4998-B2CF-11FE261957F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Get the LD unit number in DCL symbol LD_UNIT, and the container file specification in the symbol LD_CONTAINER. 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display of absolute start and end time of trace data.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800280" indent="-4572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ONNECT/LOGICAL=(NAME=logical-name [,TABLE=table] [,MODE=mode]) 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106668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ssign logical name to LD device at connect ti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4097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C42-4CFF-413B-B77A-A190793C1A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232E5-5D4E-49E8-8C27-754ACAF1BAD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One single driver acts like a disk or tape (!)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e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M-I-CONNECTED, Connected $3$LMA1: to $1$DGA100:[JUR.LD.V90.SRC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3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0A8-4A07-454F-AEB9-ACF1981B474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69B7C-6A25-4B55-9D9C-F2028768BF8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1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mount/foreign lm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3$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0-OCT-2006 14:38:17.05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 Elaps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0 00.01 00000000          0 524288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80 ENDOFFILE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1.11 00.00 2020042A          0      0 NORMAL  REWIN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UNLOAD|CLSEREXC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4:38:14.71 00.00 2020042A          0      0 NORMAL  AVAILABL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DFD-62FB-4142-8165-F1117B31F9C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C3DE2-8F7D-4DAF-8C44-D60FBCC4181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LMA1 newfile.dsk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volume switching for backu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NALYZE file.dsk [/FULL]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Verifies the integrity of the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0F9-51DD-4FEA-A2FC-AFBFC1431C6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040B1-2949-4335-82AA-B9A4C1ED08D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is where we are right now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70000"/>
              </a:lnSpc>
              <a:spcBef>
                <a:spcPts val="901"/>
              </a:spcBef>
              <a:spcAft>
                <a:spcPts val="3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ackup support will follow soon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10mb.bin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DATA:[JUR.LD.V90.SRC]10MB.BIN;1 copied to LMA1: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set magtape/rewind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copy/log lma1: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COPY-S-COPIED, LMA1: copied to DATA:[JUR.LD.V90.SRC]10MB.NEW;1 (163840 records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iff/mode=hex 10mb.bin 10mb.new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section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Number of difference records found: 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FFERENCES /IGNORE=()/MERGED=1/MODE=(HEXADECIMAL)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BIN;1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:[JUR.LD.V90.SRC]10MB.NEW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03F-B4BE-4A6D-8427-47415D1B622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87362-8303-4163-9F86-B309164BB14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init lma2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back/log DATA:[JUR.LD.V90.KIT]*.* lma2:lm/save/rewind/ignore=label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TEST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I-LBLOVRWRITE, volume label TEST         overwritten, new label is L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MOUNT-I-MOUNTED, LM mounted on _$3$LMA2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BIGDIS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DOW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SHARE_LOCK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FILE_TR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LBN_SHAR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LD_REPLACE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MOUNTVER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BACKUP-S-COPIED, copied DATA:[JUR.LD.V90.KIT]SHADOW_RAM.COM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m analyze file.ds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E51-664F-4C5C-8D4A-58C28CEC50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9D5BB-5F0B-44E9-9E7D-4E787B2FCDC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0C0-7AB6-46D2-AD05-D1022E2CC19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E1A008-0103-4662-A18F-4AE8C9660BB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D24-7884-4DE1-9C2D-334D60BE565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20C66-F31B-4DFC-B8D4-2C6787225CB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499F-7E03-4F4C-BD0F-099C9FEB45E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220ED-F4AE-4E00-A4B5-2EC63A51764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2D1-8A27-48A5-A6DC-8DD49541A56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53688-267C-49D2-8B91-36638797420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4"/>
              </a:rPr>
              <a:t>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386-BDD0-40F5-A5A1-0DEFEBD51DC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1E7CD-45FD-47A0-A810-A1DE505F56E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040B-C4A8-49BC-BE1D-8AC0176FDEA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66DA5-D286-49DB-A9E5-9708DFDA930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056A-1A65-46E9-8C34-43FA6FC7688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02658-BCB5-46DD-A28A-879BE4EC078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015-9532-4DBE-800B-FFCC663E9E0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3B03A-CBFB-42B7-BF3A-F7A0358E55C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V8.2 will be the last release for VAX/VM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BE8-8AD4-4B28-9EE3-D563C12C5C5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418D0-823A-4171-8383-A5155C94DB7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75D-0331-4BD2-9E36-CA8E6D65583D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4D956-E096-4773-B8BD-41DC62B4442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HP 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PY/RECORDABLE_MEDIA (CDDV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BA75-464D-48C9-9255-AD922BDA6903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399FD-2962-448A-937A-A239B78DF22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drink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47A-F1E6-40AF-B727-488B503125D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2E3F1-9312-44DB-BE9B-334FB054BFC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 (V6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Keep an eye on the website for the V9.0 relea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lddriv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2A0-76D3-40D1-9E3C-F27CBBCADB9B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53CC77-FA2C-4741-8474-DA86F8C601D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7BA-5A2C-4265-8FCA-1AAB17673552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A533D-A643-4E38-A0E3-C3E0B465728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959-603B-4FB9-AD23-F10BD1DF64A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A156F-58EC-4CA1-B86A-64541EE96B4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80000"/>
              </a:lnSpc>
              <a:spcBef>
                <a:spcPts val="1199"/>
              </a:spcBef>
              <a:spcAft>
                <a:spcPts val="400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Oct 10 2006 13:46:25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0-OCT-2006 13:56:45.44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8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890-FB8A-466B-B625-B84EC9A1E0E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9EBA0-4118-4B99-ABB4-58B8E398E61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162-A340-4551-868B-6C43E8C6E7C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7069C-6058-4DED-AD10-6FF66269C4F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DB2-4683-47FA-957E-BC6D3EC1E6D9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AEBFD-3E40-4892-850A-4E13B91FCB7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E7F9-A6C5-4755-85DE-BB21FE5C7168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05EBF-B0DD-4DCC-ABF2-288D3FE79DE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965-8EC5-450A-BB47-D09151D6FB8C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BF7BA-E65F-4889-88BD-DACEBC906A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281-9075-47A9-B778-FDF90812119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D7022-66CB-4005-AB7D-1473FF3247D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B1C-56D0-4D38-915A-C6A4C5B292C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F3557-BBCF-4A8D-B305-B2958C3E21C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EF3-991C-4BE2-873F-D83083737D4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407EC-94BA-4089-91E5-06F16A7E288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B08-7A7A-4D24-99EF-B575E7A603F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A60F8B-5C1E-4777-A409-26653BE07AC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C5A3-383C-4A22-BB45-2009925863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F5949-E5E0-4BE0-9933-4D1F50AF851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951-A2F9-4292-B72D-FC033FFA74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AC06F-DA36-4FD0-B203-95E4B0340F8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A2D6-FC80-43DA-A342-D1E3B30B37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17CC4-A8E0-41FB-967E-0C148BAAA51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D66-3B53-431A-BE6D-879323BB2E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0AC495-4641-4BCE-B612-F14E209FD04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324-4C80-45C1-B651-F2B4CEE4B9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0E1CD-BBD6-47AD-8026-C6E84E11B20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10-10T18:51:47Z</dcterms:modified>
  <cp:revision>90</cp:revision>
  <dc:subject>Standard Dark Template</dc:subject>
  <dc:title>HP_TmpIt_dark_final</dc:title>
</cp:coreProperties>
</file>