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906280" y="225360"/>
            <a:ext cx="3645000" cy="273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hdr"/>
          </p:nvPr>
        </p:nvSpPr>
        <p:spPr>
          <a:xfrm>
            <a:off x="28368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Presentation 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B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4"/>
          </p:nvPr>
        </p:nvSpPr>
        <p:spPr>
          <a:xfrm>
            <a:off x="275760" y="8918640"/>
            <a:ext cx="5807160" cy="2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5"/>
          </p:nvPr>
        </p:nvSpPr>
        <p:spPr>
          <a:xfrm>
            <a:off x="6206760" y="8929440"/>
            <a:ext cx="38268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F06E-B7EA-4866-A9AA-D3D0EC2F348A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A8A6-337D-4EC5-A2D9-2E25802779CC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4047-D2A8-4055-AD39-B2FE96FF2C04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F4CB-F064-4439-8216-3D78C02CC804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C155-7990-4F6D-AEC0-D88F3E9E50D0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B48E-4422-4F5C-9565-9C6FFDACA118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FD71-9E84-4AC4-88EA-06D625178DF6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D815-74DE-4113-8BFD-D682BE2DC9ED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0EBC-75AC-476B-9EBF-38EEED0B13D7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CAD7-5505-4EC4-8A56-FEBE211BD39B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3B33-61B2-40E8-8E59-77588145669C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2DEF-5217-4C18-98EC-DF3CA46F698D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3DD9-A7A5-488D-82DA-BDF5D297C67D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C289-0854-43AD-895B-93A602740445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54EB-10C0-4F90-ADC4-1C511A2B8C3A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23C5-F863-4765-8F25-7A756E580402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A811-208F-4AAB-8408-66AA635DDBD0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4A63-0227-49BC-BC00-6941D239CFE7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4BE7-96EF-40D9-A860-7309F0DB2DC6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6F99-3253-47F8-B5CD-47A8F59B392A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1C46-0BC6-441C-84A5-B35A81BFA6C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BDE4-CA6E-4D78-BFD9-F578A69B2AAC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23F1-FA8E-4067-8AF2-77CD9D9CE8CA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9318-FBFA-4519-9728-DE35B99422A9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063B-7D70-4608-9F39-AACF9C722623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914560" y="260280"/>
            <a:ext cx="3646440" cy="2735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250560" y="3200040"/>
            <a:ext cx="613548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641D-5BF5-4056-BC5B-E30C361252B8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A94D-5583-4E0F-A06F-15C97F49C3C6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EB62-3245-4895-BD7B-0467D63C086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051C-8A51-494A-977A-F8EC3D3FD2C9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526B-595F-4BED-B4E5-99AFD6939552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3517-9EE1-437B-9E19-E8666F91AE5B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2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F2BE-009D-462C-A47D-5097CF391FAF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BF7A-2A45-4885-815E-4ACE6F839B5B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D2D0-82E0-4179-AB1C-FC93572A2A1D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8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30D2-74B4-41B0-80D0-F68D9B2B2924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18AD-42CA-4678-AC49-80C5CE2F9263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5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FD78-8881-4DEA-B246-FB1F10D42D56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9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80EB-FD0D-4AB8-9218-0C5EEB936171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3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6E06-8DF7-4C65-BF32-057C76F73233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7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4275-73E3-4AAE-BC56-E809E4927950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906640" y="225360"/>
            <a:ext cx="3645000" cy="2733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250920" y="3200040"/>
            <a:ext cx="6292800" cy="56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1" name="Header Placeholder 3"/>
          <p:cNvSpPr/>
          <p:nvPr/>
        </p:nvSpPr>
        <p:spPr>
          <a:xfrm>
            <a:off x="284040" y="227160"/>
            <a:ext cx="2535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utura Hv"/>
              </a:rPr>
              <a:t>Presentation Title</a:t>
            </a:r>
            <a:endParaRPr b="1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207120" y="8929800"/>
            <a:ext cx="382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88C6-D5FE-4CA8-9624-9C724739A39A}" type="slidenum">
              <a:rPr b="0" lang="en-US" sz="800" spc="-1" strike="noStrike">
                <a:solidFill>
                  <a:srgbClr val="ffffff"/>
                </a:solidFill>
                <a:latin typeface="Futura Bk"/>
              </a:rPr>
              <a:t>&lt;number&gt;</a:t>
            </a:fld>
            <a:endParaRPr b="1" lang="en-US" sz="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72A-2C00-462D-9873-A4AC816C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E489-0087-49B5-A779-2128AF8D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4542-22D8-4EFD-9FE7-624C20BC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F127-8D82-4074-9813-856A6750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5E76-743A-4866-B309-FF933758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4D5E-087C-4BF9-BAB4-B18B28AE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753-129A-42A6-96E1-17114F77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7359-E483-4DE4-839C-A0B20F4C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E51-9DC2-4801-B3AD-80FEF4E3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0526-3030-4C4E-8C72-9ED1A944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FFEB-61F2-4D9A-847D-91DC14A5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052-2428-4FDF-AC8D-44D92062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F91C-FA50-4E1D-BF6F-450599E916E4}" type="datetime3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July 28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DA61-4A30-4EA2-A306-2DED1E55F9AA}" type="slidenum">
              <a:rPr b="0" lang="en-US" sz="900" spc="-1" strike="noStrike">
                <a:solidFill>
                  <a:srgbClr val="8485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7 Jur van der Burg www.digiater.nl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45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63817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digiater.nl/lddriver" TargetMode="External"/><Relationship Id="rId2" Type="http://schemas.openxmlformats.org/officeDocument/2006/relationships/hyperlink" Target="http://www.digiater.nl/lddriver" TargetMode="External"/><Relationship Id="rId3" Type="http://schemas.openxmlformats.org/officeDocument/2006/relationships/hyperlink" Target="mailto:lddriver@hp.co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igiater.nl/lddriver" TargetMode="External"/><Relationship Id="rId2" Type="http://schemas.openxmlformats.org/officeDocument/2006/relationships/hyperlink" Target="http://www.digiater.nl/downloads" TargetMode="External"/><Relationship Id="rId3" Type="http://schemas.openxmlformats.org/officeDocument/2006/relationships/hyperlink" Target="http://www.hp.com/go/openvms/freeware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LDdriver V9.0: Tapes in disguise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OpenVMS Advanced Technical Bootcam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Lt"/>
              </a:rPr>
              <a:t>May 2007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33080" y="537228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Jur van der Bur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digiater.n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92" name="Picture 6" descr="D:\Jur\Digiater.nl-2.jpg"/>
          <p:cNvPicPr/>
          <p:nvPr/>
        </p:nvPicPr>
        <p:blipFill>
          <a:blip r:embed="rId1"/>
          <a:stretch/>
        </p:blipFill>
        <p:spPr>
          <a:xfrm>
            <a:off x="6440400" y="0"/>
            <a:ext cx="270360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ontainer file cre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LM CREATE instead of LD CREA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adds metadata to the container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Not needed for correct operation right now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Will be needed in the future for fast skip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etadata can be initialized later 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Original file contents will be preserved as the metadata space will always be reserv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Initialize later on with LM CONNECT/INIT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will not be done by default as it would overwrite the first block of a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What if you would connect the wrong file by mistake?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D2B3-83EA-4DBC-8908-D1DD9BE37AE4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BB0C-5139-4308-BBAE-94384B298EB6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ontainer file metadata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M-I-METADATA, Metadata availabl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Version:                 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reator:                 JU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rocess name:            SysDamage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Account:                 SYSTEM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UIC:                     [100,100]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reated on system:       THEBAT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VMS version:             V8.3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me at creation:         8-MAY-2007 20:50:19.90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me at last connect:     8-MAY-2007 20:50:25.49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Time at last disconnect:  8-MAY-2007 20:53:23.54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Data start:              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Data size:               9999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Flags:                   tagsinus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hecksum:                A7C35A3F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DB10-70BD-4CBA-AB07-DB14F126D768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D711-966D-433F-95EB-3614120883A2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 us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create tape.dsk/size=10000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connect/log tape.dsk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LM-I-CONNECTED, Connected $3$LMA1: to $3$DKA100:[JUR.LD]TAPE.DSK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init lma1: tes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backup sys$sysroot:[syshlp.examples.ld]*.* lma1:test/verify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MOUNT-I-MOUNTED, TEST mounted on _$3$LMA1: (THEBAT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BACKUP-I-STARTVERIFY, starting verification pass at 17-MAY-2007 11:14:07.78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dismount lm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disconnect lma1:/log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LM-I-DISCONNECTED, Disconnected $3$LMA1: from $3$DKA100:[JUR.LD]TAPE.DSK;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80E5-6DFC-4B25-83FE-275CE15D35FC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3C4B-B31E-4A70-8257-527531871B80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Volume switching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lows loading a new container file as soon as backup runs out of spa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Manual load/unloa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UNLOAD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LOAD NEWFILE.DSK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e step approach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SWITCH NEWFILE.DSK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his will automatically unload the old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oad existing file if the unit is unloaded (for example, $ DISMOUNT/UNLOA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LOAD LMA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550F-A200-43F1-B732-2AA35FE21F45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2C1B-3FD1-42B6-B03A-63EFD85F7DA2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Volume switching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ape will initially be load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lm connect tape lma1/full/log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M-I-CONNECTED, Connected $2$LMA1: to $2$DKA400:[JUR]TAPE.DSK;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-LM-I-OPTIONS, Tape unit, Tape loaded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mount/for lma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MOUNT-I-MOUNTED, TEST mounted on _$2$LMA1: (THEBAT)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dismount lma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$ lm show  lma1/full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M-I-CONNECTED, Connected $2$LMA1: to $2$DKA400:[JUR]TAPE.DSK;1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-LM-I-OPTIONS, Tape unit, Tape </a:t>
            </a:r>
            <a:r>
              <a:rPr b="0" lang="en-US" sz="1600" spc="-1" strike="noStrike">
                <a:solidFill>
                  <a:srgbClr val="ff0000"/>
                </a:solidFill>
                <a:latin typeface="Lucida Console"/>
              </a:rPr>
              <a:t>u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oaded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behavior is just like a real tape uni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3457-7C0F-4FE7-A6B7-3ED3C10AE6AD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2A06-0524-43DC-8C16-F808DE690E23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Volume switching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t is possible to create a tape device without an attached container fi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$ lm connect lma2/noload/log/full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%LM-W-NOTCONNECTED, Device $2$LMA2: is not connected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-LM-I-OPTIONS, Not Forced Error capable, Tape unit, Tape unloaded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67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6E66-0F05-4987-9273-1052E2BB9C03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DF5B-065A-4527-BD14-E75DEB8C548C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Tape data trac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ata to or from disk on behalf of the driver is not logged by defaul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can be enabled with LM TRACE/A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t will show up in trace data with a PID field of zero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k requests are subject to segmentation dictated by the maximum transfer size of the physical disk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2C32-332A-4AC0-9D03-CF2EABEF5649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AB4E-498B-492D-AF40-65C764F9FB12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Tape data trace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trace lma1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/all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init lma1 t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mount lma1 tes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%MOUNT-I-MOUNTED, TEST mounted on _$3$LMA1: (THEBAT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m show/trace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I/O trace for device $3$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8-MAY-2007 20:51:59.14 on node THEBA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End Time           Elaps    Pid       Lbn     Bytes  Iosb    Func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49071 00.000005 2020042F          0      0 NORMAL  PACKAC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49133 00.000000 2020042F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49174 00.000001 2020042F          0      0 NORMAL  SETMODE|MT3_DENSITY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64598 00.014676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  1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66553 00.001917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257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76429 00.009853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513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808 00.010357 </a:t>
            </a:r>
            <a:r>
              <a:rPr b="0" lang="en-US" sz="12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00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769 13107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837 00.036922 2020042F          0     80 OPINCOMPL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904 00.000001 2020042F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  <a:ea typeface="Courier New"/>
              </a:rPr>
              <a:t>20:51:49.686945 00.000000 2020042F          0      0 NORMAL  SETMODE|MT3_DENSITY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E7C6-6CD0-4F23-B0B9-336951DE7B83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6B65-BE9F-49A5-8C2C-C082A9D0523F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Diagnostic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M ANALYZE file.dsk [/RECORDS] [/DATA]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ill detect container file issu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Normally not needed by end us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analyze tap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%LM-I-METADATA, Metadata avail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Version:                 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Creator:                 JUR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rocess name:            Jur van der BU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Accoun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UIC:                     [100,1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Created on system:       THEBA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VMS version:             V8.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Time at creation:        15-MAY-2007 20:13:21.3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Time at last connect:    15-MAY-2007 20:50:13.27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Time at last disconnect: 15-MAY-2007 20:50:26.7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ata start:              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ata size:               99999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Flags:                   tagsinu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Checksum:                C26E593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%LM-I-ANALYZEOK, Container file structure successfully verifie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Bytes read:         4928307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Records read:           5967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atabytes read:     4880014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Eof count:                 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3AE9-64E9-4947-AC5A-523D2CA001C6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64A2-AAA3-4446-93E8-0BA6FCC8AB6B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ontainer file layou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disk it’s easy: ODS2 or ODS5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tape it’s a private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-2192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Header record layou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TAG 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CNUM          quad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OFFSET          quad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BCNT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FLAGS           structure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ATA            address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-21924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railer record layout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BCNT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TAG             longword unsigned;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ytecount in trailer record facilitates reverse skip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9F3F-D01A-4078-A031-321198D00897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46A6-9493-4D5B-90C1-A4373C1D2464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119F-5C9F-4E95-9986-DCF4D54FD3F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DD26-F363-4FC6-ACAB-5FC03B69E699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driver: What can it do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tap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on a disk as a new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vestigate I/O behavio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est application error handl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lay around with disks or tapes without doing damag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havoc (with privilege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Driver internal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big issue: writing sequential variable records to a block structured medium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rnal buffering required for efficiency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ffer management is complex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buffer manager is a sort of ‘Kernel mode RMS’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ust be able to seek to any positi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l manipulation must be done from system contex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No usermode or process availab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ata copies needed from/to user buffer to driver buffer by double mapp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64BB-5E5D-4C51-B229-F0874F19329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C388-F34F-4AAD-9A75-6072AEB4FC2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Driver internals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rnal buffer is fixed 512Kb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located from nonpaged pool for every uni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most efficient way to handle data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e driver for LD and LM devices!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river is still named SYS$LDDRIVER.EX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device name during driver connect will determine if it’s a disk or a tap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asy driver maintenance (one source fil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an old LDdriver is active when installing LD V9.0 then LM can not be used before the system has been reboot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AC3D-372C-42FB-94D1-EAF2A1AACC58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A9B2-0B92-456F-B8DD-84B3F21E0883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5789-4EE0-4234-A56E-A331C1B7FC4D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6302-23A2-4160-A521-C7522D88608C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Restrict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M devices can not be shar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nd of data is currently fixed at 95% of the container file siz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n-foreign (Files-11) mounted tapes may not handle certain fil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VMS I/O subsystem enforces a minimum record size of 14 bytes for tap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pying .OBJ files or other types may give SS$_BADATTRIB error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al tape devices behave the sam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367F-1598-4E90-A89E-8BE38C4B72C3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894D-8004-49AC-ACCF-DD30D3533398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632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Restrictions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Watchpoints are not supported on virtual tap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3 is the last release supporting VAX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oo much 64-bit stuff need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imited interest in new featur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Known problem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witching volumes on Files-11 mounted tape may give error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M SHOW/TRACE/CONTINUOUS may cause invalid data to be written to tap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urate timing in trace data may we way off if a cpu has been stopped and restart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orkaround is to disconnect and reconnect the LM or LD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2675-099D-41CC-9791-FC0B044BCE98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7799-349C-4ECC-9695-647B56CBC77B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425A-83BC-4ABB-B008-9C012CE3A92B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D8EA-5AF7-469F-8E90-524CEA03D26E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imi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s many devices as your diskspace allow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ion of any device takes BYTLM quota from the creating proces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tracebuffer as well as watchpoints come out of non-paged pool and are charged against BYTLM as we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f 9999 LD devices are not enough then you can create LD devices on other controllers, like LDB1:, LDC1: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figure the driver with @SYS$STARTUP:LD$STARTUP x where x is the controller to u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8117-9395-43C5-8338-C3F00E60FFD6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19C8-577E-4C8C-A658-130925B01818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ld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3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V8.3 has no new features when compared to V8.2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is only a bug fix release (and what a bug!)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If a container file resides on a volumeset then reads and writes are always directed to the member of the set where the first blocks of the file are locat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o if data would need to go to another member it would go to this memb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Guess what the result will b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is present in V9.0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oblem was introduced in LD V8.0, on Alpha, IA64 and VAX, and is also present in LD V8.1 and LD V8.2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Native version of LD in VMS V8.2 is not affect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Native version of LD in VMS V8.3 is affecte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886680" indent="-2214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Next VMS release after VMS V8.3 will have the fix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99600" y="145548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utomatic volume switch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M AUTOSWITCH file1,file2,… LMAx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mitates a stack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echanism to automatically create new container fil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ast skip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ready partly implemented but not finished in V9.0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ensity selec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ight be limited in us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llback to applications on certain driver conditions (via AST’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7232-DBCD-424A-809A-92458B9D2E79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E702-0217-42E8-9A0A-9F0AE2B3049D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mpaction may be possible now that we can handle variable length record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might be used for Logical Disks as well (data compression on virtual disks!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You name i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Money might speed up things considerably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78AD-3F12-4034-B6CB-D41230D83F40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D2C8-DA99-4D15-B256-619ED0D15079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178B-AA51-4C33-86C4-9F9D13B7B5A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B3B9-2233-45B5-9345-45D0C78F8A65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ore inform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fter installation: $ LD HELP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websit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digiater.nl/lddriv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http://www.digiater.nl/download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driver article from the HP technical journa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Old presentat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Questions / Bugs / Ideas?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mail: </a:t>
            </a: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lddriver@digiater.n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D72D-8452-4471-8904-90CF0170786E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7AA6-75FD-463B-A17E-999BFE89B7D8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ere can I find it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main LDdriver 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digiater.nl/lddriv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http://www.digiater.nl/download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V8.3 will remain available as it is the last release that supports VAX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OpenVMS freeware web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 algn="just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may not be the latest versi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http://www.hp.com/go/openvms/freewar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0" y="3240"/>
            <a:ext cx="9142560" cy="6856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Digiater"/>
          <p:cNvPicPr/>
          <p:nvPr/>
        </p:nvPicPr>
        <p:blipFill>
          <a:blip r:embed="rId2"/>
          <a:stretch/>
        </p:blipFill>
        <p:spPr>
          <a:xfrm>
            <a:off x="2082960" y="2216160"/>
            <a:ext cx="4978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EBAD-DBA9-4A4E-BF34-EA176C9F73E6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5FB3-748D-4340-A971-15EB6F06F72F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.COM</a:t>
            </a: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BC90-ECF8-4965-A6D1-8296321BB8F9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9897-D362-42C0-B544-018675FFD1F1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49F6-D078-4DAF-86EF-6110985BC254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2A60-2EE5-478D-9E1A-7F4F76044211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_LOCK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D6EA-15F4-4BA5-BFDC-9A459A842AA9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29E7-3086-48F4-8AE6-5DF003F71304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TR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on control_y then goto exi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loop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analyze/di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goto loo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exi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66C4-D043-4A71-A496-95BAA25259C0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FA01-366F-4DFB-8B5E-1F5157007FCC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DOW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2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2.dsk lda2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dsa0:/shadow=($4$lda1:,$4$lda2:)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shadow/cop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dsa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2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87CE-D0E6-414B-9CA5-2416F4202110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CD26-2E72-4074-9E3D-6141DB1B6E36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9F5D-4B04-4CC9-9D9D-893113D16244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D396-FED1-4CE3-A603-68252D4ADD84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BBDD-5AF8-4130-8FCA-491B01FAF025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7947-438D-4C29-8AD2-E97AA59E7B60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REPL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replac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7FAE-1900-4B9B-830D-1D487301CD59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0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8A61-2CCF-47DC-9305-763FBE7010BB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MOUNTVER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/log/symbol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/nohigh/system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/action=error=%x84/function=code=%x0808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error=%x84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opcom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enable/tem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pawn/nowait/input=nl: dump lda'ld_unit':/block=(start=10,count=1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no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dis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/nolog/noconf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989C-C0BE-4422-9A39-333E7FCBD210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8407-E497-429D-A4C3-8DE744DBE838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 file on a physical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DKA100:[LD]DISK/SIZE=1000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the file to a devi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[LD]DISK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it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INI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MOUN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DISMOUNT LDA1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connect the fi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DISCONNECT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M_FIL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create tape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connect tape1.dsk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show lma1:/fu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trace lma1: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m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ma1:/for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backup/log/verify sys$sysroot:[syshlp.examples.ld]*.* lma1: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show/trace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trace/reset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show/trace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disconnect lm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m analyze tape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tape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3B3D-9881-4020-B3D4-0707474C8646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0374-525B-4FCD-A55D-DE9598C8D19B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CREATE/ERA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rases container file after creati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mplicit when highwater marking is turned on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Uses erase pattern set by $ERAPA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arning message issued if file is more than 100000 blocks (VMS V8.2 and up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Lucida Consol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%LD-W-HIGHWATER, Highwater marking is enabled on device, be patient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combined with /EXTEND only the extended part will be eras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SYMBO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trieves unit number and container filename in DCL symbols: LD_UNIT and LD_CONTAIN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5500-6EE6-4831-814F-5A347AB31386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1532-A041-4681-8F97-C26452C5DB76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FU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hows extended attributes of LD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$ ld show/all/ful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I-CONNECTED, Connected _$3$LDA1: to $1$DGA100:[JUR]FILE.DSK;1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I-OPTIONS, Shared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I-CONNECTED, Connected _$3$LDA2: to _$3$DQA0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I-OPTIONS, Replaced, Trace active, No DSE support, Not Forced Error capabl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TRACE/TIMESTAMP=START or EN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lows selection of absolute start and end time of trace data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2218-7FE5-4B88-8A0A-8582F66D2965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0377-0AEC-4BA3-876D-5E334B021F8D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CONNECT/LOGICAL=(NAME=logical-name[,TABLE=table][,MODE=mode]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etup a logical name associated with the connected LD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Privileges dictate modes and tabl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SHOW/TRACE /LBN=[HEX,DECIMAL]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/BYTECOUNT=[HEX,DECIMAL]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ter data format in tra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FF74-6658-4755-8813-1064187A72FD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75B2-FF53-4A66-9657-57E1CBA053F4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features in V9.0 - continued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99600" y="1419120"/>
            <a:ext cx="827244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urate timestamps in trace data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Only in VMS V8.3 and up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I/O trace for device $3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17-MAY-2006 09:21:15.16 on node THEBAT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End Time           Elaps    Pid       Lbn     Bytes  Iosb  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-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32269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000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    0      0 NORMAL  PACKA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0950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8581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    1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7513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6426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 1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8595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959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50033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09:21:12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249557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00.</a:t>
            </a:r>
            <a:r>
              <a:rPr b="0" lang="en-US" sz="1400" spc="-1" strike="noStrike">
                <a:solidFill>
                  <a:srgbClr val="ff0000"/>
                </a:solidFill>
                <a:latin typeface="Lucida Console"/>
                <a:ea typeface="Courier New"/>
              </a:rPr>
              <a:t>000838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2060042F      50034    512 NORMAL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trol utility rewritten in Ansi-C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llows much more checking by the compil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54400" indent="-2214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9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BFB2-50FB-4D9D-912C-8A5CE3DC2E15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533A-606B-48D4-B5A9-9C983C4CE74D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agtape suppor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Just use LM (Logical Magtape) instead of LD for most command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tartup like LD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48640" indent="-2192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@SYS$STARTUP:LM$STARTUP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Minimum container file size is 5000 bloc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tainer file has a private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olume switching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 fastskip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 density switching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 compaction suppor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9240" indent="-21924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3" name="Date Placeholder 3"/>
          <p:cNvSpPr/>
          <p:nvPr/>
        </p:nvSpPr>
        <p:spPr>
          <a:xfrm>
            <a:off x="593640" y="6629400"/>
            <a:ext cx="14637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2036-2E63-42EA-83CC-C21E8F965B56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229600" y="6629400"/>
            <a:ext cx="762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43A4-BACC-4AC4-A7A0-D0B2B184EA7D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03:39Z</dcterms:created>
  <dc:creator>Duarte Design, Inc</dc:creator>
  <dc:description>The dark template was designed for PowerPoint  98 through 2000</dc:description>
  <cp:keywords>Dark Template</cp:keywords>
  <dc:language>en-US</dc:language>
  <cp:lastModifiedBy>Jur van der Burg</cp:lastModifiedBy>
  <dcterms:modified xsi:type="dcterms:W3CDTF">2007-05-18T13:45:49Z</dcterms:modified>
  <cp:revision>230</cp:revision>
  <dc:subject>Standard Dark Template</dc:subject>
  <dc:title>HP_TmpIt_dark_final</dc:title>
</cp:coreProperties>
</file>