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01BC-22EC-473D-A6BE-58A54F152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4408-2410-46A5-B28B-D19FAA38B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EC80-4BA7-4A66-B1C7-F7FC7CD8B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68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40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996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68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40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3DF7-23D9-4A40-85FD-AFE71832A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28400" y="114120"/>
            <a:ext cx="7629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DF66-919B-4C30-87F3-0CD72EAC1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968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94000" y="14475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996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968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94000" y="4073760"/>
            <a:ext cx="26636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5C59-46DA-4A1A-9284-4CDCC845D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E954-4D0F-4DD0-A534-17C6DEC9A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66A8-A9DB-4E75-80BA-08A02165F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28400" y="114120"/>
            <a:ext cx="7629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4C04-B63D-4566-AE1E-53AF3D77E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BA99-A1D4-42E8-B74B-4627120A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8600" y="40737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400D-6CEB-4587-BDCA-29A7F1A0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8600" y="1447560"/>
            <a:ext cx="40366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99600" y="4073760"/>
            <a:ext cx="827244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F111-E3AF-4AD0-B7DE-F3A9B6FD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93640" y="6629040"/>
            <a:ext cx="146376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48589"/>
                </a:solidFill>
                <a:latin typeface="Futura B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2EA27-6738-4C55-B957-B9D5D9A03FE1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8, 20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133720" y="6629040"/>
            <a:ext cx="487656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48589"/>
                </a:solidFill>
                <a:latin typeface="Futura B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48589"/>
                </a:solidFill>
                <a:latin typeface="Futura Bk"/>
              </a:rPr>
              <a:t>&lt;footer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229240" y="6629040"/>
            <a:ext cx="76212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48589"/>
                </a:solidFill>
                <a:latin typeface="Futura B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70FE9-00EB-43A4-B10A-C10ABE7BCD1A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71440"/>
            <a:ext cx="257040" cy="5686560"/>
          </a:xfrm>
          <a:prstGeom prst="rect">
            <a:avLst/>
          </a:prstGeom>
          <a:solidFill>
            <a:srgbClr val="0071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57040" cy="1114560"/>
          </a:xfrm>
          <a:prstGeom prst="rect">
            <a:avLst/>
          </a:prstGeom>
          <a:solidFill>
            <a:srgbClr val="0071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3" marL="125748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4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5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fffff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6" marL="16002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fffff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221680" y="262080"/>
            <a:ext cx="77616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426360" y="0"/>
            <a:ext cx="2717640" cy="6858000"/>
          </a:xfrm>
          <a:prstGeom prst="rect">
            <a:avLst/>
          </a:prstGeom>
          <a:solidFill>
            <a:srgbClr val="00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369120" cy="48099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1000" y="1063440"/>
            <a:ext cx="565164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L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47" name=""/>
          <p:cNvSpPr/>
          <p:nvPr/>
        </p:nvSpPr>
        <p:spPr>
          <a:xfrm>
            <a:off x="465120" y="637704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utura Bk"/>
              </a:rPr>
              <a:t>© 2006 Hewlett-Packard Development Company, L.P.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Futura Bk"/>
              </a:rPr>
              <a:t>The information contained herein is subject to change without notice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389640" y="4097160"/>
            <a:ext cx="2486160" cy="1919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265800" y="4816440"/>
            <a:ext cx="1792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Hv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  <a:p>
            <a:pPr lvl="1" marL="343080" indent="0" algn="ctr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685800" algn="ctr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3" marL="1028880" algn="ctr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Arial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4" marL="1371600" algn="ctr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5" marL="1371600">
              <a:spcBef>
                <a:spcPts val="499"/>
              </a:spcBef>
              <a:buClr>
                <a:srgbClr val="fffff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6" marL="1371600">
              <a:spcBef>
                <a:spcPts val="499"/>
              </a:spcBef>
              <a:buClr>
                <a:srgbClr val="ffffff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hp.com/go/openvms/freeware" TargetMode="External"/><Relationship Id="rId2" Type="http://schemas.openxmlformats.org/officeDocument/2006/relationships/hyperlink" Target="http://www.hp.com/go/openvms/freeware" TargetMode="External"/><Relationship Id="rId3" Type="http://schemas.openxmlformats.org/officeDocument/2006/relationships/hyperlink" Target="http://www.digiater.nl/lddriver" TargetMode="External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hp.com/go/openvms/journal" TargetMode="External"/><Relationship Id="rId2" Type="http://schemas.openxmlformats.org/officeDocument/2006/relationships/hyperlink" Target="mailto:lddriver@hp.com" TargetMode="External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41000" y="1063440"/>
            <a:ext cx="565164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Lt"/>
              </a:rPr>
              <a:t>Disk partitioning on VMS with LDdriver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ffffff"/>
                </a:solidFill>
                <a:latin typeface="Futura Lt"/>
              </a:rPr>
              <a:t>Session A311/A312</a:t>
            </a:r>
            <a:endParaRPr b="0" lang="en-US" sz="32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33080" y="5372280"/>
            <a:ext cx="4570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Hv"/>
              </a:rPr>
              <a:t>Jur van der Burg</a:t>
            </a: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Hv"/>
              </a:rPr>
              <a:t>HP OpenVMS Engineering</a:t>
            </a: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Hv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/O tracing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Very powerful feature to see what’s happening on a low lev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an be viewed real-time (continuously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an be logged to disk (unattended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lexible selectable outpu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different time format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different I/O status block format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different I/O function code format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F9C5-3200-48BE-A7EF-B97D90C8A14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780FB4-EE70-4C87-A184-388BC75CFCF4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/O Tracing exampl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d trace ld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.....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d show/trace lda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I/O trace for device $7$LD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6-APR-2006 22:18:36.28 on node LDDRVR: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Start Time Elaps  Pid      Lbn  Bytes Iosb  Function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--------------------------------------------------------------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5 00.00 09C00227 0    0     NORMAL PACKACK|INHERLOG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5 00.01 09C00227 1    512   NORMAL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6 00.00 09C00227 1034 512   NORMAL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7 00.00 09C00227 5002 512   NORMAL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8 00.00 09C00227 5002 512   NORMAL WRITE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9 00.00 09C00227 5003 1536  NORMAL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9 00.00 09C00227 5006 512   NORMAL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9 00.00 09C00227 5000 512   NORMAL READPBLK|EXFUNC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69 00.00 09C00227 0    0     NORMAL PACKACK|BYPASS_VALID_CH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70 00.00 09C00227 5016 512   NORMAL READPBLK|EXFUNC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70 00.00 09C00227 5023 1024  NORMAL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2:18:32.70 00.00 09C00227 5016 512   NORMAL WRITEPBLK|EXFUNC|DATACHEC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34E1-CACF-4B27-8568-541BF2B4C99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B8DE06-6409-4A39-A2A6-9833E1224F4B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Watchpoint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 watchpoint is a special action performed when a targeted logical block is hit by a request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se actions are possible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37120" indent="-2145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Return a specific error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37120" indent="-2145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Suspend the I/O request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37120" indent="-2145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Generate an Opcom messag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37120" indent="-2145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Crash the system (needs CMKRNL privilege)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user controls which LBN is watched, on which function code is acted, and which error is returne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‘Opcom’ action may be combined with other action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7C0B-33B0-42B4-8BB5-FA3EBBA1E9D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16278B-D4BC-4CD6-9746-2B1BDB368039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Watchpoint exampl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d watch lda1 1/action=error=2928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d watch lda1 1/action=opcom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ld show/watch lda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Index LBN     Action     Function         Error return code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--------------------------------------------------------------------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1        1  Opcom     READPBLK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2        1  Error     READPBLK             0B70 (FISH)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$ dump lda1:/block=(count=1,start=1)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%%%%%%%%%%  OPCOM   5-APR-2006 14:21:46.70  %%%%%%%%%%%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Message from user VDBURG on LDDRVR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***** LDdriver detected LBN watchpoint access *****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PID:      26000224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Image:    DUMP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evice:   $7$LDA1: (LDDRVR)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Function: 000C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LBN:      1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%DUMP-E-READERR, error reading LDA1: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457200" indent="0">
              <a:lnSpc>
                <a:spcPct val="7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-SYSTEM-W-FISH, my hovercraft is full of eels</a:t>
            </a: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1E15-8317-4F35-BFF7-A641A0DEA44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1DACAB-1376-4B8F-8876-CB947C85CD47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Callable interfac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driver is controlled by a user mode program issuing normal QIO request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required function codes and definitions are available in the kit, and in VMS since V8.2-1 ($LDDEF or lddef.h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driver is doing very strong validity checks of all requests (You can’t shoot yourself in the foot (if you can, I apologize, please let me know how you did it)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8261-45FB-49C3-BB42-6A7F447DC79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8A9466-C13B-4AE8-B83F-7157895CC5C7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imit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reate as many devices as your diskspace allow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reation of any device takes BYTLM quota from the creating proces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tracebuffer as well as watchpoints come out of non-paged pool and are charged against BYTLM as wel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f 9999 LD devices are not enough then you can create LD devices on other controllers, like LDB1:, LDC1:, etc.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1400" indent="-22140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figure the driver with @SYS$STARTUP:LD$STARTUP x where x is the controller to use.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0F25-1812-475C-BAD8-C8AF3C570DD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A7700B-A277-4E54-AFB3-785FD99E2FE0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development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V8.1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608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D CREATE/EXTEND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Allows extension of existing container fil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Expand volume with SET VOLUME/SIZ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D CONNECT/NOFORCED_ERROR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Prevent handling of forced errors with shadowing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Bug fixes: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Fix possible system crash in I/O completion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Fix I/O hang with host-based raid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Fix mount verification issues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F070-175F-40C2-878A-B5C43DBFACA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8E6B85-0DB8-4784-974E-BC9054BB0B3E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development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V8.2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D V8.2 has no new features when compared to V8.1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t is only a bug fix release.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Properly expel shadowset members on error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Reconnecting an LD device could fail the first time after reboot if the container file was used on another nod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Allow container file on an NFS mounted ODS5 volum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Prevent system crash on reconnecting a container file in a cluster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F1D5-FC14-4D3A-9A02-73D966BFC49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312171-EC0F-4ACF-8F34-1209388AAEA7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developments - cont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7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V9.0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380880" indent="0">
              <a:lnSpc>
                <a:spcPct val="70000"/>
              </a:lnSpc>
              <a:spcBef>
                <a:spcPts val="11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-342720">
              <a:lnSpc>
                <a:spcPct val="7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LD CREATE/ERAS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90720" indent="0">
              <a:lnSpc>
                <a:spcPct val="7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Erase container file on creation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90720" indent="0">
              <a:lnSpc>
                <a:spcPct val="7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-342720">
              <a:lnSpc>
                <a:spcPct val="7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More accurate timing in trace records (starting with VMS V8.3)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$ ld show/trace lda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I/O trace for device $9$LDA1: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17-MAY-2006 09:21:15.16 on node THEBAT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End Time           Elaps    Pid       Lbn     Bytes  Iosb    Function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-------------------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1:12.232269 00.000000 2060042F          0      0 NORMAL  PACKACK|INHERLOG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1:12.240950 00.008581 2060042F          1    512 NORMAL  READPBL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1:12.247513 00.006426 2060042F       1034    512 NORMAL  READPBL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1:12.248595 00.000959 2060042F      50033    512 NORMAL  READPBL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1:12.249557 00.000838 2060042F      50034    512 NORMAL  READPBL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1:12.255176 00.005504 2060042F      50016    512 NORMAL  READPBL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1:12.263548 00.008258 2060042F      50016    512 NORMAL  WRITEPBL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68580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380880" indent="0">
              <a:lnSpc>
                <a:spcPct val="70000"/>
              </a:lnSpc>
              <a:spcBef>
                <a:spcPts val="751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380880" indent="0">
              <a:lnSpc>
                <a:spcPct val="70000"/>
              </a:lnSpc>
              <a:spcBef>
                <a:spcPts val="751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389C-0B33-4170-BE7A-B769955626F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CAF79B-DB06-4E8F-8E83-E31EE7671A8B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developments – Tape emulatio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Emulate tape device (not yet finished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Device is called ‘LM’ (Logical Magtape)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Uses the same driver as LD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675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$ lm create tape1/siz=10000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$ lm connect tape1 lma1/log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%LD-I-CONNECTED, Connected $9$LMA1: to $9$DKA100:[LD]TAPE1.DSK;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$ show dev/fu lma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Magtape $9$LMA1: (THEBAT), device type (Generic SCSI tape), is online, file-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oriented device.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Error count                    0    Operations completed                  2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Owner process                 ""    Owner UIC                         [JUR]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Owner process ID        00000000    Dev Prot            S:RWPL,O:RWPL,G:R,W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Reference count                0    Default buffer size                2048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Density                     6666    Format                        Normal-1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Allocation class              12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Volume status:  no-unload on dismount, odd parity.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BFAE-CB4A-46F0-B0FA-66ED3BC28D5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0CF313-4E1F-4E5A-BA35-5C4B099E45F4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driver: What can it do?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a file on any disk as a disk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a range of logical blocks on a disk as a new disk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nvestigate I/O behavior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est application error handling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Play around with disks without doing damag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Emulate a magtape (future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reate havoc (with privileges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8FA5-4BD1-4098-8717-93F6C1F74FD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D7EDE4-AFFA-40B5-926E-8B9571A980D4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New developments – Tape emulatio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$ lm trace lma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$ mount/for lma1: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%MOUNT-I-MOUNTED,  mounted on _$9$LMA1: (THEBAT)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$ dismount lma1: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$ lm show/trace lma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 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I/O trace for device $9$LMA1: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17-MAY-2006 09:25:49.65 on node THEBAT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End Time           Elaps    Pid       Lbn     Bytes  Iosb    Function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-------------------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4:12.914151 00.000000 000000A9          0      0 NORMAL  PACKAC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4:12.914153 00.000000 000000A9          0      0 NORMAL  REWIND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4:12.914157 00.000000 000000A9          0      0 NORMAL  PACKAC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4:12.914159 00.000000 000000A9          0      0 NORMAL  REWIND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4:12.914161 00.000000 000000A9          0     80 ILLBLKNUM READPBLK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4:12.914163 00.000000 000000A9          0      0 NORMAL  REWIND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4:12.980426 00.000000 000000A9          0      0 NORMAL  UNLOAD|CLSEREXCP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7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09:24:12.980427 00.000000 000000A9          0      0 NORMAL  AVAILABLE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DE36-232E-47DD-8913-A45B19875D6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252D8D-A0D1-444C-8020-E78008DB1D54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nternals – connecting a container fil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most tricky part is connecting an LD device to a container fil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Container file physical device must be a mounted disk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t must contain a known file system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File must be mapped with cathedral window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Caching must be disabled for this fil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-22608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Check for usage on other cluster member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File ID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Allocation class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Device name / controller letter / unit number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Geometry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Maximum block size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Sharing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-22608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Mode of connection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2" marL="90504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6080" indent="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C00B-DDCE-4DD4-9C26-3E6628F7B5B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761CC1-FEB0-4FEB-8BBF-4F2895B95143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nternals – connecting a disk by LB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necting part of a disk by LBN range needs other check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Physical device may not be mounted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t may not be accessed on any other nod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he logical block range must fit and may not be in use anywhere in the cluster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he exception is that parts that match exactly may be shared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After connecting the physical device is guarded against access with a lock which prevents mounting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7528-188A-40C5-B1E3-4DC99454C89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A22F0F-CC27-4215-A505-96457AD74CD2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nternals – checking LBN range (1)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When connecting a part of a physical disk we need to check availability of the logical blocks, clusterwid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We can’s take out a lock based on a resource name with the encoded range as we don’t know what’s used on other nodes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We don’t want to invoke a helper process – driver check only!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We can’t store all ranges in a valueblock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So we use the lockmanager in a smart way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DD40-F955-4E4E-B09E-52EF66FACF2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67EE27-4A56-4A77-8DD5-2063CE854753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nternals – checking LBN range (2)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t connection time the block range we want is entered in a lock value block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By taking out a lock a blocking AST routine is fired on other nodes with interest in the same devic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he blocking routine scans all local LD devices for a matching devic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f found the LBN range is checked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n case of an error a bit is set in the lock value block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After lock conversion the initiator examines the error bit and rejects the request if set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7DAC-F644-4452-B2EF-88ADEABFFC5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F3394A-94DE-4F61-B3C0-72105372ED14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nternals – Finding an I/O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driver sends most I/O requests it receives directly to the physical disk driver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is may happen for multiple file segments in paralle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is can make it harder to find an active I/O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RP’s forwarded to the physical disk can be found in the LDIOB structure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LDdriver’s structure definitions can be found in SYS$LDDRIVER.STB (only after installing the LD kit)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67F9-FDCC-4819-B0E1-E13DD7C949C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98B0B7-CED9-4C1F-910E-19FB35DD9EAE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8400" y="-417960"/>
            <a:ext cx="76294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9600" y="101160"/>
            <a:ext cx="8272440" cy="63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SDA&gt; read/exec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SDA&gt; show device lda2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...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SDA&gt; format/typ=ldiob @(ucb+ucb$l_ld_aiofl)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40   LDIOB$L_QFL                              81DD9800    UCB+002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44   LDIOB$L_QBL                     81DD9800             UCB+002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48   LDIOB$W_SIZE                                 008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4A   LDIOB$B_TYPE                               13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4B   LDIOB$B_SPARE                            53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4C   LDIOB$L_IRP                     81DB178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50   LDIOB$L_PID                              0001002B    LNM$C_DEL_OVERLAY+00027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54   LDIOB$L_MEDIA                   0000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58   LDIOB$L_BCNT                             000002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5C   LDIOB$W_FUNC                        000C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5E   LDIOB$W_IOST                    0001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60   LDIOB$Q_STAT                    00000000.0000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68   LDIOB$Q_ST_TIME                 00000000.0000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70   LDIOB$Q_EN_TIME                 000000A8.00010025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78   LDIOB$Q_ST_SCC                  00000000.1C10E15D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80   LDIOB$Q_EN_SCC                  44070017.34465003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88   LDIOB$L_ST_CPU                           0000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8C   LDIOB$L_EN_CPU                  0000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90   LDIOB$L_ELAPSED                          0000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                    </a:t>
            </a: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LDIOB$Q_ELAPSED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94                                   0000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98   LDIOB$Q_ST_USEC                 613D6500.746C7561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A0   LDIOB$Q_EN_USEC                 2F657461.642F6C6C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A8   LDIOB$L_ABCNT                            00000000</a:t>
            </a: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Number of bytes transferred so far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AC   LDIOB$L_KPB                     81C5C9C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B0   LDIOB$L_FWDQFL                           81DC0878</a:t>
            </a: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Queue of forwared IRP's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B4   LDIOB$L_FWDQBL                  81DC0878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B8   LDIOB$W_IRPCNT                               0001</a:t>
            </a: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Number of active forwarded IRP's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DE1BA   LDIOB$W_FLAGS                            00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SDA&gt; format @(@(ucb+ucb$l_ld_aiofl)+ldiob$l_fwdqfl)-irp$l_ld_fwdqfl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C0640   IRP$L_IOQFL                              81DC5BA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C0644   IRP$L_IOQBL                     81DC5BA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C0648   IRP$W_SIZE                                   024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C064A   IRP$B_TYPE                                 0A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C064B   IRP$B_RMOD                               0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FFFFFFFF.81DC064C   IRP$L_PID                       81B278F0             SYS$LDDRIVER+118F0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ucida Console"/>
              </a:rPr>
              <a:t>...</a:t>
            </a: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  <a:p>
            <a:pPr marL="533520" indent="0">
              <a:lnSpc>
                <a:spcPct val="70000"/>
              </a:lnSpc>
              <a:spcBef>
                <a:spcPts val="337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8E95-AAFF-49B7-9F60-B0FFD3C69E78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C4687C-F9EC-47A5-AA3D-98678866840F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Which VMS versions?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Runs on VAX/VMS since V5.5-2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lpha V6.1 and higher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A64 V8.2 and higher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current kit is HP-VMS-LD-V0802--1.PCSI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nstalls on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VAX V7.3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lpha V7.2-2 V7.3 V7.3-1 V7.3-2 V8.2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a64 V8.2 V8.2-1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4DC4-619E-40DA-A545-997C1DAB669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A3AF8F-6928-4998-8D60-9099F885EDD2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Other version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Other versions may work too, but the driver and utility needs to be built from source (included in the kit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Build procedure is include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 compiler require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Driver may need an edit for specific versions (enable / disable a conditional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V9.0 will NOT run on VAX!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V8.2 is integrated in the VMS V8.3 releas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1861-ECB9-4727-8723-1153325B717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8BEF5E-4E21-4C27-9387-54AB5161F538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Known issue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V8.2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If the XFC cache is turned off (VCC_FLAGS != 2) then connecting a file will return this error: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-22860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Clr>
                <a:srgbClr val="b2b3b5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%LD-F-BLKOUTOFRANGE, Blocks out of range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lvl="2" marL="9144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-2286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b2b3b5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This problem is corrected in VMS V8.3 and the future LD V9.0 kit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1D63-C972-41B1-B7A1-BD9FBD6CCE3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F4FF01-872A-427B-BCD5-14497B6074AC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Where can I find it?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On the OpenVMS freeware websit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 algn="just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b5f01"/>
                </a:solidFill>
                <a:uFillTx/>
                <a:latin typeface="Futura Bk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eb5f01"/>
                </a:solidFill>
                <a:uFillTx/>
                <a:latin typeface="Futura Bk"/>
                <a:hlinkClick r:id="rId2"/>
              </a:rPr>
              <a:t>www.hp.com/go/openvms/freeware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 algn="just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On the main lddriver sit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751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    </a:t>
            </a:r>
            <a:r>
              <a:rPr b="0" lang="en-US" sz="2000" spc="-1" strike="noStrike" u="sng">
                <a:solidFill>
                  <a:srgbClr val="eb5f01"/>
                </a:solidFill>
                <a:uFillTx/>
                <a:latin typeface="Futura Bk"/>
                <a:hlinkClick r:id="rId3"/>
              </a:rPr>
              <a:t>http://www.digiater.nl/lddriver</a:t>
            </a: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 (under construction)</a:t>
            </a: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751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Integrated in VMS since V7.3-1(sort of....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ully integrated in VMS V8.2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4136-ACA8-401C-AC4F-44892207CAB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2BDB97-817B-4FF3-B620-60C0A9164B43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Internal usag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Heavily used for testing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d in the VMS buil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d by the host-based Infoserver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d by CDRECOR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32EF-A889-4549-898C-F073A25422DC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B6353C-60DC-4CAC-8D23-1101F7EFBCCD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Future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Bug fixes (if any....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You name it.... suggestions are welcome (buy me a beer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C0A4-FBF1-4982-8EA6-E957A447E21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FC8D2D-A211-4D16-97AB-05C4CA7291EB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More informatio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DRIVER article in the HP technical journal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b5f01"/>
                </a:solidFill>
                <a:uFillTx/>
                <a:latin typeface="Futura Bk"/>
                <a:hlinkClick r:id="rId1"/>
              </a:rPr>
              <a:t>http://www.hp.com/go/openvms/journal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fter installation: $ LD HELP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Questions / Bugs / Ideas?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utura Bk"/>
              </a:rPr>
              <a:t>Email: </a:t>
            </a:r>
            <a:r>
              <a:rPr b="0" lang="en-US" sz="2400" spc="-1" strike="noStrike" u="sng">
                <a:solidFill>
                  <a:srgbClr val="eb5f01"/>
                </a:solidFill>
                <a:uFillTx/>
                <a:latin typeface="Futura Bk"/>
                <a:hlinkClick r:id="rId2"/>
              </a:rPr>
              <a:t>lddriver@digiater.nl</a:t>
            </a: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0D0F-6C36-4593-92C0-1FD4093F4420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3CA431-524B-405E-87B0-7937F4922439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007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3" name="" descr=""/>
            <p:cNvPicPr/>
            <p:nvPr/>
          </p:nvPicPr>
          <p:blipFill>
            <a:blip r:embed="rId1"/>
            <a:stretch/>
          </p:blipFill>
          <p:spPr>
            <a:xfrm>
              <a:off x="7120080" y="5126040"/>
              <a:ext cx="1773000" cy="139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D77B-C5F5-4159-A2E2-9DA38B364A20}" type="slidenum">
              <a:t>3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F05EAD-7210-4453-ABCB-7FAB4A8AFB49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.COM</a:t>
            </a: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disk1.dsk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r lda1:[000000]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rese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C726-1B95-4B77-B649-90F2BAE11621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19611A-02F7-4032-969C-4B2AFDBC1886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_SHARE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f f$search("disk1.dsk") .eqs. "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then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onnect disk1.dsk lda1:/share/alloclass=4/log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els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onnect disk1.dsk lda1:/share/alloclass=4/log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endif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f f$search("disk1.dsk") .nes. "" then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C282-54E9-4FA2-B619-C22D85911CB5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5CCEDB-E9F5-4684-8A43-8D4C75EE529C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_SHARE_LOCK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f f$search("disk1.dsk") .eqs. "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then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onnect disk1.dsk lda1:/share/alloclass=4/log/lock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els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  ld connect disk1.dsk lda1:/share/alloclass=4/log/lock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endif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f f$search("disk1.dsk") .nes. "" then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EE4A-D612-4C23-BC98-DFC056E83636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1B463E-6D32-4429-B557-C2E6CE814C74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_TRACE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on control_y then goto exi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disk1.dsk lda1:/log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loop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r lda1:[000000]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wait 0:0:5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analyze/disk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wait 0:0:5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goto loop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exit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et noon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stop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9E27-2979-4236-87A4-4BB02BD18BE6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10BAA3-9404-425B-B20F-A2C848AA21CC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FILE_SHADOW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1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2.dsk /size=5000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disk1.dsk lda1:/log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disk2.dsk lda2:/log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dsa0:/shadow=($4$lda1:,$4$lda2:)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rese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reset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shadow/copy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dsa0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 disk2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6214-1382-4924-9184-6656EE871260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6AA584-F686-42A5-8EDF-2B5612D60287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LBN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phdev := $9$dka400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1:/log/lbn=(start=0,count=10000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2:/log/lbn=(start=10000,count=10000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3:/log/lbn=(start=20000,count=10000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4:/log/lbn=(start=30000,count=10000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2: test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3: test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4: test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2: test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3: test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4: test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3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4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/all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78C3-416E-4CFE-B185-CC77BD105600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7505FE-CE2F-4ED2-AA37-FC5FD15ED302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Preparation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Ready for use after @SYS$STARTUP:LD$STARTUP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ny command that needs the driver will give an error if not started properly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$ LD CONNECT FILE.DSK LDA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%LD-F-INVOKESTARTUP, LD has not been setup correctly, invoke @SYS$STARTUP:LD$STARTUP.COM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Exceptions are LD HELP and LD CREAT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Version can be obtained like this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$ LD VERSION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%LD-I-VERSION, LD version V9.0, module X-9 built on May 17 2006 09:01:31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-LD-I-DRIVERVERSION, Driver version: 17-MAY-2006 09:02:10.86 (MON version)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utura Bk"/>
              </a:rPr>
              <a:t>-LD-I-SYSINFO, Node: THEBAT, Hardware: hp AlphaServer DS20L 833 MHz, VMS version: XB9P-BL2</a:t>
            </a: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2822-80AF-41B7-8185-D80D1DEDE7C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CAE3B0-DBFF-4A95-9D17-A6A9E0BD1803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LBN_SHARE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phdev := $9$dka400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1:/log/lbn=(start=0,count=10000)/share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2:/log/lbn=(start=10000,count=10000)/share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3:/log/lbn=(start=20000,count=10000)/share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4:/log/lbn=(start=30000,count=10000)/share/alloclass=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2: test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3: test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/system lda4: test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2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3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lda4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2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3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4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/all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5183-A5D1-411C-B90A-617CC4B726F7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0DE112-89C0-4B6B-8388-B09AD960A1A1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REPLACE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phdev := $9$dka400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 'phdev' lda1:/log/replac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1: test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/full lda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/full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ount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onnect/log lda1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how dev 'phdev'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19FB-AA1B-4262-A16E-44FE0ADBE573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E08F6D-B7E1-46FF-9C2D-86C92E9B7470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LD_MOUNTVER.COM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reate disk1.dsk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connect/log/symbol disk1.dsk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it/nohigh/system lda'ld_unit'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mount lda'ld_unit': test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watch lda'ld_unit': 1/action=error=%x84/function=code=%x0808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watch lda'ld_unit': 10/action=error=%x84/function=read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watch lda'ld_unit': 10/action=opcom/function=read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watch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reply/enable/temp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pawn/nowait/input=nl: dump lda'ld_unit':/block=(start=10,count=1)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inquire dummy "return to continue"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nowatch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show/trace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reply/disable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wait 0:0:1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ism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set noon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trace/stop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ld disc lda'ld_unit':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$ delete/nolog/noconf disk1.dsk;</a:t>
            </a: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679E-BBB5-4BC4-9CCC-C8F8EDE98E45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03E017-E428-4DB4-9CB2-8589A8F30F86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Basics – File mod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a file as a disk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reate a file on a physical disk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REATE DKA100:[LD]DISK/SIZE=10000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nect the file to a device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[LD]DISK LDA1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utura Bk"/>
            </a:endParaRPr>
          </a:p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it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INIT LDA1: LDDISK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MOUNT LDA1: LDDISK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.....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DISMOUNT LDA1: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marL="226080" indent="-226080">
              <a:lnSpc>
                <a:spcPct val="8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Disconnect the file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65920" indent="0"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DISCONNECT LDA1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0A55-039B-4EA6-BD3F-A9CD1D5F961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45019F-9FC4-40C6-B56B-75594D721805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Basics – LBN mod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 a range of logical blocks as a disk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Physical disk may not be used by anything else 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nect a range of logical blocks to a disk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/LBN=(START=0,END=9999) LDA1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/LBN=(START=10000,END=19999) LDA2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/LBN=(START=20000,END=29999) LDA3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nect using a size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/LBN=(START=0,SIZE=10000) LDA1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/LBN=(START=10000,SIZE=10000) LDA2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/LBN=(START=20000,SIZE=10000) LDA3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D45D-A885-42E7-B819-365223473FD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41A0CB-2C51-410B-BEA9-487BF5AE4439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Basics – Replace mod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ccess another disk via an LD devic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Not a real form of partitioning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Useful for I/O tracing and watchpoint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Physical disk may not be used by anything els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Connect and replace: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LD CONNECT DKA100:/REPLACE LDA1</a:t>
            </a:r>
            <a:endParaRPr b="0" lang="en-US" sz="1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DFC5-9660-4E2B-AA85-B04CEA2503B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E90E49-7A4F-4B83-ABE2-18150836C949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Advanced use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haring of LD devices in a cluster is possibl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devices itself are not MSCP-serve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For shared use the physical devices where the container file resides must be MSCP served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Shadowing host-based raid disk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devices may be nested, i.e. you can create an LD disk on an LD disk on an LD disk etc.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1E98-89A4-400F-AB1D-9FC5C77BEB0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D11DD7-5893-485B-8C06-A21AAAEA14C9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8400" y="114120"/>
            <a:ext cx="762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utura Bk"/>
              </a:rPr>
              <a:t>Sharing LD devices</a:t>
            </a:r>
            <a:endParaRPr b="0" lang="en-US" sz="3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9600" y="1447560"/>
            <a:ext cx="827244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LD devices must be connected the same way on multiple nodes to allow sharing of  container files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is means the same device name, allocation class, geometry, filename, etc.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Any mismatch will be detected by the driver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marL="228600" indent="-228600">
              <a:lnSpc>
                <a:spcPct val="90000"/>
              </a:lnSpc>
              <a:spcBef>
                <a:spcPts val="1049"/>
              </a:spcBef>
              <a:spcAft>
                <a:spcPts val="349"/>
              </a:spcAft>
              <a:buClr>
                <a:srgbClr val="b2b3b5"/>
              </a:buClr>
              <a:buSzPct val="75000"/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utura Bk"/>
              </a:rPr>
              <a:t>The utility attempts to give the reason for the failure</a:t>
            </a:r>
            <a:endParaRPr b="0" lang="en-US" sz="28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$ ld connect $1$dga1: lda3:/lbn=(start=600,end=2000)/log/share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%LD-F-DEVICEINUSE, Device incompatible connected to other LD disk in cluster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lvl="1" marL="5716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 Bk"/>
              </a:rPr>
              <a:t>-LD-F-RANGEINUSE, LBN range already in use</a:t>
            </a: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  <a:p>
            <a:pPr marL="228600" indent="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26F6-2F2A-41C7-BC67-8A12C63728C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329FA8-F68D-44F8-B0DC-F0539811838A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9:03:39Z</dcterms:created>
  <dc:creator>Duarte Design, Inc</dc:creator>
  <dc:description>The dark template was designed for PowerPoint  98 through 2000</dc:description>
  <cp:keywords>Dark Template</cp:keywords>
  <dc:language>en-US</dc:language>
  <cp:lastModifiedBy>Jur van der Burg</cp:lastModifiedBy>
  <dcterms:modified xsi:type="dcterms:W3CDTF">2006-05-22T11:41:25Z</dcterms:modified>
  <cp:revision>79</cp:revision>
  <dc:subject>Standard Dark Template</dc:subject>
  <dc:title>HP_TmpIt_dark_final</dc:title>
</cp:coreProperties>
</file>