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CE61-CE88-41D3-87C3-AA3E205AF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EAED-2C47-4245-9FC9-B4CA1AFF6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CADC-DC50-4E4B-94D5-906E977C0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68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0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96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68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0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3085-CBA3-4034-AA48-6131FBA23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28400" y="114120"/>
            <a:ext cx="7629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523A-277C-4D41-A372-1C1DC65BC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968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940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996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968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940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BB8B-D0E7-47E0-A9DB-9E5A28469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3B99-7750-4C9F-9ACB-CF21223B8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3B28-3374-4B89-B5D2-855F5E517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28400" y="114120"/>
            <a:ext cx="7629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4650-7D45-4668-9181-10CD75F00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29ED-D6FC-49C6-BEBA-81480B6B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E023-F4FF-4FBC-B740-4A75D42A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B357-242F-4096-8629-B3152BF4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93640" y="6629040"/>
            <a:ext cx="146376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48589"/>
                </a:solidFill>
                <a:latin typeface="Futura B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F39BE-58E7-445B-BC58-F51FCE6418A9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0, 20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133720" y="6629040"/>
            <a:ext cx="487656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48589"/>
                </a:solidFill>
                <a:latin typeface="Futura B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48589"/>
                </a:solidFill>
                <a:latin typeface="Futura Bk"/>
              </a:rPr>
              <a:t>&lt;footer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229240" y="6629040"/>
            <a:ext cx="76212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48589"/>
                </a:solidFill>
                <a:latin typeface="Futura B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DB4BF-065F-456F-B68E-E19F0448AFC5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71440"/>
            <a:ext cx="257040" cy="5686560"/>
          </a:xfrm>
          <a:prstGeom prst="rect">
            <a:avLst/>
          </a:prstGeom>
          <a:solidFill>
            <a:srgbClr val="0071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57040" cy="1114560"/>
          </a:xfrm>
          <a:prstGeom prst="rect">
            <a:avLst/>
          </a:prstGeom>
          <a:solidFill>
            <a:srgbClr val="0071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3" marL="125748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4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5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fffff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6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fffff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426360" y="0"/>
            <a:ext cx="2717640" cy="6858000"/>
          </a:xfrm>
          <a:prstGeom prst="rect">
            <a:avLst/>
          </a:prstGeom>
          <a:solidFill>
            <a:srgbClr val="00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5120" y="637704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utura Bk"/>
              </a:rPr>
              <a:t>© 2006 Jur van der Burg www.digiater.nl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Futura Bk"/>
              </a:rPr>
              <a:t>The information contained herein is subject to change without notice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381720" cy="48099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1000" y="1063440"/>
            <a:ext cx="565164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L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Hv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  <a:p>
            <a:pPr lvl="1" marL="343080" indent="0" algn="ctr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685800" algn="ctr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3" marL="1028880" algn="ctr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Arial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4" marL="1371600" algn="ctr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5" marL="1371600">
              <a:spcBef>
                <a:spcPts val="499"/>
              </a:spcBef>
              <a:buClr>
                <a:srgbClr val="fffff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6" marL="1371600">
              <a:spcBef>
                <a:spcPts val="499"/>
              </a:spcBef>
              <a:buClr>
                <a:srgbClr val="fffff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hp.com/go/openvms/freeware" TargetMode="External"/><Relationship Id="rId2" Type="http://schemas.openxmlformats.org/officeDocument/2006/relationships/hyperlink" Target="http://www.hp.com/go/openvms/freeware" TargetMode="External"/><Relationship Id="rId3" Type="http://schemas.openxmlformats.org/officeDocument/2006/relationships/hyperlink" Target="http://www.digiater.nl/lddriver" TargetMode="External"/><Relationship Id="rId4" Type="http://schemas.openxmlformats.org/officeDocument/2006/relationships/hyperlink" Target="http://www.digiater.nl/lddriver" TargetMode="External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hp.com/go/openvms/journal" TargetMode="External"/><Relationship Id="rId2" Type="http://schemas.openxmlformats.org/officeDocument/2006/relationships/hyperlink" Target="http://www.digiater.nl/lddriver" TargetMode="External"/><Relationship Id="rId3" Type="http://schemas.openxmlformats.org/officeDocument/2006/relationships/hyperlink" Target="mailto:lddriver@hp.com" TargetMode="External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1000" y="1063440"/>
            <a:ext cx="565164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Lt"/>
              </a:rPr>
              <a:t>Disk partitioning on VMS with LDdriver</a:t>
            </a:r>
            <a:br>
              <a:rPr sz="4400"/>
            </a:b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Futura Lt"/>
              </a:rPr>
              <a:t>OpenVMS Technical Update Day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Futura Lt"/>
              </a:rPr>
              <a:t>The Netherland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Futura Lt"/>
              </a:rPr>
              <a:t>October 11,2006</a:t>
            </a:r>
            <a:endParaRPr b="0" lang="en-US" sz="2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33080" y="5372280"/>
            <a:ext cx="4570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Hv"/>
              </a:rPr>
              <a:t>Jur van der Burg</a:t>
            </a: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Hv"/>
              </a:rPr>
              <a:t>Software Resources International</a:t>
            </a: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Hv"/>
              </a:rPr>
              <a:t>www.softresint.eu</a:t>
            </a:r>
            <a:endParaRPr b="0" lang="en-US" sz="1600" spc="-1" strike="noStrike">
              <a:solidFill>
                <a:srgbClr val="000000"/>
              </a:solidFill>
              <a:latin typeface="Futura Hv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utura Hv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427800" y="0"/>
            <a:ext cx="2716200" cy="8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/O tracing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Very powerful feature to see what’s happening on a low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an be viewed real-time (continuously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an be logged to disk (unattended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lexible selectable outpu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different time format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different I/O status block format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different I/O function code format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4B0C-7FD6-46F7-A23A-1EEA3D9BABA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815F1F-2A7A-4F5F-904B-21B54FE1CC7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/O Tracing exampl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d trace ld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.....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d show/trace lda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I/O trace for device $7$LD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6-APR-2006 22:18:36.28 on node LDDRVR: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Start Time Elaps  Pid      Lbn  Bytes Iosb  Function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--------------------------------------------------------------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5 00.00 09C00227 0    0     NORMAL PACKACK|INHERLOG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5 00.01 09C00227 1    512   NORMAL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6 00.00 09C00227 1034 512   NORMAL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7 00.00 09C00227 5002 512   NORMAL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8 00.00 09C00227 5002 512   NORMAL WRITE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9 00.00 09C00227 5003 1536  NORMAL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9 00.00 09C00227 5006 512   NORMAL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9 00.00 09C00227 5000 512   NORMAL READPBLK|EXFUNC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9 00.00 09C00227 0    0     NORMAL PACKACK|BYPASS_VALID_CH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70 00.00 09C00227 5016 512   NORMAL READPBLK|EXFUNC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70 00.00 09C00227 5023 1024  NORMAL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70 00.00 09C00227 5016 512   NORMAL WRITEPBLK|EXFUNC|DATACHEC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DDEF-46BA-4582-9CBA-92E2BF44BC84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FB6C98-58D5-47A0-AF8E-7AE7CBE6415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Watchpoint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 watchpoint is a special action performed when a targeted logical block is hit by a reques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se actions are possible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37120" indent="-2145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Return a specific error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37120" indent="-2145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Suspend the I/O request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37120" indent="-2145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Generate an Opcom messag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37120" indent="-2145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Crash the system (needs CMKRNL privilege)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user controls which LBN is watched, on which function code is acted, and which error is returne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‘Opcom’ action may be combined with other action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52CA-B247-45F8-B31E-06B005FD41B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B88583-B93B-468F-8B9C-8CEDDC938C4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Watchpoint exampl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d watch lda1 1/action=error=2928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d watch lda1 1/action=opcom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d show/watch lda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Index LBN     Action     Function         Error return code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--------------------------------------------------------------------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        1  Opcom   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        1  Error     READPBLK             0B70 (FISH)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dump lda1:/block=(count=1,start=1)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%%%%%%%%%%  OPCOM   5-APR-2006 14:21:46.70  %%%%%%%%%%%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Message from user VDBURG on LDDRVR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***** LDdriver detected LBN watchpoint access *****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PID:      26000224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Image:    DUMP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evice:   $7$LDA1: (LDDRVR)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Function: 000C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LBN:      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DUMP-E-READERR, error reading LD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-SYSTEM-W-FISH, my hovercraft is full of eels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E974-43B2-4E12-B081-D6215B2DFE9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AC2B13-9488-4D42-A2B2-50BE395B40C8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Callable interfac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driver is controlled by a user mode program issuing normal QIO request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required function codes and definitions are available in the kit, and in VMS since V8.2-1 ($LDDEF or lddef.h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driver is doing very strong validity checks of all requests (You can’t shoot yourself in the foot (if you can, I apologize, please let me know how you did it)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91C0-EF70-4CF7-9684-D4EDAFAC99B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A8CD60-449C-49D8-A863-0519BE76D24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imit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reate as many devices as your diskspace allow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reation of any device takes BYTLM quota from the creating proces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tracebuffer as well as watchpoints come out of non-paged pool and are charged against BYTLM as wel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f 9999 LD devices are not enough then you can create LD devices on other controllers, like LDB1:, LDC1:, etc.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figure the driver with @SYS$STARTUP:LD$STARTUP x where x is the controller to use.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6F0F-221F-4A31-87A0-C99E20035E6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DF0710-2FFE-4960-B393-6222472F3C1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Old version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V8.1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608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D CREATE/EXTEND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Allows extension of existing container fil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Expand volume with SET VOLUME/SIZ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D CONNECT/NOFORCED_ERROR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Prevent handling of forced errors with shadowing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Bug fixes: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Fix possible system crash in I/O completion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Fix I/O hang with host-based raid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Fix mount verification issues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EA2C-B192-4DCD-BCB3-F17CC11D8AA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418AD1-0F9D-4B5D-A82B-95275EF02E2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Old version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V8.2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D V8.2 has no new features when compared to V8.1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t is only a bug fix release.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Properly expel shadowset members on error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Reconnecting an LD device could fail the first time after reboot if the container file was used on another nod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Allow container file on an NFS mounted ODS5 volum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Prevent system crash on reconnecting a container file in a cluster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A6DA-7B25-4151-BCEB-0C20D71CBB8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92ED54-C33A-4F57-A314-8FA36E653CD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development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70000"/>
              </a:lnSpc>
              <a:spcBef>
                <a:spcPts val="1199"/>
              </a:spcBef>
              <a:spcAft>
                <a:spcPts val="400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 Bk"/>
              </a:rPr>
              <a:t>LD V9.0:</a:t>
            </a:r>
            <a:endParaRPr b="0" lang="en-US" sz="3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-34272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Control utility rewritten in Ansi-C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-34272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More accurate timing in trace records (With VMS V8.3 and up)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d show/trace lda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I/O trace for device $3$LD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7-MAY-2006 09:21:15.16 on node THEBAT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End Time           Elaps    Pid       Lbn     Bytes  Iosb    Function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---------------------------------------------------------------------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09:21:12.232269 00.000000 2060042F          0      0 NORMAL  PACKAC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09:21:12.240950 00.008581 2060042F          1    512 NORMAL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09:21:12.247513 00.006426 2060042F       1034    512 NORMAL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09:21:12.248595 00.000959 2060042F      50033    512 NORMAL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09:21:12.249557 00.000838 2060042F      50034    512 NORMAL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09:21:12.255176 00.005504 2060042F      50016    512 NORMAL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09:21:12.263548 00.008258 2060042F      50016    512 NORMAL  WRITE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380880" indent="0">
              <a:lnSpc>
                <a:spcPct val="7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380880" indent="0">
              <a:lnSpc>
                <a:spcPct val="7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78DB-6C3D-4FB8-84F3-5B5EA652EF1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5B0C30-6DA8-4916-8BFA-A3DE141E25F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developments - cont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REATE/ERASE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Erase container file on creation. This has no effect if highwater marking is turned on.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REATE will issue a warning if highwater-marking is turned on and the size of the container file is more than 100000 blocks (VMS V8.2 and up):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LD-W-HIGHWATER, Highwater marking is enabled on device, be patient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SHOW/FULL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Will show all attributes of the selected LD device. 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$ ld show/all/full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%LD-I-CONNECTED, Connected _$3$LDA1: to $1$DGA100:[JUR.LD.V90.SRC]FILE.DSK;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-LD-I-OPTIONS, Shared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%LD-I-CONNECTED, Connected _$3$LDA2: to _$3$DQA0: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-LD-I-OPTIONS, Replaced, Trace active, No DSE support, Not Forced Error capable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175F-614B-40B7-87D6-6EE02DE50F0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0FBC21-9CA3-483B-A9FE-46A9EE293A7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driver: What can it do?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a file on any disk as a disk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a range of logical blocks on a disk as a new disk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nvestigate I/O behavior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est application error handling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Play around with disks without doing damag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Emulate a magtape on disk (V9.0, in development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reate havoc (with privileges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9CC5-FCA4-41EC-BAA5-FFCC6D9DE2D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7BB63F-A521-4703-BA80-EC9AC45D2113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developments - cont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4572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LD SHOW/SYMBOL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1066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Get the LD unit number in DCL symbol LD_UNIT, and the container file specification in the symbol LD_CONTAINER. 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8002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800280" indent="-4572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LD SHOW/TRACE/TIMESTAMP=START or END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1066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Allow display of absolute start and end time of trace data. 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8002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800280" indent="-4572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LD CONNECT/LOGICAL=(NAME=logical-name [,TABLE=table] [,MODE=mode]) 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1066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Assign logical name to LD device at connect tim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3" marL="14097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4086-D62C-4815-9D74-8122205AA78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8064DD-0F19-4AA1-B3F0-74EFA0D9857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developments – Tape emulatio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Emulate tape devic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Device is called ‘LM’ (Logical Magtape)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Uses the same driver as LD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One single driver acts like a disk or tape (!)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$ lm create tape1/size=10000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$ lm connect tape1 lma1/log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%LM-I-CONNECTED, Connected $3$LMA1: to $1$DGA100:[JUR.LD.V90.SRC]TAPE1.DSK;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$ show dev/fu lma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Magtape $3$LMA1: (THEBAT), device type (Generic SCSI tape), is online, file-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oriented device.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Error count                    0    Operations completed                  2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Owner process                 ""    Owner UIC                         [JUR]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Owner process ID        00000000    Dev Prot            S:RWPL,O:RWPL,G:R,W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Reference count                0    Default buffer size                2048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Density                     6666    Format                        Normal-1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Allocation class              12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Volume status:  no-unload on dismount, odd parity.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E610-2C35-4E45-9623-A103700A087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D18D33-52A7-40E8-8BAF-2D4937E207B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developments – Tape emulatio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init lma1 test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m trace lma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mount/foreign lma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MOUNT-I-MOUNTED, TEST mounted on _$3$LMA1: (THEBAT)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dismount lm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m show/trace lm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I/O trace for device $3$LM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0-OCT-2006 14:38:17.05 on node THEBAT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Start Time  Elaps   Pid       Lbn     Bytes  Iosb    Function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-------------------------------------------------------------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4:38:11.10 00.00 2020042A          0      0 NORMAL  PACKAC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4:38:11.10 00.00 2020042A          0      0 NORMAL  REWIND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4:38:11.10 00.00 2020042A          0      0 NORMAL  PACKAC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4:38:11.10 00.00 2020042A          0      0 NORMAL  REWIND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4:38:11.10 00.01 00000000          0 524288 NORMAL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4:38:11.11 00.00 2020042A          0     80 NORMAL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4:38:11.11 00.00 2020042A          0     80 NORMAL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4:38:11.11 00.00 2020042A          0     80 NORMAL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4:38:11.11 00.00 2020042A          0     80 ENDOFFILE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4:38:11.11 00.00 2020042A          0      0 NORMAL  REWIND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4:38:11.11 00.00 2020042A          0      0 NORMAL  REWIND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4:38:14.71 00.00 2020042A          0      0 NORMAL  UNLOAD|CLSEREXCP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4:38:14.71 00.00 2020042A          0      0 NORMAL  AVAILABLE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AE23-FD13-4481-930F-8862F4D1A37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DB4480-5045-4D53-81B2-3B14E29B9873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developments – Tape emulatio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M SWITCH LMA1 newfile.dsk 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Allows volume switching for backup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M ANALYZE file.dsk [/FULL]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Verifies the integrity of the container fil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m analyze file.ds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LM-I-ANALYZEOK, Container file structure successfully verified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7DD2-C167-4021-8D43-F4D305088A4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3A46D2-1938-4C45-9CA7-E764C37C46E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developments – Tape emulatio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70000"/>
              </a:lnSpc>
              <a:spcBef>
                <a:spcPts val="901"/>
              </a:spcBef>
              <a:spcAft>
                <a:spcPts val="300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his is where we are right now.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70000"/>
              </a:lnSpc>
              <a:spcBef>
                <a:spcPts val="901"/>
              </a:spcBef>
              <a:spcAft>
                <a:spcPts val="300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Backup support will follow soon.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copy/log 10mb.bin lm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COPY-S-COPIED, DATA:[JUR.LD.V90.SRC]10MB.BIN;1 copied to LMA1: (163840 records)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set magtape/rewind lm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copy/log lma1: 10mb.new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COPY-S-COPIED, LMA1: copied to DATA:[JUR.LD.V90.SRC]10MB.NEW;1 (163840 records)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diff/mode=hex 10mb.bin 10mb.new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Number of difference sections found: 0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Number of difference records found: 0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FFERENCES /IGNORE=()/MERGED=1/MODE=(HEXADECIMAL)-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ATA:[JUR.LD.V90.SRC]10MB.BIN;1-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ATA:[JUR.LD.V90.SRC]10MB.NEW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92AE-D2B7-4F7F-95E5-B1E8A254B3B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E11A0C-1007-40C2-84DE-6CFC8B9E13B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developments – Tape emulatio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init lma2 test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back/log DATA:[JUR.LD.V90.KIT]*.* lma2:lm/save/rewind/ignore=label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MOUNT-I-MOUNTED, TEST mounted on _$3$LMA2: (THEBAT)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BACKUP-I-LBLOVRWRITE, volume label TEST         overwritten, new label is LM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MOUNT-I-MOUNTED, LM mounted on _$3$LMA2: (THEBAT)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BACKUP-S-COPIED, copied DATA:[JUR.LD.V90.KIT]BIGDISK.COM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BACKUP-S-COPIED, copied DATA:[JUR.LD.V90.KIT]LD_FILE.COM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BACKUP-S-COPIED, copied DATA:[JUR.LD.V90.KIT]LD_FILE_SHADOW.COM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BACKUP-S-COPIED, copied DATA:[JUR.LD.V90.KIT]LD_FILE_SHARE.COM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BACKUP-S-COPIED, copied DATA:[JUR.LD.V90.KIT]LD_FILE_SHARE_LOCK.COM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BACKUP-S-COPIED, copied DATA:[JUR.LD.V90.KIT]LD_FILE_TRACE.COM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BACKUP-S-COPIED, copied DATA:[JUR.LD.V90.KIT]LD_LBN.COM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BACKUP-S-COPIED, copied DATA:[JUR.LD.V90.KIT]LD_LBN_SHARE.COM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BACKUP-S-COPIED, copied DATA:[JUR.LD.V90.KIT]LD_MOUNTVER.COM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BACKUP-S-COPIED, copied DATA:[JUR.LD.V90.KIT]LD_REPLACE.COM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BACKUP-S-COPIED, copied DATA:[JUR.LD.V90.KIT]MOUNTVER.COM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BACKUP-S-COPIED, copied DATA:[JUR.LD.V90.KIT]SHADOW_RAM.COM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m analyze file.ds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LM-I-ANALYZEOK, Container file structure successfully verified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C4AD-BF40-4CAB-8ABC-9C9A83C5B53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7EC578-D061-4F9E-8BA4-02E32EC4F6B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nternals – connecting a container fil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most tricky part is connecting an LD device to a container fil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Container file physical device must be a mounted disk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t must contain a known file system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File must be mapped with cathedral window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Caching must be disabled for this fil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Check for usage on other cluster member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File ID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Allocation class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Device name / controller letter / unit number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Geometry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Maximum block siz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Sharing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Mode of connection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6080" indent="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62FF-4C7A-4007-8803-92740483F13D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200E92-8D2F-4DC3-94FE-E3DCBAD3456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nternals – connecting a disk by LB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necting part of a disk by LBN range needs other check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Physical device may not be mounted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t may not be accessed on any other nod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he logical block range must fit and may not be in use anywhere in the cluster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he exception is that parts that match exactly may be shared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After connecting the physical device is guarded against access with a lock which prevents mounting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49B9-982A-440F-BCA1-67E5C25A2A2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46DDC0-4BA1-4DF2-B9D0-0FEA9D0426E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nternals – checking LBN range (1)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When connecting a part of a physical disk we need to check availability of the logical blocks, clusterwid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We can’s take out a lock based on a resource name with the encoded range as we don’t know what’s used on other node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We don’t want to invoke a helper process – driver check only!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We can’t store all ranges in a valueblock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So we use the lockmanager in a smart way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357C-E200-4F00-9498-7DCE05D706A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EE43D3-7781-47A1-9BD1-A9C337520B8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nternals – checking LBN range (2)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t connection time the block range we want is entered in a lock value block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By taking out a lock a blocking AST routine is fired on other nodes with interest in the same devic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he blocking routine scans all local LD devices for a matching devic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f found the LBN range is checked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n case of an error a bit is set in the lock value block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After lock conversion the initiator examines the error bit and rejects the request if set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2E2F-7184-4C5B-B2A1-2EBE1BC977B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162279-248B-45A4-9519-2C9F5F4B1AE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Where can I find it?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On the OpenVMS freeware websit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 algn="just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b5f01"/>
                </a:solidFill>
                <a:uFillTx/>
                <a:latin typeface="Futura Bk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eb5f01"/>
                </a:solidFill>
                <a:uFillTx/>
                <a:latin typeface="Futura Bk"/>
                <a:hlinkClick r:id="rId2"/>
              </a:rPr>
              <a:t>www.hp.com/go/openvms/freeware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 algn="just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On the main lddriver sit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751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    </a:t>
            </a:r>
            <a:r>
              <a:rPr b="0" lang="en-US" sz="2000" spc="-1" strike="noStrike" u="sng">
                <a:solidFill>
                  <a:srgbClr val="eb5f01"/>
                </a:solidFill>
                <a:uFillTx/>
                <a:latin typeface="Futura Bk"/>
                <a:hlinkClick r:id="rId3"/>
              </a:rPr>
              <a:t>http://</a:t>
            </a:r>
            <a:r>
              <a:rPr b="0" lang="en-US" sz="2000" spc="-1" strike="noStrike" u="sng">
                <a:solidFill>
                  <a:srgbClr val="eb5f01"/>
                </a:solidFill>
                <a:uFillTx/>
                <a:latin typeface="Futura Bk"/>
                <a:hlinkClick r:id="rId4"/>
              </a:rPr>
              <a:t>www.digiater.nl/lddriver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751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ntegrated in VMS since V7.3-1(sort of....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ully integrated in VMS V8.2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4A6B-449B-47B6-A9B0-02ED92DD241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50220E-96CC-442D-9D2B-6BCF405FF448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nternals – Finding an I/O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driver sends most I/O requests it receives directly to the physical disk driver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is may happen for multiple file segments in parall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is can make it harder to find an active I/O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RP’s forwarded to the physical disk can be found in the LDIOB structur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Ddriver’s structure definitions can be found in SYS$LDDRIVER.STB (only after installing the LD kit)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2C9C-340E-4BC3-90C3-66AFD88C8707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F66A00-CBE7-4AE5-BA0E-E088F9EDA39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8400" y="-417960"/>
            <a:ext cx="7629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9600" y="101160"/>
            <a:ext cx="8272440" cy="63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SDA&gt; read/exec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SDA&gt; show device lda2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...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SDA&gt; format/typ=ldiob @(ucb+ucb$l_ld_aiofl)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40   LDIOB$L_QFL                              81DD9800    UCB+002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44   LDIOB$L_QBL                     81DD9800             UCB+002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48   LDIOB$W_SIZE                                 008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4A   LDIOB$B_TYPE                               13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4B   LDIOB$B_SPARE                            53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4C   LDIOB$L_IRP                     81DB178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50   LDIOB$L_PID                              0001002B    LNM$C_DEL_OVERLAY+00027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54   LDIOB$L_MEDIA                   0000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58   LDIOB$L_BCNT                             000002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5C   LDIOB$W_FUNC                        000C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5E   LDIOB$W_IOST                    0001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60   LDIOB$Q_STAT                    00000000.0000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68   LDIOB$Q_ST_TIME                 00000000.0000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70   LDIOB$Q_EN_TIME                 000000A8.00010025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78   LDIOB$Q_ST_SCC                  00000000.1C10E15D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80   LDIOB$Q_EN_SCC                  44070017.34465003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88   LDIOB$L_ST_CPU                           0000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8C   LDIOB$L_EN_CPU                  0000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90   LDIOB$L_ELAPSED                          0000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                    </a:t>
            </a: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LDIOB$Q_ELAPSED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94                                   0000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98   LDIOB$Q_ST_USEC                 613D6500.746C7561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A0   LDIOB$Q_EN_USEC                 2F657461.642F6C6C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A8   LDIOB$L_ABCNT                            00000000</a:t>
            </a: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Number of bytes transferred so far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AC   LDIOB$L_KPB                     81C5C9C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B0   LDIOB$L_FWDQFL                           81DC0878</a:t>
            </a: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Queue of forwared IRP's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B4   LDIOB$L_FWDQBL                  81DC0878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B8   LDIOB$W_IRPCNT                               0001</a:t>
            </a: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Number of active forwarded IRP's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BA   LDIOB$W_FLAGS                            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SDA&gt; format @(@(ucb+ucb$l_ld_aiofl)+ldiob$l_fwdqfl)-irp$l_ld_fwdqfl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C0640   IRP$L_IOQFL                              81DC5BA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C0644   IRP$L_IOQBL                     81DC5BA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C0648   IRP$W_SIZE                                   024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C064A   IRP$B_TYPE                                 0A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C064B   IRP$B_RMOD                               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C064C   IRP$L_PID                       81B278F0             SYS$LDDRIVER+118F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...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6A88-8AE9-458F-88B0-DD8D0A4E2AD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330C3E-962B-46AC-95F9-0449660E824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Which VMS versions?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Runs on VAX/VMS since V5.5-2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lpha V6.1 and higher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A64 V8.2 and higher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current kit is HP-VMS-LD-V0802--1.PCSI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nstalls on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VAX V7.3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lpha V7.2-2 V7.3 V7.3-1 V7.3-2 V8.2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a64 V8.2 V8.2-1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E5E4-1939-4DA7-9371-E7DAF65410CE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CD8B53-FC17-4033-915B-CAA25C27AA1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Other version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Other versions may work too, but the driver and utility needs to be built from source (included in the kit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Build procedure is include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 compiler require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Driver may need an edit for specific versions (enable / disable a conditional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V9.0 will NOT run on VAX!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LD V8.2 will be the last release for VAX/VMS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V8.2 is integrated in the VMS V8.3 releas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C339-7192-4133-AAC4-4C32BC872074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7DE40C-718D-49D9-AC90-D84F875C02B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Known issue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V8.2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f the XFC cache is turned off (VCC_FLAGS != 2) then connecting a file will return this error: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%LD-F-BLKOUTOFRANGE, Blocks out of range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his problem is corrected in VMS V8.3 and the future LD V9.0 kit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DCC9-140E-453E-8C2E-1165FCC68A30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5039F1-0A09-4572-8D25-F43C91B2370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HP internal usag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Heavily used for testing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d in the VMS buil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Host-based Infoserver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DRECOR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PY/RECORDABLE_MEDIA (CDDVD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3B7A-B310-453C-81E5-10E480FFED87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48F874-07A9-4CE1-90FD-BAE44AB2F2A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Future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Bug fixes (if any....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You name it.... suggestions are welcome (buy me a drink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1599-9EC8-4B44-A4AF-9DA3E7F62013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0DDE7E-BCAE-4711-856B-9C21E3716CB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More informatio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DRIVER article in the HP technical journal (V6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4864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b5f01"/>
                </a:solidFill>
                <a:uFillTx/>
                <a:latin typeface="Futura Bk"/>
                <a:hlinkClick r:id="rId1"/>
              </a:rPr>
              <a:t>http://www.hp.com/go/openvms/journal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4864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fter installation: $ LD HELP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Keep an eye on the website for the V9.0 release.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4864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b5f01"/>
                </a:solidFill>
                <a:uFillTx/>
                <a:latin typeface="Futura Bk"/>
                <a:hlinkClick r:id="rId2"/>
              </a:rPr>
              <a:t>http://www.digiater.nl/lddriver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Questions / Bugs / Ideas?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4864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Email: </a:t>
            </a:r>
            <a:r>
              <a:rPr b="0" lang="en-US" sz="2400" spc="-1" strike="noStrike" u="sng">
                <a:solidFill>
                  <a:srgbClr val="eb5f01"/>
                </a:solidFill>
                <a:uFillTx/>
                <a:latin typeface="Futura Bk"/>
                <a:hlinkClick r:id="rId3"/>
              </a:rPr>
              <a:t>lddriver@digiater.nl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8149-BA3E-460C-83A0-1A3EBD59D56E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DB7D2B-6E7D-4D7F-86E9-69000C20C23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2560" cy="68562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2082960" y="2216160"/>
            <a:ext cx="4978080" cy="2425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9C7F-787C-458D-A801-CFEBE5936A77}" type="slidenum">
              <a:t>3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5402BD-8333-4262-9EB5-B7FDAD19CD23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.COM</a:t>
            </a: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disk1.dsk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r lda1:[000000]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rese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ED1C-C772-44F6-BE5B-9920F0CE4378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0D2245-D195-4284-BFB6-8BFA92A359B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Preparatio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1199"/>
              </a:spcBef>
              <a:spcAft>
                <a:spcPts val="400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 Bk"/>
              </a:rPr>
              <a:t>Ready for use after @SYS$STARTUP:LD$STARTUP</a:t>
            </a:r>
            <a:endParaRPr b="0" lang="en-US" sz="3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80000"/>
              </a:lnSpc>
              <a:spcBef>
                <a:spcPts val="1199"/>
              </a:spcBef>
              <a:spcAft>
                <a:spcPts val="400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 Bk"/>
              </a:rPr>
              <a:t>Any command that needs the driver will give an error if not started properly:</a:t>
            </a:r>
            <a:endParaRPr b="0" lang="en-US" sz="3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utura Bk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$ LD CONNECT FILE.DSK LDA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%LD-F-INVOKESTARTUP, LD has not been setup correctly, invoke @SYS$STARTUP:LD$STARTUP.COM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80000"/>
              </a:lnSpc>
              <a:spcBef>
                <a:spcPts val="1199"/>
              </a:spcBef>
              <a:spcAft>
                <a:spcPts val="400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 Bk"/>
              </a:rPr>
              <a:t>Exceptions are LD HELP and LD CREATE</a:t>
            </a:r>
            <a:endParaRPr b="0" lang="en-US" sz="3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80000"/>
              </a:lnSpc>
              <a:spcBef>
                <a:spcPts val="1199"/>
              </a:spcBef>
              <a:spcAft>
                <a:spcPts val="400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 Bk"/>
              </a:rPr>
              <a:t>Version can be obtained like this:</a:t>
            </a:r>
            <a:endParaRPr b="0" lang="en-US" sz="3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$ LD VERSION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%LD-I-VERSION, LD version V9.0, module X-9 built on Oct 10 2006 13:46:25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-LD-I-DRIVERVERSION, Driver version: 10-OCT-2006 13:56:45.44 (MON version)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-LD-I-SYSINFO, Node: THEBAT, Hardware: hp AlphaServer DS20L 833 MHz, VMS version: XB9P-BL2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EA37-6199-486F-A522-1FF73F16D9D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7CD8C8-B3D8-48D5-AAEF-98C7BB08DF8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_SHARE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f f$search("disk1.dsk") .eqs. "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then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onnect disk1.dsk lda1:/share/alloclass=4/log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els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onnect disk1.dsk lda1:/share/alloclass=4/log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endif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f f$search("disk1.dsk") .nes. "" then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9B02-5E11-448C-842C-D594325E3A04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41C607-97A7-4E2D-B666-C4B054C039B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_SHARE_LOCK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f f$search("disk1.dsk") .eqs. "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then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onnect disk1.dsk lda1:/share/alloclass=4/log/lock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els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onnect disk1.dsk lda1:/share/alloclass=4/log/lock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endif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f f$search("disk1.dsk") .nes. "" then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9F8E-FEBF-4156-88DD-DC0738604020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C3FD83-D868-4C02-AFF1-1DD8D188EC48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_TRACE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on control_y then goto exi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disk1.dsk lda1:/log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loop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r lda1:[000000]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wait 0:0:5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analyze/disk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wait 0:0:5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goto loop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exit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et noon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stop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CA78-953C-4554-B31F-14795C1F8349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B35C3F-1890-4B34-BCE2-ECD4C663945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_SHADOW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2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disk1.dsk lda1:/log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disk2.dsk lda2:/log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dsa0:/shadow=($4$lda1:,$4$lda2:)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rese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reset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shadow/copy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dsa0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 disk2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60E4-CE1C-42B2-A0D1-A333E61DDA83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04B8BE-DC20-468F-9F90-B8605A4ED18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LBN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phdev := $9$dka400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1:/log/lbn=(start=0,count=10000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2:/log/lbn=(start=10000,count=10000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3:/log/lbn=(start=20000,count=10000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4:/log/lbn=(start=30000,count=10000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2: test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3: test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4: test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2: test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3: test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4: test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3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4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/all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57F6-3DE0-4265-8B69-89BF36A5BFC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AE63A6-7F17-4715-BD6D-2ED068D6709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LBN_SHARE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phdev := $9$dka400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1:/log/lbn=(start=0,count=10000)/share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2:/log/lbn=(start=10000,count=10000)/share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3:/log/lbn=(start=20000,count=10000)/share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4:/log/lbn=(start=30000,count=10000)/share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2: test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3: test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4: test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3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4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/all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5DB7-54EC-4D16-A522-13EAEE43580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8238A6-43C6-4772-AF78-B94CEC8449A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REPLACE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phdev := $9$dka400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1:/log/replac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/full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/full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9C7D-EDF5-46DB-AB5C-AF1584B867D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1C35AD-72BB-46C9-858C-F4EF48FDE0D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MOUNTVER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1.dsk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/log/symbol disk1.dsk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/nohigh/system lda'ld_unit'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'ld_unit'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watch lda'ld_unit': 1/action=error=%x84/function=code=%x0808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watch lda'ld_unit': 10/action=error=%x84/function=read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watch lda'ld_unit': 10/action=opcom/function=read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watch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reply/enable/temp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pawn/nowait/input=nl: dump lda'ld_unit':/block=(start=10,count=1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nowatch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reply/disabl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wait 0:0: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et noon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stop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/nolog/noconf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5C3B-5141-4666-9DBD-8143B3A8526B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EE1FB9-A076-4CE7-85CF-83C99789A3D3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Basics – File mod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a file as a disk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reate a file on a physical disk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REATE DKA100:[LD]DISK/SIZE=10000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nect the file to a device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[LD]DISK LDA1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it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INIT LDA1: LDDISK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MOUNT LDA1: LDDISK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.....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DISMOUNT LDA1: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Disconnect the file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DISCONNECT LDA1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ABF5-1456-4EFB-B730-CD9EC0EFD90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575BFE-156C-45A0-B461-461E31CE399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Basics – LBN mod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a range of logical blocks as a disk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Physical disk may not be used by anything else 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nect a range of logical blocks to a disk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/LBN=(START=0,END=9999) LDA1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/LBN=(START=10000,END=19999) LDA2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/LBN=(START=20000,END=29999) LDA3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nect using a size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/LBN=(START=0,SIZE=10000) LDA1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/LBN=(START=10000,SIZE=10000) LDA2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/LBN=(START=20000,SIZE=10000) LDA3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653F-CCEE-4838-8E80-815FA5341A9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DC471A-B27E-4F6C-8991-FE28EDA1E15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Basics – Replace mod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ccess another disk via an LD devic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Not a real form of partitioning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ful for I/O tracing and watchpoint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Physical disk may not be used by anything els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nect and replace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/REPLACE LDA1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7E0B-9A64-474B-8381-B7A7036EDB0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D9727B-9EB1-45D5-B5A8-E11B65DC4A8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Advanced us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haring of LD devices in a cluster is possibl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devices itself are not MSCP-serve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or shared use the physical devices where the container file resides must be MSCP serve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hadowing host-based raid disk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devices may be nested, i.e. you can create an LD disk on an LD disk on an LD disk etc.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9317-82D3-48C0-86B4-6AD45178B12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0E5FAA-DCC1-4396-BDD7-CF91D8D2BB1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Sharing LD device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devices must be connected the same way on multiple nodes to allow sharing of  container file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is means the same device name, allocation class, geometry, filename, etc.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ny mismatch will be detected by the driver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utility attempts to give the reason for the failur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$ ld connect $1$dga1: lda3:/lbn=(start=600,end=2000)/log/share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%LD-F-DEVICEINUSE, Device incompatible connected to other LD disk in cluster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-LD-F-RANGEINUSE, LBN range already in use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6CE3-CE10-49B3-9AB4-2C1E9E8F201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8D7AEA-0B7C-4A0C-BD0F-ABBBBC35B2D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9:03:39Z</dcterms:created>
  <dc:creator>Duarte Design, Inc</dc:creator>
  <dc:description>The dark template was designed for PowerPoint  98 through 2000</dc:description>
  <cp:keywords>Dark Template</cp:keywords>
  <dc:language>en-US</dc:language>
  <cp:lastModifiedBy>Jur van der Burg</cp:lastModifiedBy>
  <dcterms:modified xsi:type="dcterms:W3CDTF">2006-10-10T18:51:47Z</dcterms:modified>
  <cp:revision>90</cp:revision>
  <dc:subject>Standard Dark Template</dc:subject>
  <dc:title>HP_TmpIt_dark_final</dc:title>
</cp:coreProperties>
</file>