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906280" y="225360"/>
            <a:ext cx="3645000" cy="27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hdr"/>
          </p:nvPr>
        </p:nvSpPr>
        <p:spPr>
          <a:xfrm>
            <a:off x="28368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27576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206760" y="892944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4322-E860-486C-9610-3D245C98100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6F00-B980-4B63-A1FB-26831B3CE27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4366-BA9C-4F20-9E4C-EBA007318DA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7AA-6B6E-4ECC-8EC4-3A869D94FFF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560-CFCC-4792-B0A6-4F64EDEAA04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63BF-54B0-4C6F-B228-491B1009412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DEA5-121E-4707-A412-1C55BD51981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BE97-69AB-4340-A88B-992588A4E2A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71C6-B997-4C0E-82C3-4B2875C9AE8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ED8-EF75-4328-9862-77D9FC7029A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5EAE-D1C1-478B-8F87-D6467514B52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2D02-777A-4F43-BE4E-1CA3E298BD3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A174-A443-402E-AF8C-27BEDABFE2C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0DA2-D7E2-4331-875D-FF48A293A06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C28-A1EA-40D8-974A-120AB9B6627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571D-9AD6-40B6-A0CA-C4B9B894616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B2D4-12BD-42EC-B61F-6092B82521F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72E2-2901-42DB-B41B-8C7C40335A7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423E-C080-4D65-8223-82E675ACD2C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BFAF-8B74-4BFE-9EF6-25B84CE32EF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78E8-99E6-440A-8468-AD8DDD69D07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3FB8-66AA-4FBD-B6BF-F0B1FFDCDA4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FF50-C37B-4643-B255-A2F1CAFDC77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8FC4-DE79-4D33-814F-C57EB330F4C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C24-EDA0-4A3C-B5F1-40E6EBC6BA7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14560" y="260280"/>
            <a:ext cx="3646440" cy="2735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50560" y="3200040"/>
            <a:ext cx="613548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6980-D192-45C5-ABA3-6E4EF6CDDE4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98DB-40C2-4B28-B257-BD50D4A9D7D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4FF2-8F8B-4FCE-91D0-E0320BE4011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1345-0D1D-4735-9D59-6936A2790F5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237D-468B-4D47-B320-137ED553139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36ED-7A94-41DF-803E-0BB4B7F74FB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E23B-240F-4F0B-B64F-44F1F489CC4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E5F-37F5-44AE-9B92-D95F64DC444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9BE-12EF-41B6-9FCD-4029763A007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D34B-3C2A-4F02-8B7B-8CE8459AD02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6056-C085-43CB-A8A8-9A7A80E63EE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C9CE-B7ED-49D6-B0E6-6CAD58E1A5F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AF5-4233-4A1E-B68E-E7BAE891BFE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568B-C6B0-4FFE-BBC3-1927216AE57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C97D-D579-485F-88B2-BBFF70DB12D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E335-0ACD-4E75-A065-91C3FEA9058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A18-0AF7-45C6-A185-6A2914E3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C56-AE78-48E8-A6B3-6C09D291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6E1-178F-4CF2-AD98-C496F0C9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4C1-2250-4239-B82C-B50A87D7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20D-7E47-4960-9EB0-5D4F1574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BB0-F0E8-4A41-A39D-D613D981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089-A9E6-4350-A26C-7866CB9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2AB-67A9-46ED-98C6-B750254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9D0-3A55-44A7-9CD1-9A6BE930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B7D-4745-45EA-B91D-7C62BEE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903-790B-4CDE-B943-8056786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F69-D3F4-48D1-B4EC-C48C1F6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8324-589E-44BB-BA5E-4F06AA7C85B8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30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016C-F167-4999-A1F9-EB7BF5CF8DED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7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downloads" TargetMode="External"/><Relationship Id="rId3" Type="http://schemas.openxmlformats.org/officeDocument/2006/relationships/hyperlink" Target="http://www.hp.com/go/openvms/freewar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LDdriver V9.0: Tapes in disguis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Advanced Technical Bootca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May 2007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digiater.n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92" name="Picture 6" descr="D:\Jur\Digiater.nl-2.jpg"/>
          <p:cNvPicPr/>
          <p:nvPr/>
        </p:nvPicPr>
        <p:blipFill>
          <a:blip r:embed="rId1"/>
          <a:stretch/>
        </p:blipFill>
        <p:spPr>
          <a:xfrm>
            <a:off x="6440400" y="0"/>
            <a:ext cx="27036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cre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LM CREATE instead of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adds metadata to the container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t needed for correct operation right now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ill be needed in the future for fast ski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tadata can be initialized later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Original file contents will be preserved as the metadata space will always be reserv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nitialize later on with LM CONNECT/INI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will not be done by default as it would overwrite the first block of a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hat if you would connect the wrong file by mistake?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52BD-0710-4438-98AA-DC1746E31C9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3EC4-99DA-494D-9005-E3931D442E5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metadata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rocess name:            SysDamag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Account:                 SYSTEM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creation:         8-MAY-2007 20:50:19.90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connect:     8-MAY-2007 20:50:25.4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disconnect:  8-MAY-2007 20:53:23.54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ize:               999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hecksum:                A7C35A3F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6B0B-5B10-46EB-B3E0-E619CB52E51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9B0E-A845-4DCB-B72E-6152DD6F0BB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reate tape.dsk/size=1000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onnect/log tape.dsk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CONNECTED, Connected $3$LMA1: to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: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backup sys$sysroot:[syshlp.examples.ld]*.* lma1:test/verif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BACKUP-I-STARTVERIFY, starting verification pass at 17-MAY-2007 11:14:07.7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disconnect lma1:/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DISCONNECTED, Disconnected $3$LMA1: from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7CA9-8213-4DEA-AFC9-78B13B9085D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9F6B-470C-4C57-B177-07A968DC894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ows loading a new container file as soon as backup runs out of spa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anual load/unloa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UN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step approach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s will automatically unload the old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oad existing file if the unit is unloaded (for example, $ DISMOUNT/UNLOA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9A72-8829-4F0D-A6A8-2F4A96E6728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1D5B-DEB2-44D1-B722-61CBCF059CA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ape will initially be loa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connect tape lma1/full/log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mount/for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MOUNT-I-MOUNTED, TEST mounted on _$2$LMA1: (THEBAT)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dismount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show  lma1/full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</a:t>
            </a:r>
            <a:r>
              <a:rPr b="0" lang="en-US" sz="1600" spc="-1" strike="noStrike">
                <a:solidFill>
                  <a:srgbClr val="ff0000"/>
                </a:solidFill>
                <a:latin typeface="Lucida Console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ehavior is just like a real tape un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7EC0-072A-4905-8804-270170593ED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7424-32A6-4766-9CC2-F8132201644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is possible to create a tape device without an attached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$ lm connect lma2/noload/log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%LM-W-NOTCONNECTED, Device $2$LMA2: is not connect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-LM-I-OPTIONS, Not Forced Error capable, Tape unit, Tape unload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BA9F-47AE-4D62-82C8-3EFE565C874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4155-4960-4E7B-BE42-1158818DCE7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to or from disk on behalf of the driver is not logged by defaul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be enabled with LM TRACE/A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will show up in trace data with a PID field of zer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k requests are subject to segmentation dictated by the maximum transfer size of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116-39A7-46A8-BB12-828D021791D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9C2F-1E15-44EF-9E7F-C0C571872B8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trace lma1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/a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moun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8-MAY-2007 20:51:59.14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071 00.000005 2020042F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33 00.000000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74 00.000001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4598 00.014676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 1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6553 00.00191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257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76429 00.009853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513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08 00.01035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769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37 00.036922 2020042F          0     80 OPINCOMPL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04 00.000001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45 00.000000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C85D-2BB8-4789-A880-C9BEAFB9CE1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EBEA-1036-4420-8C84-098F0C0EE1E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ANALYZE file.dsk [/RECORDS] [/DATA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ill detect container file issu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rmally not needed by end us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rocess name:            Jur van der BU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ccoun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creation:        15-MAY-2007 20:13:21.3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connect:    15-MAY-2007 20:50:13.2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disconnect: 15-MAY-2007 20:50:26.7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ize:               99999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hecksum:                C26E593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Bytes read:         4928307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Records read:           596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bytes read:     4880014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Eof count:                 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6003-6FC5-4F83-BE8F-8615E267F7F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3D86-3F6D-4803-8FAF-EAB92F0FBED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layou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disk it’s easy: ODS2 or ODS5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tape it’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Header record layou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CNUM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OFFSET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LAGS           structure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            address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railer record layou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tecount in trailer record facilitates reverse ski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2FE3-7800-40EA-B051-5FE1AEBCA14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ABCC-6ABF-41C2-9014-13237158B07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4BA5-A43C-4859-9B29-1862D75A072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367B-CC56-4AA4-97B5-E0E94326FE0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or tape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ig issue: writing sequential variable records to a block structured medium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ing required for efficiency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ffer management is comple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uffer manager is a sort of ‘Kernel mode RMS’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ust be able to seek to any posi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 manipulation must be done from system contex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 usermode or process availab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copies needed from/to user buffer to driver buffer by double mapp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977A-E11E-4E4F-8F51-929BC14333D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7414-CBC8-4690-A077-3F951D2ACE9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 is fixed 512Kb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cated from nonpaged pool for every un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efficient way to handl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driver for LD and LM devices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river is still named SYS$LDDRIVER.EX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device name during driver connect will determine if it’s a disk or a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asy driver maintenance (one source fil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an old LDdriver is active when installing LD V9.0 then LM can not be used before the system has been reboo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22E4-F107-4527-A19C-BF404484A09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1597-F2AF-41F6-A95D-2BE8EC8375B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FBB1-584F-47C2-89DF-3CAF18D9F10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1DC1-3DB2-422B-8398-A6C907AFF20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devices can not be sha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nd of data is currently fixed at 95% of the container file siz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n-foreign (Files-11) mounted tapes may not handle certain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VMS I/O subsystem enforces a minimum record size of 14 bytes for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pying .OBJ files or other types may give SS$_BADATTRIB erro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al tape devices behave the sam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6C26-2AAB-482C-A535-59670F213EB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C4FD-46B4-4EA0-8F6A-74391911093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atchpoints are not supported on virtual tap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 is the last release supporting VA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oo much 64-bit stuff need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imited interest in new featur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problem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witching volumes on Files-11 mounted tape may give error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SHOW/TRACE/CONTINUOUS may cause invalid data to be written to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ing in trace data may we way off if a cpu has been stopped and restart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orkaround is to disconnect and reconnect the LM or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81C3-C726-4499-8879-1E989AF8050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776C-87F1-4442-A0F5-8C971482038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BA5B-00C0-426F-9148-BCDBCC576FE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5CFF-F9C8-4577-A396-5E75C5A98F9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4B5-32A2-4C52-81F8-A4B4B3567FD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D1AE-1702-4C0A-9CE1-0B8A5102929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3 has no new features when compared to V8.2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 (and what a bug!)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f a container file resides on a volumeset then reads and writes are always directed to the member of the set where the first blocks of the file are loca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o if data would need to go to another member it would go to this me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uess what the result will b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s present in V9.0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blem was introduced in LD V8.0, on Alpha, IA64 and VAX, and is also present in LD V8.1 and LD V8.2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2 is not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3 is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ext VMS release after VMS V8.3 will have the fix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600" y="145548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utomatic volume switch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UTOSWITCH file1,file2,… LMAx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itates a stack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chanism to automatically create new container fi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ast 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ready partly implemented but not finished in V9.0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ensity selec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ight be limited in us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llback to applications on certain driver conditions (via AST’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EF57-1656-456C-8068-3CB6F8DFA01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8AF9-FED6-44A4-8792-FC9D61E037D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mpaction may be possible now that we can handle variable length recor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ight be used for Logical Disks as well (data compression on virtual disks!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ney might speed up things considerab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27A0-9A07-484D-8A45-8F8EEDB8F23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20F-E0AC-4EB1-BEF8-B7477CBA10B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E5C-C234-4F40-91CB-371133BBE50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F969-4886-4B9A-A2B4-CD0A639E278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websit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 article from the HP technical 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ld present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4E98-2C46-4479-9E80-F2C189C8317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9D01-7482-40C0-8584-99F1D567520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V8.3 will remain available as it is the last release that supports VAX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ay not be the latest vers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Digiater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54C6-46AE-4F7F-8D50-8ED9CCD32F8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3574-B6BF-4E4B-BECB-B70B4AF716C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F3C5-6B4E-4E7D-A7A3-AFFB03190DE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A50-EDD6-4F6C-9FE4-2E1EA32E7FF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100-1AEF-4816-B1CC-9F11AD9258C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1EB0-29C8-4088-A2D9-4CB0E0D3A98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6104-53FB-43C8-88F2-F7321033DC5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EBA4-CF00-482B-A82C-7BC6BD30DC2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0DF5-1A03-4083-A5EA-FC3F4D4A82B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6211-5742-4FEA-AA3A-5F6750BA687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1E1B-14BC-480A-832E-6E3D7BD7FE2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E72-C2EC-479D-AC4F-4FF18AEEA20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5C3C-32B3-47EE-AF9F-58FABC6C5BF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6DF5-CFD0-4E1E-92AC-0234380F968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8664-74B2-48DC-BD24-E2588AEACA9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3113-06D9-43BD-A680-7F85C68E763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1F26-F918-4FBF-8594-9A8D0B59C64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A69B-E893-4E23-B863-0FA87428189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19B5-340D-430A-B181-DF4E42E1229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5D0C-7B4F-4F65-B4B0-1ECB01B0793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M_FIL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reate tape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onnect tape1.dsk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 lma1:/fu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 lma1: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m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ma1:/f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backup/log/verify sys$sysroot:[syshlp.examples.ld]*.* lma1: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/rese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disconnec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tape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E76-9756-403E-8F50-E748093EA51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4FFA-8B75-43D5-B445-8999F4A7CB0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rases container file after crea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plicit when highwater marking is turned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erase pattern set by $ERAPA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arning message issued if file is more than 100000 blocks (VMS V8.2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combined with /EXTEND only the extended part will be eras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rieves unit number and container filename in DCL symbols: LD_UNIT and LD_CONTAIN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E61E-AB10-4E78-AA1B-4731FFF14B0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1101-DB3B-4470-98C7-A48462FEC0B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hows extended attributes of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show/all/fu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1: to $1$DGA100:[JUR]FILE.DSK;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Shar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2: to _$3$DQA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Replaced, Trace active, No DSE support, Not Forced Error capab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selection of absolute start and end time of trace data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2E46-29BB-4CC9-9D4C-AB6A6046D8C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E6AC-6557-42C3-8F67-D66B859BF44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ONNECT/LOGICAL=(NAME=logical-name[,TABLE=table][,MODE=mode]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tup a logical name associated with the connected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rivileges dictate modes and tab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 /LBN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/BYTECOUNT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ter data format in tra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E29-7536-47C5-95D8-C77057BBD9B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93E-0410-4599-ADE5-63F00CA9736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9600" y="1419120"/>
            <a:ext cx="82724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estamps in trac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nly in VMS V8.3 and 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3226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095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8581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7513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6426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8595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95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9557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838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much more checking by the compil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54D-27CE-4C1D-9DFF-661C79798F0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F438-967C-48EC-B6C9-15F4D55135A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agtape suppor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Just use LM (Logical Magtape) instead of LD for most comman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tartup like LD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@SYS$STARTUP:LM$START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inimum container file size is 5000 blo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ainer file ha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olume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fast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density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compaction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681-8C93-4ABA-8F6E-0EB2D9A169A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AB6D-378D-49F2-8ED7-C792AC438F9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7-05-18T13:45:49Z</dcterms:modified>
  <cp:revision>230</cp:revision>
  <dc:subject>Standard Dark Template</dc:subject>
  <dc:title>HP_TmpIt_dark_final</dc:title>
</cp:coreProperties>
</file>