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28EF-A976-4497-931A-4DB7CF24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4E0D-A759-4450-9A08-27272D92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BD2D-F963-4431-AF04-862155F6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7458-E9C2-45DE-A189-C2E064D9E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785B-D0A3-4D8E-B12D-6FDFAA9A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A0B8-E52A-4C2F-B2AD-7E5725BB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A5C4-4181-4989-9170-C6CBF9A5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00A8-89EC-44B3-9084-C096A987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4F49-BFB3-49B6-A017-F8C871D5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941C-5649-42D2-80A7-CBA0E084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D041-006B-4E9F-9D4A-65E8B859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F319-9A50-4053-81E9-5FD82D22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93640" y="6629040"/>
            <a:ext cx="14637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B410-FC04-4E62-86E1-2A72E98A41B1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30, 20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133720" y="6629040"/>
            <a:ext cx="48765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48589"/>
                </a:solidFill>
                <a:latin typeface="Futura Bk"/>
              </a:rPr>
              <a:t>&lt;footer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229240" y="6629040"/>
            <a:ext cx="76212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8F03-1228-4F17-85D8-B002953A969D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71440"/>
            <a:ext cx="257040" cy="5686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57040" cy="1114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3" marL="12574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4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5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6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221680" y="262080"/>
            <a:ext cx="77616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426360" y="0"/>
            <a:ext cx="2717640" cy="6858000"/>
          </a:xfrm>
          <a:prstGeom prst="rect">
            <a:avLst/>
          </a:prstGeom>
          <a:solidFill>
            <a:srgbClr val="00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369120" cy="4809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1000" y="106344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47" name=""/>
          <p:cNvSpPr/>
          <p:nvPr/>
        </p:nvSpPr>
        <p:spPr>
          <a:xfrm>
            <a:off x="465120" y="637704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© 2006 Hewlett-Packard Development Company, L.P.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389640" y="4097160"/>
            <a:ext cx="2486160" cy="1919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265800" y="4816440"/>
            <a:ext cx="1792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  <a:p>
            <a:pPr lvl="1" marL="343080" indent="0" algn="ct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685800"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3" marL="1028880"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4" marL="1371600"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5" marL="1371600">
              <a:spcBef>
                <a:spcPts val="499"/>
              </a:spcBef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6" marL="1371600">
              <a:spcBef>
                <a:spcPts val="499"/>
              </a:spcBef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hp.com/go/openvms/freeware" TargetMode="External"/><Relationship Id="rId2" Type="http://schemas.openxmlformats.org/officeDocument/2006/relationships/hyperlink" Target="http://www.hp.com/go/openvms/freeware" TargetMode="External"/><Relationship Id="rId3" Type="http://schemas.openxmlformats.org/officeDocument/2006/relationships/hyperlink" Target="http://www.digiater.nl/lddriver" TargetMode="Externa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hp.com/go/openvms/journal" TargetMode="External"/><Relationship Id="rId2" Type="http://schemas.openxmlformats.org/officeDocument/2006/relationships/hyperlink" Target="mailto:lddriver@hp.com" TargetMode="External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1000" y="106344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Disk partitioning on VMS with LDdriver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Futura Lt"/>
              </a:rPr>
              <a:t>Session A311/A312</a:t>
            </a:r>
            <a:endParaRPr b="0" lang="en-US" sz="32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33080" y="537228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Jur van der Burg</a:t>
            </a: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HP OpenVMS Engineering</a:t>
            </a: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/O tracing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ery powerful feature to see what’s happening on a low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an be viewed real-time (continuously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an be logged to disk (unattended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lexible selectable outpu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ifferent time format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ifferent I/O status block format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ifferent I/O function code format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7BB6-F4CC-49CB-946A-8DA8BBE99D1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1A168F-9BEB-4735-B2F4-D4D15443FDA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/O Tracing exampl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.....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show/trace ld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/O trace for device $7$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6-APR-2006 22:18:36.28 on node LDDRVR: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Start Time Elaps  Pid      Lbn  Bytes Iosb  Function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5 00.00 09C00227 0    0     NORMAL PACKACK|INHERLOG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5 00.01 09C00227 1   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6 00.00 09C00227 1034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7 00.00 09C00227 5002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8 00.00 09C00227 5002 512   NORMAL WRITE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5003 1536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5006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5000 512   NORMAL READPBLK|EXFUNC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0    0     NORMAL PACKACK|BYPASS_VALID_CH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70 00.00 09C00227 5016 512   NORMAL READPBLK|EXFUNC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70 00.00 09C00227 5023 1024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70 00.00 09C00227 5016 512   NORMAL WRITEPBLK|EXFUNC|DATACHEC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0E69-0552-486E-A383-5645EA12628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3014AF-D80E-4ECD-88AA-1A169F49FD2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atchpoin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 watchpoint is a special action performed when a targeted logical block is hit by a reques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se actions are possibl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Return a specific erro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uspend the I/O reques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Generate an Opcom messag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rash the system (needs CMKRNL privilege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user controls which LBN is watched, on which function code is acted, and which error is return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‘Opcom’ action may be combined with other action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94CE-8F66-415E-ADBE-29FEB35D5FB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E1343B-F9F3-44B2-B82F-45840BA3D5D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atchpoint exampl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watch lda1 1/action=error=2928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watch lda1 1/action=opcom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show/watch ld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ndex LBN     Action     Function         Error return code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        1  Opcom   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        1  Error     READPBLK             0B70 (FISH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dump lda1:/block=(count=1,start=1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%%%%%%%%%%  OPCOM   5-APR-2006 14:21:46.70  %%%%%%%%%%%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Message from user VDBURG on LDDRVR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***** LDdriver detected LBN watchpoint access *****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PID:      26000224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mage:    DUMP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evice:   $7$LDA1: (LDDRVR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Function: 000C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LBN:      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DUMP-E-READERR, error reading 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SYSTEM-W-FISH, my hovercraft is full of eels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5EF7-5DA8-4286-8510-BA423D21D03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07913E-B11C-466A-A5ED-31F631A1501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allable interfac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driver is controlled by a user mode program issuing normal QIO request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required function codes and definitions are available in the kit, and in VMS since V8.2-1 ($LDDEF or lddef.h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driver is doing very strong validity checks of all requests (You can’t shoot yourself in the foot (if you can, I apologize, please let me know how you did it)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3563-62F8-47D9-A5B3-0ADBDE000FD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235096-05F2-4C13-9E30-9199200BA16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imi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as many devices as your diskspace allow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ion of any device takes BYTLM quota from the creating proces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tracebuffer as well as watchpoints come out of non-paged pool and are charged against BYTLM as wel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f 9999 LD devices are not enough then you can create LD devices on other controllers, like LDB1:, LDC1:, etc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figure the driver with @SYS$STARTUP:LD$STARTUP x where x is the controller to use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4C2C-6489-45CB-94ED-D835FA39861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5FEE3F-4928-4EC7-B7AC-61E138793EE0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1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 CREATE/EXTEN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ws extension of existing container fil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Expand volume with SET VOLUME/SIZ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 CONNECT/NOFORCED_ERRO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Prevent handling of forced errors with shadowing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Bug fixes: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x possible system crash in I/O completion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x I/O hang with host-based rai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x mount verification issues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7BF9-4A3B-4B66-A9A6-47D45FF1E70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D2DF1A-9768-43D9-9060-5B0CA0A0C78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2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 V8.2 has no new features when compared to V8.1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t is only a bug fix release.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Properly expel shadowset members on erro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Reconnecting an LD device could fail the first time after reboot if the container file was used on another nod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w container file on an NFS mounted ODS5 volum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Prevent system crash on reconnecting a container file in a cluste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0D8F-420F-46C8-81BD-AC735173E7A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DB44D1-2486-411B-A212-ADBDBEBDE99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- con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9.0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380880" indent="0">
              <a:lnSpc>
                <a:spcPct val="7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-342720">
              <a:lnSpc>
                <a:spcPct val="7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LD CREATE/ERAS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90720" indent="0">
              <a:lnSpc>
                <a:spcPct val="7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Erase container file on creation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90720" indent="0">
              <a:lnSpc>
                <a:spcPct val="7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-342720">
              <a:lnSpc>
                <a:spcPct val="7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More accurate timing in trace records (starting with VMS V8.3)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d show/trace ld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I/O trace for device $9$LDA1: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17-MAY-2006 09:21:15.16 on node THEBAT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End Time           Elaps    Pid       Lbn     Bytes  Iosb    Functio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1:12.232269 00.000000 2060042F          0      0 NORMAL  PACKACK|INHERLOG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1:12.240950 00.008581 2060042F          1    51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1:12.247513 00.006426 2060042F       1034    51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1:12.248595 00.000959 2060042F      50033    51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1:12.249557 00.000838 2060042F      50034    51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1:12.255176 00.005504 2060042F      50016    51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1:12.263548 00.008258 2060042F      50016    512 NORMAL  WRITE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380880" indent="0">
              <a:lnSpc>
                <a:spcPct val="7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380880" indent="0">
              <a:lnSpc>
                <a:spcPct val="7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47B6-99F2-49FE-882B-CC1CAC4C588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9D63CE-1515-47DB-AADC-1FFE3F0FAA4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– Tape emul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Emulate tape device (not yet finished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evice is called ‘LM’ (Logical Magtape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Uses the same driver as L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m create tape1/siz=10000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m connect tape1 lma1/log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%LD-I-CONNECTED, Connected $9$LMA1: to $9$DKA100:[LD]TAPE1.DSK;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show dev/fu lm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Magtape $9$LMA1: (THEBAT), device type (Generic SCSI tape), is online, file-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oriented device.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Error count                    0    Operations completed                  2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Owner process                 ""    Owner UIC                         [JUR]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Owner process ID        00000000    Dev Prot            S:RWPL,O:RWPL,G:R,W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Reference count                0    Default buffer size                2048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Density                     6666    Format                        Normal-1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Allocation class              12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Volume status:  no-unload on dismount, odd parity.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08FA-FBBB-4415-A234-7D983C1E223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F990E0-CA1F-44A7-B0A8-4E3EC982D3C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driver: What can it do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file on any disk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range of logical blocks on a disk as a new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vestigate I/O behavio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est application error handl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Play around with disks without doing damag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Emulate a magtape (future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havoc (with privileges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0419-293E-44C6-9F70-674E68E50F8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2F056B-D273-441A-B9E4-7CF87B8A46C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– Tape emul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m trace lm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mount/for lma1: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%MOUNT-I-MOUNTED,  mounted on _$9$LMA1: (THEBAT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dismount lma1: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m show/trace lm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I/O trace for device $9$LMA1: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17-MAY-2006 09:25:49.65 on node THEBAT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End Time           Elaps    Pid       Lbn     Bytes  Iosb    Functio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14151 00.000000 000000A9          0      0 NORMAL  PACKAC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14153 00.000000 000000A9          0      0 NORMAL  REWIND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14157 00.000000 000000A9          0      0 NORMAL  PACKAC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14159 00.000000 000000A9          0      0 NORMAL  REWIND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14161 00.000000 000000A9          0     80 ILLBLKNUM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14163 00.000000 000000A9          0      0 NORMAL  REWIND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80426 00.000000 000000A9          0      0 NORMAL  UNLOAD|CLSEREXCP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80427 00.000000 000000A9          0      0 NORMAL  AVAILABLE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C6F3-8689-4F38-9AD3-EDC19D45296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E5126-D1A1-473B-8874-5BB8D02AB8D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onnecting a container fil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most tricky part is connecting an LD device to a container fil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ontainer file physical device must be a mounted disk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t must contain a known file system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File must be mapped with cathedral window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aching must be disabled for this fil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heck for usage on other cluster member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le I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cation class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Device name / controller letter / unit numbe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Geometry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Maximum block siz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haring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Mode of connection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6080" indent="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58D5-D7B4-4E4F-987E-3D537941EE2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E09B2-FC18-439B-A3B1-CEDB1B8AA1C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onnecting a disk by LB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ing part of a disk by LBN range needs other check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Physical device may not be mount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t may not be accessed on any other nod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e logical block range must fit and may not be in use anywhere in the cluste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e exception is that parts that match exactly may be shar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fter connecting the physical device is guarded against access with a lock which prevents mounting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015E-2401-49CB-9D87-AF06DD0A8F4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617A87-C743-43EB-ABAC-2F5F6E0D0D0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hecking LBN range (1)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When connecting a part of a physical disk we need to check availability of the logical blocks, clusterwid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e can’s take out a lock based on a resource name with the encoded range as we don’t know what’s used on other node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e don’t want to invoke a helper process – driver check only!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e can’t store all ranges in a valueblock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o we use the lockmanager in a smart way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66FC-A7EE-47D2-88F9-3A20ED29057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FC79C1-6E5C-4AA7-8E4B-D701BA687649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hecking LBN range (2)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t connection time the block range we want is entered in a lock value bloc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y taking out a lock a blocking AST routine is fired on other nodes with interest in the same devic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e blocking routine scans all local LD devices for a matching devic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f found the LBN range is check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n case of an error a bit is set in the lock value block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fter lock conversion the initiator examines the error bit and rejects the request if se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F62D-88AF-42EB-9842-68F0EE2266D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21B496-F8B2-4AF4-A68C-F34100D5D3C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Finding an I/O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driver sends most I/O requests it receives directly to the physical disk driv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s may happen for multiple file segments in parall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s can make it harder to find an active I/O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RP’s forwarded to the physical disk can be found in the LDIOB structur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driver’s structure definitions can be found in SYS$LDDRIVER.STB (only after installing the LD kit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5BCA-67A4-4A82-A12D-6DE37EC71DC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93A048-4164-45E1-A439-6E290C73406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400" y="-417960"/>
            <a:ext cx="7629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9600" y="101160"/>
            <a:ext cx="8272440" cy="63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read/exec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show device lda2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...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format/typ=ldiob @(ucb+ucb$l_ld_aiofl)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0   LDIOB$L_QFL                              81DD9800    UCB+002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4   LDIOB$L_QBL                     81DD9800             UCB+002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8   LDIOB$W_SIZE                                 008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A   LDIOB$B_TYPE                               13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B   LDIOB$B_SPARE                            53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C   LDIOB$L_IRP                     81DB178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0   LDIOB$L_PID                              0001002B    LNM$C_DEL_OVERLAY+00027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4   LDIOB$L_MEDIA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8   LDIOB$L_BCNT                             000002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C   LDIOB$W_FUNC                        000C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E   LDIOB$W_IOST                    0001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60   LDIOB$Q_STAT                    00000000.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68   LDIOB$Q_ST_TIME                 00000000.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70   LDIOB$Q_EN_TIME                 000000A8.00010025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78   LDIOB$Q_ST_SCC                  00000000.1C10E15D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80   LDIOB$Q_EN_SCC                  44070017.34465003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88   LDIOB$L_ST_CPU        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8C   LDIOB$L_EN_CPU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90   LDIOB$L_ELAPSED       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                    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LDIOB$Q_ELAPSED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94                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98   LDIOB$Q_ST_USEC                 613D6500.746C7561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A0   LDIOB$Q_EN_USEC                 2F657461.642F6C6C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A8   LDIOB$L_ABCNT                            00000000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Number of bytes transferred so far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AC   LDIOB$L_KPB                     81C5C9C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0   LDIOB$L_FWDQFL                           81DC0878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Queue of forwared IRP's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4   LDIOB$L_FWDQBL                  81DC0878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8   LDIOB$W_IRPCNT                               0001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Number of active forwarded IRP's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A   LDIOB$W_FLAGS                            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format @(@(ucb+ucb$l_ld_aiofl)+ldiob$l_fwdqfl)-irp$l_ld_fwdqfl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0   IRP$L_IOQFL                              81DC5BA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4   IRP$L_IOQBL                     81DC5BA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8   IRP$W_SIZE                                   024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A   IRP$B_TYPE                                 0A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B   IRP$B_RMOD                               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C   IRP$L_PID                       81B278F0             SYS$LDDRIVER+118F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...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90C4-2C63-4A2F-837E-496F355F589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B49E4-9B9C-4D6B-8A93-333CA27DB74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hich VMS versions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Runs on VAX/VMS since V5.5-2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lpha V6.1 and high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A64 V8.2 and high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current kit is HP-VMS-LD-V0802--1.PCSI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stalls on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AX V7.3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lpha V7.2-2 V7.3 V7.3-1 V7.3-2 V8.2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a64 V8.2 V8.2-1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4B54-3197-4CF8-8990-0251B2332B3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9EA8E1-C5F0-4EB7-B643-C5EB66ACD7E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Other version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ther versions may work too, but the driver and utility needs to be built from source (included in the kit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uild procedure is includ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 compiler requir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river may need an edit for specific versions (enable / disable a conditional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9.0 will NOT run on VAX!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2 is integrated in the VMS V8.3 releas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67C2-0100-4871-97EF-C454F772801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8DAA9F-BB63-401E-8A8A-5DA8F458EE1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Known issue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8.2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f the XFC cache is turned off (VCC_FLAGS != 2) then connecting a file will return this error: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%LD-F-BLKOUTOFRANGE, Blocks out of rang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is problem is corrected in VMS V8.3 and the future LD V9.0 ki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7C4B-0584-4521-81FC-657124F17CB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22039A-D95D-4AD3-B00B-5B1E5330F70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here can I find it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 the OpenVMS freeware websi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 algn="just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b5f01"/>
                </a:solidFill>
                <a:uFillTx/>
                <a:latin typeface="Futura Bk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eb5f01"/>
                </a:solidFill>
                <a:uFillTx/>
                <a:latin typeface="Futura Bk"/>
                <a:hlinkClick r:id="rId2"/>
              </a:rPr>
              <a:t>www.hp.com/go/openvms/freeware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 algn="just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 the main lddriver si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    </a:t>
            </a:r>
            <a:r>
              <a:rPr b="0" lang="en-US" sz="2000" spc="-1" strike="noStrike" u="sng">
                <a:solidFill>
                  <a:srgbClr val="eb5f01"/>
                </a:solidFill>
                <a:uFillTx/>
                <a:latin typeface="Futura Bk"/>
                <a:hlinkClick r:id="rId3"/>
              </a:rPr>
              <a:t>http://www.digiater.nl/lddriver</a:t>
            </a: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 (under construction)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tegrated in VMS since V7.3-1(sort of....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ully integrated in VMS V8.2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F532-6031-4F74-8017-85553A97FD3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68CB23-BB5D-47B7-BBF7-397A7C98114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 usag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Heavily used for test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d in the VMS buil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d by the host-based Infoserv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d by CDRECOR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81F9-A4AD-4BA3-92EF-D2605F1E7856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B7BEEA-36D8-4693-BC04-F51E90472DD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Future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ug fixes (if any....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You name it.... suggestions are welcome (buy me a beer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C2DD-DB0C-4CFA-ABA5-5BBA9F7E01F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8ADDDB-E183-4395-8A88-21C9CA1B6AE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More inform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DRIVER article in the HP technical journa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1"/>
              </a:rPr>
              <a:t>http://www.hp.com/go/openvms/journa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fter installation: $ LD HELP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Questions / Bugs / Ideas?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Email: </a:t>
            </a: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2"/>
              </a:rPr>
              <a:t>lddriver@digiater.n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786D-CA5E-4FFB-A439-E2ABC9B592A0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CEDE1-DBED-4B66-A48F-DB9C799DBEC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07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7120080" y="5126040"/>
              <a:ext cx="1773000" cy="139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6759-9325-45EF-A69B-0F9EAC36E3B5}" type="slidenum">
              <a:t>3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468D66-277A-404C-9333-32C74F96FCFE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.COM</a:t>
            </a: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r lda1:[000000]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3C67-90C6-4B9A-AEE6-1D085C15B1B0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CA6439-A35C-4B16-8280-4AEFCDBEBDE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R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eqs. "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the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ls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ndif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nes. "" then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2984-85C2-490D-8987-4E3DF6622B64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ACE16-E1CC-487D-93FD-297B9FD4F60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RE_LOCK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eqs. "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the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/loc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ls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/loc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ndif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nes. "" then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90DB-0E36-400F-B5D3-B147A24FF55E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69E52C-897E-41C5-AA63-0B52E9B926D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TRAC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on control_y then goto exi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loop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r lda1:[000000]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5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analyze/disk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5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goto loop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exit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et noo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stop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2FA1-C0BD-4406-91A2-08B94E4CEE18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11A2A8-5E18-40A5-8EBF-2FC125134BD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DOW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2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/log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2.dsk lda2:/log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dsa0:/shadow=($4$lda1:,$4$lda2:)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shadow/cop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dsa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2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FFD4-E8D5-4D59-868D-E3170F31FC82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B15F12-101A-4502-BD13-FE2F6C8E41D5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LBN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lbn=(start=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2:/log/lbn=(start=1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3:/log/lbn=(start=2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4:/log/lbn=(start=3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3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4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/a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A273-E68C-4017-A3B1-D833DF0DC736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538E2B-0532-4636-A28C-A0FD9A5B56C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Prepar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Ready for use after @SYS$STARTUP:LD$STARTUP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ny command that needs the driver will give an error if not started properly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$ LD CONNECT FILE.DSK LD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%LD-F-INVOKESTARTUP, LD has not been setup correctly, invoke @SYS$STARTUP:LD$STARTUP.COM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Exceptions are LD HELP and LD CREA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ersion can be obtained like this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$ LD VERSIO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%LD-I-VERSION, LD version V9.0, module X-9 built on May 17 2006 09:01:3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-LD-I-DRIVERVERSION, Driver version: 17-MAY-2006 09:02:10.86 (MON version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-LD-I-SYSINFO, Node: THEBAT, Hardware: hp AlphaServer DS20L 833 MHz, VMS version: XB9P-BL2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4979-FDD8-4966-A409-1506D1D7463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6D7DB0-00DE-4C9E-8E7D-0E011610BA7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LBN_SHAR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lbn=(start=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2:/log/lbn=(start=1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3:/log/lbn=(start=2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4:/log/lbn=(start=3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3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4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/a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4F8F-0700-42F4-927D-B9BFF88E335D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13FDD-27E7-410E-8F31-8DA6CAF30D6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REPLAC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replac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/full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/full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EAFC-C07A-44D4-BD1F-E346B3398E61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F8F9C9-7D88-47B9-9ECD-3CC5E5E18E3F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MOUNTVER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/log/symbol disk1.ds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/nohigh/system lda'ld_unit'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'ld_unit'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/action=error=%x84/function=code=%x0808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0/action=error=%x84/function=read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0/action=opcom/function=read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watch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reply/enable/temp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pawn/nowait/input=nl: dump lda'ld_unit':/block=(start=10,count=1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nowatch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reply/disabl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et noo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stop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/nolog/noconf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06C6-337E-49EB-9A09-CB10919830BD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87BE10-C7F4-417C-AC01-5CA7AA3FF191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s – File mod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file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a file on a physical disk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REATE DKA100:[LD]DISK/SIZE=10000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the file to a devic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[LD]DISK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it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INIT LDA1: LDDISK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MOUNT LDA1: LDDISK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.....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DISMOUNT LDA1: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isconnect the fil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DISCONNECT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12AC-09B3-41EF-89C6-58C1DC10055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73B030-83CF-4DD2-8192-3E16148AEC0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s – LBN mod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range of logical blocks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Physical disk may not be used by anything else 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a range of logical blocks to a disk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0,END=9999)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10000,END=19999) LDA2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20000,END=29999) LDA3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using a siz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0,SIZE=10000)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10000,SIZE=10000) LDA2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20000,SIZE=10000) LDA3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A3AE-74D2-4AC8-A8E7-DE22C9CE27B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5737C-DB6F-4520-BF3C-D797CE34803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s – Replace mod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ccess another disk via an LD devic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Not a real form of partition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ful for I/O tracing and watchpoint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Physical disk may not be used by anything els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and replac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REPLACE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374A-80E3-4689-B9C7-A602E5C4AA3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D6159F-128A-43D8-9ACD-74418FE2DA2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Advanced us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haring of LD devices in a cluster is possibl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devices itself are not MSCP-serv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r shared use the physical devices where the container file resides must be MSCP serv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hadowing host-based raid disk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devices may be nested, i.e. you can create an LD disk on an LD disk on an LD disk etc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EBF7-8D14-425F-8AF5-6288070354D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BB660E-502C-45AC-BC4E-E3E3CA35306C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Sharing LD device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devices must be connected the same way on multiple nodes to allow sharing of  container file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s means the same device name, allocation class, geometry, filename, etc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ny mismatch will be detected by the driv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utility attempts to give the reason for the failur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$ ld connect $1$dga1: lda3:/lbn=(start=600,end=2000)/log/shar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%LD-F-DEVICEINUSE, Device incompatible connected to other LD disk in cluster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-LD-F-RANGEINUSE, LBN range already in us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D8BA-E7ED-459D-BA2E-18422D35CD3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209659-847F-4239-92A7-F933873CC2E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9:03:39Z</dcterms:created>
  <dc:creator>Duarte Design, Inc</dc:creator>
  <dc:description>The dark template was designed for PowerPoint  98 through 2000</dc:description>
  <cp:keywords>Dark Template</cp:keywords>
  <dc:language>en-US</dc:language>
  <cp:lastModifiedBy>Jur van der Burg</cp:lastModifiedBy>
  <dcterms:modified xsi:type="dcterms:W3CDTF">2006-05-22T11:41:25Z</dcterms:modified>
  <cp:revision>79</cp:revision>
  <dc:subject>Standard Dark Template</dc:subject>
  <dc:title>HP_TmpIt_dark_final</dc:title>
</cp:coreProperties>
</file>