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D2E-F864-4647-97C4-9389E70A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BDA-42CA-4EA5-8136-E981133A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25C-4F7C-4FF3-8AC0-7FA24423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7BD-E46C-4FF3-B79D-D928D924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981-F110-4633-ABE2-FF695AFC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E30-19B7-460D-A53D-9202C878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42F-3182-421A-BB5C-347335B4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4BC-CF33-43D8-9A6F-B04947C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A13-843C-49A1-8CCB-0A8D3548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29D-FA1E-496D-A32E-CFDCB94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AEB-4217-47BB-8B8C-5F6C39CA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BFD-9DEE-4F67-A0E1-94235A4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24E8-2EA9-4378-91EB-2E7421EB951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F993-4A95-4F83-9E29-E372512AAC9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hyperlink" Target="http://www.digiater.nl/lddriver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Technical Update D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The Netherla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ctober 11,2006</a:t>
            </a:r>
            <a:endParaRPr b="0" lang="en-US" sz="2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Software Resources International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www.softresint.eu</a:t>
            </a: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27800" y="0"/>
            <a:ext cx="2716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D50-D0CC-4E0B-90CD-F9598BCB2C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6E43B-E37A-4F67-99C5-CC57F9C892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F85-A2EE-47B1-8431-1547785FFA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FD635-2BB0-484B-8354-DF19FAA3C0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F1F-1180-4B52-92E5-B7C37D555C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33173-2E27-41F0-8C17-895E0F801D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E35-9650-445C-9033-74CEC5BD90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E6F63-522B-4B84-AFAD-DB3DE24CC9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49E-A549-4AD4-A47A-67B59FF873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D3D01-BD1C-4A71-9959-45D6A257CE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ACA-5E0D-4EF0-AFCB-63594083E2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0E731-580F-4990-AA27-7B19ADE06B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3AD-8289-4206-ACC5-994DEA238F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A0D15-48C0-4428-B54D-42463FC0F6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72E-AB98-450F-AEC5-45E88E8CD9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64BC8-F372-4AA6-BD1E-1A2D8E3A65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re accurate timing in trace records (With VMS V8.3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69A-83A1-4B7F-8B58-55823DAB7C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ECBF2-4C6C-4D17-B7BA-D9E1BB18FA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Erase container file on creation. This has no effect if highwater marking is turned on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will issue a warning if highwater-marking is turned on and the size of the container file is more than 100000 blocks (VMS V8.2 and up)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Will show all attributes of the selected LD device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all/fu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1: to $1$DGA100:[JUR.LD.V90.SRC]FILE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Share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2: to _$3$DQA0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Replaced, Trace active, No DSE support, Not Forced Error cap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9BC-DBC7-499D-8DBB-8971D17855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80D1E-AABA-4D0F-9FB0-0EE8D8B582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on disk (V9.0, in developmen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A40-8689-4B7A-A6F3-3023479B0B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74A0F-644F-4E58-A7AF-C3A59E3836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Get the LD unit number in DCL symbol LD_UNIT, and the container file specification in the symbol LD_CONTAINER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display of absolute start and end time of trace data.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ONNECT/LOGICAL=(NAME=logical-name [,TABLE=table] [,MODE=mode])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ssign logical name to LD device at connect ti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40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CBC-73DC-4F10-A0A4-2E653FB5DD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5755C-B5A8-42DF-BFAA-9B7C482C82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One single driver acts like a disk or tape (!)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e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M-I-CONNECTED, Connected $3$LMA1: to $1$DGA100:[JUR.LD.V90.SRC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3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F6F-F8FB-44E6-A279-FD8D28ED54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8B029-CEC6-4FC2-A4B9-9BA5A69AC1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1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mount/foreign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0-OCT-2006 14:38:17.05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 Elaps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1 00000000          0 524288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ENDOFFILE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UNLOAD|CLSEREXC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AVAILABL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693-92C8-4BE9-BA1D-66021B211F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39898-5713-42FA-8335-EAC1607C02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LMA1 newfile.dsk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volume switching for backu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NALYZE file.dsk [/FULL]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Verifies the integrity of the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22D-8A56-4E27-B524-B101641CE6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99754-CCED-49C9-AA70-34BDE49C56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is where we are right now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ackup support will follow soon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10mb.bin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DATA:[JUR.LD.V90.SRC]10MB.BIN;1 copied to LMA1: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set magtape/rewind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lma1: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LMA1: copied to DATA:[JUR.LD.V90.SRC]10MB.NEW;1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ff/mode=hex 10mb.bin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section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record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FFERENCES /IGNORE=()/MERGED=1/MODE=(HEXADECIMAL)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BIN;1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NEW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F27-74B4-46A4-B366-75274753E3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B93E2-D4EA-4561-AB49-27EF308C46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2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back/log DATA:[JUR.LD.V90.KIT]*.* lma2:lm/save/rewind/ignore=lab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I-LBLOVRWRITE, volume label TEST         overwritten, new label is L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LM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BIGDIS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DOW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_LOC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TR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REPL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SHADOW_RAM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33C-DAA7-4DA0-8818-BF68BFC262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9E136-4164-4865-BAC5-0EA21F770F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397-A9A5-405F-AF6D-C4CA7813E78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355E6-EB67-4640-9CAF-07CE8810E0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91C-CAE9-4A64-BE35-6168941850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9CD58-FAF7-412E-A2B6-A4D28614C6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34A-9B31-429F-8F9F-2607E24338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D31AD-DD9A-458F-B20B-90A40ADFED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55C-BAE5-465E-B9CA-8B038D7A3F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7496B-2AFA-4A2A-9928-65D3A018D0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4"/>
              </a:rPr>
              <a:t>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574-3203-4736-A92F-24FC72B3B5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BA20B-FC9E-4040-8DF5-A0CB232AC3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BF8-265F-43F9-92EB-B955ABF782D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1107B-3183-48C9-91E7-81E0568455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3E4-A725-4B60-BAE8-16EFF04C837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699B2-E53C-4CC1-9667-0B8FA83B67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801-0170-48A8-ADBA-D9CEE441C17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36277-E293-4F9D-AD22-CCDF43BF45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V8.2 will be the last release for VAX/VM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BEC-E79D-40B6-97B2-3FB2786B434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18FB2-234E-4153-B8B9-2294BD97B8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440-479B-47CF-A215-65C9E01FED3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4DC40-0D62-45D8-9885-12DF5D2AA1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HP 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PY/RECORDABLE_MEDIA (CDDV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762-7C97-4DDA-8852-3121F027D5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30B40-E988-473C-8087-CE1EB1F31F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drin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A61-4551-4A34-94C5-EAC32ED1057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754D4-5554-4335-A3F4-B2FEFB2F06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 (V6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Keep an eye on the website for the V9.0 relea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lddri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CDC-9F4B-4881-936A-420C81EDC9E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6E44D-9332-4A51-8967-2DB02AD20C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E78-3F58-49C4-AFD4-E16414D00040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F3B57-C0F0-4A6B-9DD2-A9D9A94CB4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E28-A8AA-4B6F-8216-E924047EE69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CA364-E0F0-47FE-9EF9-AF9B7F1AF7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Oct 10 2006 13:46:25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0-OCT-2006 13:56:45.44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736-AF7A-4D72-8172-D38EEF295A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0F9E6-AC37-4BDD-89F4-1A5671669D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818-55AD-4D97-BCCF-C6D62B355EA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0F8C0-D18D-4FAE-BC65-D41A1E7FF1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CD1-B6D7-418F-A3B5-C4CEC9DCC64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E42F1-2E59-4EC6-8648-EEC42E15D7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629-7EF4-456F-A96C-4DC41D2DB70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DAFCD-F733-492F-9236-C828991699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C01-F4E7-488E-9C30-E16A0E6CE50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B1FCC-F016-4103-B1BA-646E41E798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149-EE1C-4DD1-9EED-C4805498E4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4D248-6611-4131-97D2-E5DD4556F9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385-15CE-4665-B9EE-C5622A8B5B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54C9F-369E-4741-AC6A-57023AB282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C6E-15DF-4329-B192-38A30ED27B0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32F5D-FCFF-4296-A765-00A85016AA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2E5-4255-43CF-AB5A-AA4BD6A6095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D81B6-F4FA-4D20-BA2E-57FBBD4B79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FDC-E5CB-4BF8-A54E-71BEB8BF8D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D5294-7FDA-4826-8FC5-FB0B3D009E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BE4-62B5-4B6C-858B-A9F5188C36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9967E-2D6F-456F-8B4F-4F8281735F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46E-07B3-47CA-A038-7690733149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A684A-951D-411C-9FC4-F4EE000B4B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79E-0A85-4295-ABEF-2F7076DE61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A7FBC-039A-4772-8EC4-0731917927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AB3-95ED-4784-B0FD-2101DD070C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10498-E325-4236-A76D-170EBDE283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10-10T18:51:47Z</dcterms:modified>
  <cp:revision>90</cp:revision>
  <dc:subject>Standard Dark Template</dc:subject>
  <dc:title>HP_TmpIt_dark_final</dc:title>
</cp:coreProperties>
</file>