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906280" y="225360"/>
            <a:ext cx="3645000" cy="273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hdr"/>
          </p:nvPr>
        </p:nvSpPr>
        <p:spPr>
          <a:xfrm>
            <a:off x="28368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Presentation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275760" y="8918640"/>
            <a:ext cx="5807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6206760" y="892944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C3DD-FCC0-447B-B675-D1D868EE2FA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4011-F6BD-489B-984E-84F34EEBC7A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562A-0CD4-409E-99A3-23BC445D685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FFC4-579B-4E14-9FBC-6F3668A790E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72F9-BBAD-4F88-B4FE-4A0583206A8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8E52-CB8A-4C8E-AF08-0385BA52377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D6D-5B3A-49FE-80D4-682B870462C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380F-8E95-4886-9859-EABCD9B4D92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74ED-A612-4F37-9BBC-A69CAD7F320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61B1-AE5D-46DD-AE2B-7A8F635FA07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6009-AA83-4567-8CD3-50A6F20FC51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55AB-F423-443F-AF6D-E39567458F3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FB5A-D1AB-43AC-BCEE-DD92DC883DD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4B83-8ED9-4A49-A96C-BD930BE9AE6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AC9F-2370-4FC8-AA8F-9D217513CFA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3B20-15AB-478B-9B71-31C0C39548E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7E8A-252A-4C01-A76F-190AE1BA682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E7A7-2DCC-4319-9429-85FCAD3FA80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FA4D-71BB-4D70-B1FA-420104B92AC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1E69-40FD-475B-A8B3-F3CBC11BD6D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E793-379E-4337-BF17-2FE0233F8FC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148B-E131-47A9-A888-65A50C0A890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6943-4805-4954-B335-FE7171CE220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A240-E3BB-428D-8811-37EAE701DAF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ACE7-D313-4A54-BCED-2AB86DC7176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14560" y="260280"/>
            <a:ext cx="3646440" cy="2735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50560" y="3200040"/>
            <a:ext cx="613548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1D2F-C9F1-4FA6-A798-EA80268EBCB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F078-D198-41FC-AF00-8118F1253FF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2683-1E0C-4D4E-B890-E1BF6CEA5E4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CFB3-93F1-4FC6-8DB7-3DB5A4A69FB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55A9-666F-4BF6-8784-5336B98E517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5390-ACAF-45EB-A28B-96AE89A20D4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BD35-9974-4F9A-8030-349D9A16C64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BFA3-F29E-4C3B-88BD-3AF91F3DF03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72EF-E611-4F4A-8B7D-C5243D48E8C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10D4-6FD0-4373-9FFF-43B6A4C51B7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75C5-C7C1-4E2F-9F17-92C3F56C7C0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E110-59B2-4B60-B627-FCE1FA7A018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3E75-8144-43D8-B4AD-07B3BBFF7F0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56B6-57E9-43B6-A7B6-C6FC784B142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BA8A-7D4B-43DB-90F7-BCF8074681C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BF13-6DD5-432A-BCF9-92F84BB8D25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CC9-22C9-4EAD-930E-440DF89B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778-1B2C-4622-9969-564F17AE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63E-6DB8-4E97-A343-6E94420E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64D-58EA-4B6B-82DD-E4A0B9FB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1F8-4FD2-4377-ABE2-B016B2D3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847-3AE9-45F3-83B7-021BCD41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425-4242-4FCF-A5BC-E4C817C5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3D2-81CF-40CC-B853-2C2C81C2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4B6-4511-491A-89EF-42CF0D36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C34-6E3F-4AC2-A5AE-CA9B428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DEC-D11E-4FBB-992C-682921A6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3A4-423E-466D-95EA-D448580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51ED-2399-48AD-9F15-B3D32F28A5FB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C13E-9EE6-4BC6-806F-28D339971601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7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downloads" TargetMode="External"/><Relationship Id="rId3" Type="http://schemas.openxmlformats.org/officeDocument/2006/relationships/hyperlink" Target="http://www.hp.com/go/openvms/freewar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LDdriver V9.0: Tapes in disguise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Advanced Technical Bootcam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May 2007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digiater.n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92" name="Picture 6" descr="D:\Jur\Digiater.nl-2.jpg"/>
          <p:cNvPicPr/>
          <p:nvPr/>
        </p:nvPicPr>
        <p:blipFill>
          <a:blip r:embed="rId1"/>
          <a:stretch/>
        </p:blipFill>
        <p:spPr>
          <a:xfrm>
            <a:off x="6440400" y="0"/>
            <a:ext cx="27036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cre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LM CREATE instead of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adds metadata to the container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t needed for correct operation right now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ill be needed in the future for fast ski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tadata can be initialized later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Original file contents will be preserved as the metadata space will always be reserv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nitialize later on with LM CONNECT/INI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will not be done by default as it would overwrite the first block of a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hat if you would connect the wrong file by mistake?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4A23-D9F1-4758-90DE-30342EFFA28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236D-391E-4F42-9F08-FEA09CAB764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metadata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rocess name:            SysDamag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Account:                 SYSTEM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creation:         8-MAY-2007 20:50:19.90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connect:     8-MAY-2007 20:50:25.4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disconnect:  8-MAY-2007 20:53:23.54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ize:               999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hecksum:                A7C35A3F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BB3A-9D19-45C4-993A-816E2FC7849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1675-5632-41AE-8821-00170C6D777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reate tape.dsk/size=1000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onnect/log tape.dsk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CONNECTED, Connected $3$LMA1: to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: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backup sys$sysroot:[syshlp.examples.ld]*.* lma1:test/verif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BACKUP-I-STARTVERIFY, starting verification pass at 17-MAY-2007 11:14:07.7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disconnect lma1:/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DISCONNECTED, Disconnected $3$LMA1: from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42F7-FBA1-4203-BE17-E82F5F8C736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4B68-A5E7-4DA2-BA47-215A19A7ECA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ows loading a new container file as soon as backup runs out of spa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anual load/unloa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UN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step approach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s will automatically unload the old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oad existing file if the unit is unloaded (for example, $ DISMOUNT/UNLOA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EB4E-90A3-4F8F-8372-CA3FDB0340E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4DD0-20A6-463E-8535-108B32481AF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ape will initially be loa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connect tape lma1/full/log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mount/for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MOUNT-I-MOUNTED, TEST mounted on _$2$LMA1: (THEBAT)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dismount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show  lma1/full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</a:t>
            </a:r>
            <a:r>
              <a:rPr b="0" lang="en-US" sz="1600" spc="-1" strike="noStrike">
                <a:solidFill>
                  <a:srgbClr val="ff0000"/>
                </a:solidFill>
                <a:latin typeface="Lucida Console"/>
              </a:rPr>
              <a:t>u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ehavior is just like a real tape un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10D7-FDDE-4FAD-8BFB-00161C12FBB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2423-E38F-4B69-B9DA-C7CE57289FA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is possible to create a tape device without an attached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$ lm connect lma2/noload/log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%LM-W-NOTCONNECTED, Device $2$LMA2: is not connect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-LM-I-OPTIONS, Not Forced Error capable, Tape unit, Tape unload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464B-FEB6-46E8-98B4-EFAC44CA5DF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EEA8-5269-4F90-B4C1-2FD296F4F23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to or from disk on behalf of the driver is not logged by defaul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be enabled with LM TRACE/A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will show up in trace data with a PID field of zer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k requests are subject to segmentation dictated by the maximum transfer size of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C28A-37AE-4496-86BD-5838D74DD9E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682E-0C23-4359-8746-8D63BAC010C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trace lma1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/a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moun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8-MAY-2007 20:51:59.14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071 00.000005 2020042F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33 00.000000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74 00.000001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4598 00.014676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 1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6553 00.00191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257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76429 00.009853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513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08 00.01035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769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37 00.036922 2020042F          0     80 OPINCOMPL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04 00.000001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45 00.000000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3B3E-B988-48A7-9739-262C1441AC8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9CA8-1571-4B7B-8449-FD979FFB04E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ANALYZE file.dsk [/RECORDS] [/DATA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ill detect container file issu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rmally not needed by end us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rocess name:            Jur van der BU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Accoun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creation:        15-MAY-2007 20:13:21.3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connect:    15-MAY-2007 20:50:13.2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disconnect: 15-MAY-2007 20:50:26.7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ize:               99999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hecksum:                C26E593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Bytes read:         4928307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Records read:           596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bytes read:     4880014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Eof count:                 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6097-A72B-4A83-9E5D-BA5BAD693F9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7AB2-6911-469C-8A89-978318F1284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layou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disk it’s easy: ODS2 or ODS5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tape it’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Header record layou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CNUM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OFFSET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LAGS           structure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            address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railer record layou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tecount in trailer record facilitates reverse ski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EC7-4116-443C-8D30-8656D68CA4D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26BD-DF90-429F-B3B0-7D1D8C854FBF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5DD5-AE3E-40B5-97A8-A99C9839176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C36A-2864-4F75-BC72-0F8E866A8B4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or tape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ig issue: writing sequential variable records to a block structured medium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ing required for efficiency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ffer management is comple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uffer manager is a sort of ‘Kernel mode RMS’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ust be able to seek to any posi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 manipulation must be done from system contex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 usermode or process availab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copies needed from/to user buffer to driver buffer by double mapp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9BDF-8C56-42EF-ABF9-6B2BE8290FE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2BFE-4217-4E09-A32B-2B0E5002A49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 is fixed 512Kb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cated from nonpaged pool for every un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efficient way to handl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driver for LD and LM devices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river is still named SYS$LDDRIVER.EX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device name during driver connect will determine if it’s a disk or a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asy driver maintenance (one source fil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an old LDdriver is active when installing LD V9.0 then LM can not be used before the system has been reboo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A7A7-D8BB-4FB6-A802-13490134FEA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0B2C-919E-4375-B73B-BAF14AD415E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97F9-54CA-4C79-9D65-2FEB8FC235F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9D7-5C10-4452-9423-0EE8FD26470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devices can not be sha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nd of data is currently fixed at 95% of the container file siz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n-foreign (Files-11) mounted tapes may not handle certain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VMS I/O subsystem enforces a minimum record size of 14 bytes for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pying .OBJ files or other types may give SS$_BADATTRIB erro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al tape devices behave the sam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F876-40B7-49A0-BC32-06B9702A019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EF2A-1743-4CF1-B98B-799190672A3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32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atchpoints are not supported on virtual tap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 is the last release supporting VA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oo much 64-bit stuff need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imited interest in new featur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problem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witching volumes on Files-11 mounted tape may give error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SHOW/TRACE/CONTINUOUS may cause invalid data to be written to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ing in trace data may we way off if a cpu has been stopped and restart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orkaround is to disconnect and reconnect the LM or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80FF-8719-4D17-A418-6DDEBEAFBB1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E727-5B91-4078-B265-A2BB9E7CA00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42B-126E-4D93-96B8-2C0603D1D90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DF47-56F8-4A83-B5FD-92A8CFB8F99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21DA-B818-4910-A02B-EC99F0ACCF7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F053-296A-4194-9AB6-B83F261E3CF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3 has no new features when compared to V8.2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 (and what a bug!)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f a container file resides on a volumeset then reads and writes are always directed to the member of the set where the first blocks of the file are loca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o if data would need to go to another member it would go to this me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uess what the result will b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s present in V9.0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blem was introduced in LD V8.0, on Alpha, IA64 and VAX, and is also present in LD V8.1 and LD V8.2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2 is not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3 is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ext VMS release after VMS V8.3 will have the fix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600" y="145548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utomatic volume switch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UTOSWITCH file1,file2,… LMAx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itates a stack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chanism to automatically create new container fi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ast 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ready partly implemented but not finished in V9.0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ensity selec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ight be limited in us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llback to applications on certain driver conditions (via AST’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FDBB-2CA3-44E7-B4F7-7FB030FC721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4C66-FC15-4A52-B7A5-418A2562036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mpaction may be possible now that we can handle variable length recor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ight be used for Logical Disks as well (data compression on virtual disks!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ney might speed up things considerab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5794-7CC8-44FD-A7FA-05FD7A156EB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7462-4762-47AB-A16E-2E219371D7C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9433-B42B-42EF-A986-2BA14D0AEDD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F4CB-5EE2-43D4-8D22-05E57851ED2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websit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 article from the HP technical 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ld present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0698-8A54-45C5-917E-75100EA844D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42B3-70D2-4F1A-87E9-6E74D639E82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V8.3 will remain available as it is the last release that supports VAX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ay not be the latest vers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Digiater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1FBB-5370-4096-9A0F-F3C12FBB92B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4F7D-335C-440D-A609-7E1247B725F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5170-D0D3-452F-853A-86C005E36D8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1B67-6A8C-4ECE-8B9E-3C9151D26BB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D480-1C21-4BA5-AD39-AB65FCF1D58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C2AA-02C2-48EB-B0EA-1D17B1DB305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AA62-45AE-495B-8C9E-56B69B0D7C6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668A-FB9E-43AA-9816-3EC9EA42A37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BE97-9D6B-4BEB-9851-DECF7725A8A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E817-17C7-4083-AE6E-E0A7C9FD8B0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0375-1CC0-42A2-8D4A-9C36B1CF15E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AA03-EA5C-47E5-89BD-A2862DD8983F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6EA1-B862-4B72-B413-98FD9C8DAC2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190D-E304-4E3D-9761-BC91EB1BB2A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CADF-E608-46C4-87F0-8D7562D4017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AA21-223F-4F3A-B486-7BEFA61F2C4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434E-C4EB-4B63-A3D2-9889358F5A8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40F8-EFFE-47F2-9259-39843337049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618E-5D3C-4E71-B45D-E468CF0B48C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6DA-0C4F-40BE-B602-D0D885424AF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M_FIL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reate tape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onnect tape1.dsk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 lma1:/fu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 lma1: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m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ma1:/f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backup/log/verify sys$sysroot:[syshlp.examples.ld]*.* lma1: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/rese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disconnec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tape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5410-3404-42F3-BC28-9551686321E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2C5A-3D19-4F55-BDE9-578E49382B9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rases container file after crea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plicit when highwater marking is turned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erase pattern set by $ERAPA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arning message issued if file is more than 100000 blocks (VMS V8.2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combined with /EXTEND only the extended part will be eras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rieves unit number and container filename in DCL symbols: LD_UNIT and LD_CONTAIN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3555-D0D8-41B3-942F-F15A99C150C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7B15-85AA-4235-AF69-AA82D57AB3D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hows extended attributes of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show/all/fu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1: to $1$DGA100:[JUR]FILE.DSK;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Shar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2: to _$3$DQA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Replaced, Trace active, No DSE support, Not Forced Error capab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selection of absolute start and end time of trace data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3085-0E45-4928-B151-F1AF889A95B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9689-D9B3-4185-81F7-D07C304800A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ONNECT/LOGICAL=(NAME=logical-name[,TABLE=table][,MODE=mode]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tup a logical name associated with the connected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rivileges dictate modes and tab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 /LBN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/BYTECOUNT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ter data format in tra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4042-CE83-4E28-9D16-391053B04F3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E820-B252-4115-9E9F-E2D2AE07554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9600" y="1419120"/>
            <a:ext cx="827244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estamps in trac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nly in VMS V8.3 and 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3226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095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8581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7513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6426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8595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95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9557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838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much more checking by the compil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A4F-11ED-4B26-A18D-FA3CE69A163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00C7-922C-4F5B-9B7E-7D414363DD0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agtape suppor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Just use LM (Logical Magtape) instead of LD for most comman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tartup like LD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@SYS$STARTUP:LM$START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inimum container file size is 5000 blo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ainer file ha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olume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fast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density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compaction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FDCD-DD6F-4F14-9E96-4ED552A8380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1272-99D2-4FFB-A80F-4E08DB0B2B4F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7-05-18T13:45:49Z</dcterms:modified>
  <cp:revision>230</cp:revision>
  <dc:subject>Standard Dark Template</dc:subject>
  <dc:title>HP_TmpIt_dark_final</dc:title>
</cp:coreProperties>
</file>