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C20-DDEF-4B9B-8EF5-C4FDB649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85B-2BC0-41D0-943F-7C341A36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35A-6136-4793-99BD-4321EE24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90D-15F1-4CA5-8219-40FFC9C8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F8B-F21F-4CB1-991C-6C0C7A72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C23-474A-4F97-B23C-0650CB76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D2F-AA87-4B06-AC21-2A1A6215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30A-E3B3-4055-9224-02E0EA6A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043-1960-4710-8177-6736B3E4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A84-90D9-4CD3-8600-4AD63A00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75D-5F83-4EB3-9DEE-56B9DA51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B39-9EFA-41B9-8F8E-9FF04582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745A-4630-43C3-BFB9-8D940317EE1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7BB4-D949-483D-8571-89B26FB1E90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221680" y="262080"/>
            <a:ext cx="7761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65800" y="4816440"/>
            <a:ext cx="1792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p.com/go/openvms/freeware" TargetMode="External"/><Relationship Id="rId2" Type="http://schemas.openxmlformats.org/officeDocument/2006/relationships/hyperlink" Target="http://www.hp.com/go/openvms/freeware" TargetMode="External"/><Relationship Id="rId3" Type="http://schemas.openxmlformats.org/officeDocument/2006/relationships/hyperlink" Target="http://www.digiater.nl/lddriver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p.com/go/openvms/journal" TargetMode="External"/><Relationship Id="rId2" Type="http://schemas.openxmlformats.org/officeDocument/2006/relationships/hyperlink" Target="mailto:lddriver@hp.com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Disk partitioning on VMS with LDdriver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Futura Lt"/>
              </a:rPr>
              <a:t>Session A311/A312</a:t>
            </a:r>
            <a:endParaRPr b="0" lang="en-US" sz="32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HP OpenVMS Engineerin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y powerful feature to see what’s happening on a low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viewed real-time (continuously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logged to disk (unattend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lexible selectable outpu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tim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status block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function cod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CBE-16F6-44A2-990D-62943E57141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A4271-3965-484A-8B5D-D4A940F6874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7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6-APR-2006 22:18:36.28 on node LDDRVR: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Elaps  Pid      Lbn  Bytes Iosb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0 09C00227 0    0     NORMAL PACKACK|INHER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1 09C00227 1   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6 00.00 09C00227 1034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7 00.00 09C00227 5002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8 00.00 09C00227 5002 512   NORMAL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3 1536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6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0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0    0     NORMAL PACKACK|BYPASS_VALID_CH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23 1024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WRITEPBLK|EXFUNC|DATACHE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223-2895-41BB-9F8E-C8CD4AF5E8D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4FAE9-B433-4DBC-954A-A1DC18C75D0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 watchpoint is a special action performed when a targeted logical block is hit by a reques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se actions are possib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urn a specific 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uspend the I/O reques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Generate an Opcom messag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rash the system (needs CMKRNL privileg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ser controls which LBN is watched, on which function code is acted, and which error is return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‘Opcom’ action may be combined with other action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90B-7B83-49AB-A030-B902FC78128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C144D-2660-4E3D-BD5A-75C31FEC75D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error=292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opco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watch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ndex LBN     Action     Function         Error return cod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        1  Opcom   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        1  Error     READPBLK             0B70 (FISH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ump lda1:/block=(count=1,start=1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%%%%%%%%%%  OPCOM   5-APR-2006 14:21:46.70  %%%%%%%%%%%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Message from user VDBURG on LDDRVR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***** LDdriver detected LBN watchpoint access *****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PID:      26000224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mage:    DUM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evice:   $7$LDA1: (LDDRVR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unction: 000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LBN:      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DUMP-E-READERR, error reading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SYSTEM-W-FISH, my hovercraft is full of eel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614-1F72-4333-8698-0A285441D1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4F1C3-3C1D-49D6-B352-6BDB640F0F8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allable interf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is controlled by a user mode program issuing normal QIO reques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required function codes and definitions are available in the kit, and in VMS since V8.2-1 ($LDDEF or lddef.h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driver is doing very strong validity checks of all requests (You can’t shoot yourself in the foot (if you can, I apologize, please let me know how you did it)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489-34EF-4F7B-ADA9-CED643315E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13960-2BC1-4BB1-9624-B26939A47E3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AF7-4374-4BAD-87B9-924EEE340EF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0E7D9-E852-41F4-B82E-EB44F9FE37E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1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REATE/EXTEN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extension of existing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xpand volume with SET VOLUME/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ONNECT/NOFORCED_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handling of forced errors with shadow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ug fixes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possible system crash in I/O comple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/O hang with host-based ra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mount verification issue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1F9-E87C-46ED-88AB-E0AF7E50B2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F155F-452A-42B8-99B8-355D198D76D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2 has no new features when compared to V8.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perly expel shadowset members on erro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Reconnecting an LD device could fail the first time after reboot if the container file was used on another nod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container file on an NFS mounted ODS5 volu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system crash on reconnecting a container file in a clust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1FE-E783-4CDD-BC03-C6398D0AE52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DEE5A-25D9-4FA2-92F0-C21889992A7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90720" indent="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rase container file on crea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9072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re accurate timing in trace records (starting with VMS V8.3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I/O trace for device $9$LD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17-MAY-2006 09:21:15.16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32269 00.000000 2060042F          0      0 NORMAL  PACKACK|INHER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0950 00.008581 2060042F          1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7513 00.006426 2060042F       1034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8595 00.000959 2060042F      50033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9557 00.000838 2060042F      50034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55176 00.005504 2060042F      50016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63548 00.008258 2060042F      50016    512 NORMAL  WRITE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4DD-194A-4C83-8B98-F455660BF7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C0F9D-B05F-41E0-8BEA-F214149D988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tape device (not yet finish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evice is called ‘LM’ (Logical Magtap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Uses the same driver as L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reate tape1/siz=1000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onnect tape1 lma1/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$9$LMA1: to $9$DKA100:[LD]TAPE1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show dev/fu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Magtape $9$LMA1: (THEBAT), device type (Generic SCSI tape), is online, file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riented device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rror count                    0    Operations completed                  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                ""    Owner UIC                         [JUR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ID        00000000    Dev Prot            S:RWPL,O:RWPL,G:R,W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Reference count                0    Default buffer size                2048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Density                     6666    Format                        Normal-1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Allocation class              1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Volume status:  no-unload on dismount, odd parity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920-4F53-4050-9770-5B820CEA021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C374C-7233-4B74-A245-8D37D575B14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a magtape (future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70D-2BD8-4268-9408-E7277BAA53B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88FD7-3DA4-4D82-AA4E-6DD2D24A898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mount/for 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MOUNT-I-MOUNTED,  mounted on _$9$LMA1: (THEBAT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show/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I/O trace for device $9$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17-MAY-2006 09:25:49.65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1 00.000000 000000A9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3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7 00.000000 000000A9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9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61 00.000000 000000A9          0     80 ILLBLKNUM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63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80426 00.000000 000000A9          0      0 NORMAL  UNLOAD|CLSEREXCP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80427 00.000000 000000A9          0      0 NORMAL  AVAILABL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9B5-4ACF-4D97-A700-6DF2E54FBE6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D5060-A17B-4B6E-A6E9-2E4E9E93DAD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container fi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tricky part is connecting an LD device to a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ainer file physical device must be a mounted dis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ust contain a known file system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File must be mapped with cathedral window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aching must be disabled for this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heck for usage on other cluster membe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le 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cation clas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Device name / controller letter / unit nu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eometry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aximum block 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har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de of connec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D80-CF46-402A-8F33-F5FF070954D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44089-3A0D-4761-A9B1-588DD1FE2D8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disk by LB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ing part of a disk by LBN range needs other che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hysical device may not be moun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ay not be accessed on any other nod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logical block range must fit and may not be in use anywhere in the clust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exception is that parts that match exactly may be shar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connecting the physical device is guarded against access with a lock which prevents mounting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94F-150D-4BEB-A1DF-6D8E8B037EF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69C34-861A-4737-8A19-93CC1594B9A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1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hen connecting a part of a physical disk we need to check availability of the logical blocks, clusterwid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s take out a lock based on a resource name with the encoded range as we don’t know what’s used on other nod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don’t want to invoke a helper process – driver check only!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t store all ranges in a value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o we use the lockmanager in a smart way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123-54CE-4B41-A417-A6ADA9117B3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2708A-C986-46E4-B8E1-A381C90487D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2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t connection time the block range we want is entered in a lock value bloc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 taking out a lock a blocking AST routine is fired on other nodes with interest in the sam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blocking routine scans all local LD devices for a matching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found the LBN range is check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n case of an error a bit is set in the lock value 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lock conversion the initiator examines the error bit and rejects the request if se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0092-269C-4FBD-BC6E-128CD7B29C4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98BF4-D2FE-4B5D-94CF-8B43F43D464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Finding an I/O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sends most I/O requests it receives directly to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ay happen for multiple file segments in parall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make it harder to find an active I/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RP’s forwarded to the physical disk can be found in the LDIOB structur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’s structure definitions can be found in SYS$LDDRIVER.STB (only after installing the LD kit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221-4BB6-4960-AA69-2530F20BAF3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F854D-180D-4DC2-9E9A-60F25E00A69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-417960"/>
            <a:ext cx="7629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600" y="101160"/>
            <a:ext cx="827244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read/exe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show device lda2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/typ=ldiob @(ucb+ucb$l_ld_aiofl)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0   LDIOB$L_QFL                              81DD9800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4   LDIOB$L_QBL                     81DD9800         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8   LDIOB$W_SIZE                                 00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A   LDIOB$B_TYPE                               1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B   LDIOB$B_SPARE                            5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C   LDIOB$L_IRP                     81DB17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0   LDIOB$L_PID                              0001002B    LNM$C_DEL_OVERLAY+00027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4   LDIOB$L_MEDIA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8   LDIOB$L_BCNT                             000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C   LDIOB$W_FUNC                        000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E   LDIOB$W_IOST                    000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0   LDIOB$Q_STAT   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8   LDIOB$Q_ST_TIME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0   LDIOB$Q_EN_TIME                 000000A8.00010025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8   LDIOB$Q_ST_SCC                  00000000.1C10E15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0   LDIOB$Q_EN_SCC                  44070017.3446500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8   LDIOB$L_ST_CPU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C   LDIOB$L_EN_CPU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0   LDIOB$L_ELAPSED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LDIOB$Q_ELAPSE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4        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8   LDIOB$Q_ST_USEC                 613D6500.746C756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0   LDIOB$Q_EN_USEC                 2F657461.642F6C6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8   LDIOB$L_ABCNT                            00000000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bytes transferred so far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C   LDIOB$L_KPB                     81C5C9C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0   LDIOB$L_FWDQFL                           81DC0878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Queue of forwar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4   LDIOB$L_FWDQBL                  81DC0878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8   LDIOB$W_IRPCNT                               0001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active forward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A   LDIOB$W_FLAGS                            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 @(@(ucb+ucb$l_ld_aiofl)+ldiob$l_fwdqfl)-irp$l_ld_fwdqfl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0   IRP$L_IOQFL         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4   IRP$L_IOQBL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8   IRP$W_SIZE                                   024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A   IRP$B_TYPE                                 0A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B   IRP$B_RMOD                               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C   IRP$L_PID                       81B278F0             SYS$LDDRIVER+118F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6D7-BEB2-4E35-802D-F25AB520BBE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80D50-8D2E-4038-B808-9F4C23BF3DA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ich VMS versions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uns on VAX/VMS since V5.5-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6.1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current kit is HP-VMS-LD-V0802--1.PCSI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stalls on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AX V7.3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7.2-2 V7.3 V7.3-1 V7.3-2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V8.2-1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1FD-CA05-4D1A-A07E-67F5FB4E9CE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C0A3A-4B23-47A8-AABB-98663FA238D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ther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ther versions may work too, but the driver and utility needs to be built from source (included in the ki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ild procedure is inclu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 compiler requi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river may need an edit for specific versions (enable / disable a conditional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 will NOT run on VAX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 is integrated in the VMS V8.3 rele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5A8-92E8-4CCB-BAB4-FB03D7CA006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0D3DC-6F39-4673-8465-D956021A9B9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issu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the XFC cache is turned off (VCC_FLAGS != 2) then connecting a file will return this error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BLKOUTOFRANGE, Blocks out of rang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problem is corrected in VMS V8.3 and the future LD V9.0 k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7B4-96B6-4063-8554-313CD976C81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9F190-65EA-4A86-8BD7-0D39762768C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www.digiater.nl/lddriver</a:t>
            </a: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(under construction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grated in VMS since V7.3-1(sort of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ully integrated in VMS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57A-CF41-4C88-B0EA-2A8A1669F73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621A9-9935-41CD-BFAE-88423E56C01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 usag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eavily used for test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in the VMS buil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by the host-based Infoser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by CDRECOR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F78-62DE-40E7-BFCD-7DA05081EF0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27A99-D227-41A7-9BA2-BF24A09C8B1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g fixes (if any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.... suggestions are welcome (buy me a be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3ED4-E41D-4BB6-9740-05D122B9B2E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6AE7E-EC9B-475D-946D-1A17B2194AA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article in the HP technical journa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hp.com/go/openvms/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E98-FE8B-4185-9213-CBB1F212ADF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8D496-E451-4F91-8290-93C5E5B2481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7120080" y="5126040"/>
              <a:ext cx="1773000" cy="13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EAB-6133-4F6B-9BE4-1709509A33D9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0E2AA-1496-431B-AFDA-935C79F94C4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A90-73D2-4895-A689-A05EF6CDAC0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8C31D-7780-4BAB-81FD-99D53870415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0BC-666A-4DBE-8553-F1875915970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4EF9A-A688-41D1-AC27-4F237184BAE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FD9-8B72-40F5-8A60-6F5224FB4C9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7093F-40B4-4BEB-99EE-4513A53BD03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D53-C4E3-40BC-9C5D-67F681DD2FB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7B3F2-1BD9-47CE-A5A1-E6C5A09C68D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962-2A80-4268-BB75-4516B0012933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AB1F5-B164-4413-B620-84E06BAD41D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F66-15B8-4C3A-B485-2B95272CB0B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72FAF-FA57-4223-8BD3-64E5CEF62C4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Prepar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eady for use after @SYS$STARTUP:LD$STARTU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command that needs the driver will give an error if not started properly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CONNECT FILE.DSK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F-INVOKESTARTUP, LD has not been setup correctly, invoke @SYS$STARTUP:LD$STARTUP.CO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xceptions are LD HELP and LD CREA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sion can be obtained like this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VERS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I-VERSION, LD version V9.0, module X-9 built on May 17 2006 09:01:3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DRIVERVERSION, Driver version: 17-MAY-2006 09:02:10.86 (MON version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SYSINFO, Node: THEBAT, Hardware: hp AlphaServer DS20L 833 MHz, VMS version: XB9P-BL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619F-68DF-4B72-824A-FB466BF540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90016-0E07-4769-9E0F-3F7D2F3FC18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F6B-5807-4B4F-A316-993B63FEF4A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756FE-511C-4C11-9240-9D9974E1BFF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E66-6D81-44DA-9005-EB565ECD74A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239B7-BC77-443D-91C1-852A219212A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109-7144-465B-BCAC-2AC32521A4B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AE44E-A6A7-47D4-BA4D-0A63DE8D38C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Fil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B0D-B830-4816-A4E3-3CC0BD9E8B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EA830-43B7-4234-9484-82EC1BAD3B8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LBN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 range of logical blocks to a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END=9999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END=19999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END=29999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using a siz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SIZE=10000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SIZE=10000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SIZE=10000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A39-821F-4740-BA82-88BC523CD3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C19C3-ED2F-4F0F-841F-C8C13AC0FAE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Replac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ess another disk via an LD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t a real form of partition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ful for I/O tracing and watchpoin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nd repla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REPLACE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6D9-C629-468A-8E48-679DA4FE351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A1304-BE20-479C-A8A6-639A84D7835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Advanced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ring of LD devices in a cluster is possib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itself are not MSCP-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shared use the physical devices where the container file resides must be MSCP 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dowing host-based raid dis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ay be nested, i.e. you can create an LD disk on an LD disk on an LD disk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9955-375B-45C0-8E60-EDF3CB11D8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59388-4553-44AE-80CE-A2640C42113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Sharing LD devic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ust be connected the same way on multiple nodes to allow sharing of  container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eans the same device name, allocation class, geometry, filename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mismatch will be detected by the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tility attempts to give the reason for the failur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connect $1$dga1: lda3:/lbn=(start=600,end=2000)/log/shar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DEVICEINUSE, Device incompatible connected to other LD disk in clust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F-RANGEINUSE, LBN range already in 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B25-45B4-475F-B415-856253BBFB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F984C-901B-4EFB-B74D-74A5681CA1C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6-05-22T11:41:25Z</dcterms:modified>
  <cp:revision>79</cp:revision>
  <dc:subject>Standard Dark Template</dc:subject>
  <dc:title>HP_TmpIt_dark_final</dc:title>
</cp:coreProperties>
</file>