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906280" y="225360"/>
            <a:ext cx="3645000" cy="273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hdr"/>
          </p:nvPr>
        </p:nvSpPr>
        <p:spPr>
          <a:xfrm>
            <a:off x="28368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Presentation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275760" y="8918640"/>
            <a:ext cx="5807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6206760" y="892944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E813-2A23-46A2-A9B4-961E25BFE68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B0E0-6C0E-4A9A-929F-A4803DE53B2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5137-54FC-416E-A9EF-29B2CB695F9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7ACA-C7F5-4225-8C91-5ED32F093BB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11F6-78F0-4E62-AEB2-5E25731AB8C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5D07-E9EF-446B-A50C-4F57E73B272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1BF9-0847-4BF3-A569-B6ECB7B36E3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A796-87A4-4CE3-A484-E06C2868D89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AA37-55D2-417A-9C93-53841C4FBC6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624E-16D7-4E64-8F7E-11AE56171A3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270B-D8C7-4D42-BE24-0091F52ED32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97C9-D62C-4786-9659-22C72CB7F97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D0D8-E041-41E9-875F-CBB6ED8F468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4858-8A67-474A-A78E-D1DC82974E5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826B-1B87-4832-B0FD-BD9CF0677F3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12C4-21E4-4DD6-8D4A-562918F2E96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F016-2D86-4571-B008-8F7BB0F15B5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AA3-C6A5-4C68-90FA-D4FD50DDB3F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878F-30A8-4EEC-A213-C65ED7795E5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EF6C-AD0F-48C8-B420-E98203B4A4D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2E77-2408-4257-B7EF-9019A169D28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5B7C-34DA-4B1F-99EF-F9C461C6C7C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8060-2A94-48FF-B76D-40304D5F1CF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CC41-5155-48AD-9D2C-5B187D01AB1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AAAE-0F18-4803-886D-E6D40CCA478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14560" y="260280"/>
            <a:ext cx="3646440" cy="2735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50560" y="3200040"/>
            <a:ext cx="613548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5C06-F945-486B-A25C-38F3BF50D79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BBDD-EC04-4309-B8F6-81D0FEEA7B0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9BB3-EE49-4B9B-BDFC-2FBFCCA8B75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10F3-C5C4-4D21-9EF1-4246D8A8C7A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EB36-1B16-424E-8075-910F42ED96D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9026-5676-4FFB-8CFF-5F3B62AF25B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D06E-4E57-4FBC-996F-9717D32E51E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9FA8-1345-46D5-A165-98C8425B283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705A-BD7B-4347-9728-5C3E1854D58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5B61-56F6-41AD-BC89-96C8517D2D5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29C9-028F-4EFC-986B-0E65F0A4A3B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A004-4643-4559-857D-6D1F20C67BD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10D6-4710-4A29-9B3F-9364B9879B7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BDED-FABB-4A36-A160-C689170EDAE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67BB-EEBD-4EFB-94F1-F62FEDE2736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225A-10DC-4BC2-A62B-0C8B4A0F0CB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EA1-73A2-4B74-83B9-2DD94018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E51-CCCF-4DB5-9C1C-C2B6AF8C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8C5-A068-4301-BFE0-08AE50AE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E55-A4AC-4838-9455-C0626115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278-DD61-49C9-B93C-CE9C615D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ECE-4330-4392-A435-30712303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945-B4D9-4581-9AB8-E40D7E5E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7DF-375C-4031-AD16-BA3C16D0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A8A-3398-408A-A34C-B085EA31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3BC-50FA-4A3A-821E-3CC26031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A36-E5A6-4770-9531-03B6249D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914-33B4-498B-A4D7-B3F45182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06DF-C25F-449A-B7E6-5173E19A7F56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7908-6D90-46DA-A718-983CCDC4BCA9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7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downloads" TargetMode="External"/><Relationship Id="rId3" Type="http://schemas.openxmlformats.org/officeDocument/2006/relationships/hyperlink" Target="http://www.hp.com/go/openvms/freewar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LDdriver V9.0: Tapes in disguise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Advanced Technical Bootcam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May 2007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digiater.n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92" name="Picture 6" descr="D:\Jur\Digiater.nl-2.jpg"/>
          <p:cNvPicPr/>
          <p:nvPr/>
        </p:nvPicPr>
        <p:blipFill>
          <a:blip r:embed="rId1"/>
          <a:stretch/>
        </p:blipFill>
        <p:spPr>
          <a:xfrm>
            <a:off x="6440400" y="0"/>
            <a:ext cx="27036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cre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LM CREATE instead of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adds metadata to the container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t needed for correct operation right now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ill be needed in the future for fast ski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tadata can be initialized later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Original file contents will be preserved as the metadata space will always be reserv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nitialize later on with LM CONNECT/INI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will not be done by default as it would overwrite the first block of a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hat if you would connect the wrong file by mistake?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CD8C-EF53-4CA3-8801-4BDB9A691C0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1199-835E-470A-BA2D-4EBE38E17C6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metadata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rocess name:            SysDamag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Account:                 SYSTEM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creation:         8-MAY-2007 20:50:19.90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connect:     8-MAY-2007 20:50:25.4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disconnect:  8-MAY-2007 20:53:23.54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ize:               999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hecksum:                A7C35A3F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67EE-2F3D-430A-A080-6FECFE16F63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DBDA-A791-48DA-A0D9-2F7F1F5743CF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reate tape.dsk/size=1000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onnect/log tape.dsk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CONNECTED, Connected $3$LMA1: to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: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backup sys$sysroot:[syshlp.examples.ld]*.* lma1:test/verif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BACKUP-I-STARTVERIFY, starting verification pass at 17-MAY-2007 11:14:07.7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disconnect lma1:/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DISCONNECTED, Disconnected $3$LMA1: from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8295-9A35-4EAE-BB9B-A597F56B585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815D-E495-478A-B60C-5DEE0E13BB5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ows loading a new container file as soon as backup runs out of spa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anual load/unloa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UN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step approach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s will automatically unload the old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oad existing file if the unit is unloaded (for example, $ DISMOUNT/UNLOA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BF32-0718-4876-8B6A-B2E64F18BFF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F00C-7D57-4A5F-A88D-D693A010CA2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ape will initially be loa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connect tape lma1/full/log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mount/for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MOUNT-I-MOUNTED, TEST mounted on _$2$LMA1: (THEBAT)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dismount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show  lma1/full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</a:t>
            </a:r>
            <a:r>
              <a:rPr b="0" lang="en-US" sz="1600" spc="-1" strike="noStrike">
                <a:solidFill>
                  <a:srgbClr val="ff0000"/>
                </a:solidFill>
                <a:latin typeface="Lucida Console"/>
              </a:rPr>
              <a:t>u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ehavior is just like a real tape un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C1EE-6AC3-4E70-9899-3538BBDF091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2D7D-5BDB-43DD-86AD-A5A5E9F8976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is possible to create a tape device without an attached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$ lm connect lma2/noload/log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%LM-W-NOTCONNECTED, Device $2$LMA2: is not connect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-LM-I-OPTIONS, Not Forced Error capable, Tape unit, Tape unload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F04-0567-4B0C-ACF2-70D8064E7D0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81A9-6157-4618-A07B-C01242FBCAC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to or from disk on behalf of the driver is not logged by defaul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be enabled with LM TRACE/A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will show up in trace data with a PID field of zer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k requests are subject to segmentation dictated by the maximum transfer size of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6DE3-AC24-453F-BFE8-255DA144412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DB4E-6300-401F-9D86-3B1CFF08861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trace lma1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/a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moun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8-MAY-2007 20:51:59.14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071 00.000005 2020042F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33 00.000000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74 00.000001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4598 00.014676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 1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6553 00.00191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257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76429 00.009853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513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08 00.01035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769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37 00.036922 2020042F          0     80 OPINCOMPL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04 00.000001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45 00.000000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467F-EEAC-4A45-9666-58255651989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ABB4-94AB-4D0E-B030-B761CE00E5C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ANALYZE file.dsk [/RECORDS] [/DATA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ill detect container file issu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rmally not needed by end us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rocess name:            Jur van der BU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Accoun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creation:        15-MAY-2007 20:13:21.3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connect:    15-MAY-2007 20:50:13.2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disconnect: 15-MAY-2007 20:50:26.7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ize:               99999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hecksum:                C26E593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Bytes read:         4928307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Records read:           596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bytes read:     4880014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Eof count:                 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589C-733C-4A89-9CF2-4393874C4CC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CE22-DFB2-4C3E-A4C2-358687E7254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layou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disk it’s easy: ODS2 or ODS5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tape it’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Header record layou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CNUM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OFFSET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LAGS           structure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            address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railer record layou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tecount in trailer record facilitates reverse ski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BDBC-93AB-4489-9B4A-C9A9B0E6D62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CE71-80AF-4EE0-8F98-32D0E2EEBFB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539B-F705-4FB9-B192-D2C915D754C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C8E6-6A4F-4B0E-9D58-FE15C2FF3DC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or tape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ig issue: writing sequential variable records to a block structured medium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ing required for efficiency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ffer management is comple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uffer manager is a sort of ‘Kernel mode RMS’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ust be able to seek to any posi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 manipulation must be done from system contex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 usermode or process availab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copies needed from/to user buffer to driver buffer by double mapp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D369-F34F-4006-9AA7-D8257D8ADA4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09A9-0207-472A-A948-DB7813D9CCE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 is fixed 512Kb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cated from nonpaged pool for every un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efficient way to handl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driver for LD and LM devices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river is still named SYS$LDDRIVER.EX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device name during driver connect will determine if it’s a disk or a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asy driver maintenance (one source fil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an old LDdriver is active when installing LD V9.0 then LM can not be used before the system has been reboo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B028-5B1D-4177-A323-3BBDFB6DC4B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D5F5-6AC9-48D0-B654-E13454D0BD1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1234-353A-4E07-A9A9-15070EDB865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687B-A19A-424E-BFC6-96F1C8D8049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devices can not be sha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nd of data is currently fixed at 95% of the container file siz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n-foreign (Files-11) mounted tapes may not handle certain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VMS I/O subsystem enforces a minimum record size of 14 bytes for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pying .OBJ files or other types may give SS$_BADATTRIB erro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al tape devices behave the sam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D5DA-7B25-4D85-ABC1-A214784CC59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9338-6CB5-462A-88B6-046788BC6E9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32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atchpoints are not supported on virtual tap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 is the last release supporting VA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oo much 64-bit stuff need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imited interest in new featur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problem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witching volumes on Files-11 mounted tape may give error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SHOW/TRACE/CONTINUOUS may cause invalid data to be written to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ing in trace data may we way off if a cpu has been stopped and restart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orkaround is to disconnect and reconnect the LM or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262A-8A2A-4E59-B1EA-BE4F282FAAC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4CE1-9198-4917-B43C-41305A10B4C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F88E-BE33-46B7-A3F3-939509DFED1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FCD0-512D-4F1F-980D-7A3E2715B01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D5FA-45D3-46DD-9FED-DDDED7E1052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27CD-1D7C-4CCE-9EFB-08CB8D1A674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3 has no new features when compared to V8.2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 (and what a bug!)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f a container file resides on a volumeset then reads and writes are always directed to the member of the set where the first blocks of the file are loca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o if data would need to go to another member it would go to this me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uess what the result will b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s present in V9.0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blem was introduced in LD V8.0, on Alpha, IA64 and VAX, and is also present in LD V8.1 and LD V8.2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2 is not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3 is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ext VMS release after VMS V8.3 will have the fix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600" y="145548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utomatic volume switch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UTOSWITCH file1,file2,… LMAx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itates a stack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chanism to automatically create new container fi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ast 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ready partly implemented but not finished in V9.0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ensity selec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ight be limited in us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llback to applications on certain driver conditions (via AST’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7936-E6AD-4CB9-8CA5-A604B84B679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23DA-081B-4D8A-A4C3-5D8E4DFD33D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mpaction may be possible now that we can handle variable length recor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ight be used for Logical Disks as well (data compression on virtual disks!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ney might speed up things considerab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8EB2-1525-46AA-B08F-93E69E211E0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8646-BC55-463C-A7B6-0ACE9B49180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7306-0B76-466E-AC54-D32D88C09A7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5B59-0A83-4B0D-B8FA-E08E6C9BCAA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websit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 article from the HP technical 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ld present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E192-79E7-4353-9ED2-88D8E645DCA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776-C58C-4472-9FF0-6C818F6401C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V8.3 will remain available as it is the last release that supports VAX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ay not be the latest vers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Digiater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09A3-6596-48ED-877C-DFB2B067945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B727-CD71-4551-959E-2243C2BC223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3D77-D22A-4823-88D2-F614DF8D019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611B-8A72-4058-A562-86048E5331C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A423-2267-4468-91AF-463735D45D8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FEF7-FB41-4CD0-B464-E0014B06C89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982A-E445-4857-A32C-D22D5A385B8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56F-3C5F-4FA1-A8E4-D8D2650389C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DB14-18BC-4845-B615-A5961D6751D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3152-997E-4BCF-8B86-FE27E47FB09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BCE3-DCC1-4B43-B441-D5A28BD469A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223E-CD84-43E0-9898-7B568EC69A8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2EA2-5EFC-4CF0-B3B5-D81023C0EA9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7C97-CC11-4F18-8CEE-187BD540B59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B02E-14C9-418E-9E00-C5AB89A8C1F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BFA3-2901-4B14-8FED-DC9BC22F407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01F4-CEB6-49FD-99DC-6350F60C168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D365-F69E-481E-B786-7C08B6D5EA1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E18F-64F8-4F4E-9BB3-A3E0442DD73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027A-F4FB-4BC9-B12A-D9EB95D62A4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M_FIL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reate tape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onnect tape1.dsk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 lma1:/fu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 lma1: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m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ma1:/f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backup/log/verify sys$sysroot:[syshlp.examples.ld]*.* lma1: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/rese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disconnec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tape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7BD8-9022-4C4D-88C2-E4A4A21677C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C22E-7D3A-4C08-814B-C68685B6709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rases container file after crea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plicit when highwater marking is turned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erase pattern set by $ERAPA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arning message issued if file is more than 100000 blocks (VMS V8.2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combined with /EXTEND only the extended part will be eras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rieves unit number and container filename in DCL symbols: LD_UNIT and LD_CONTAIN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ECA2-6563-42DE-BD61-53A30ECEACD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612C-D8BD-4CF8-872B-0F7251FA441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hows extended attributes of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show/all/fu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1: to $1$DGA100:[JUR]FILE.DSK;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Shar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2: to _$3$DQA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Replaced, Trace active, No DSE support, Not Forced Error capab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selection of absolute start and end time of trace data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A30C-CEA1-44C8-A314-A426BE0C6AC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339B-3474-4059-9088-CDFD5A48BF6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ONNECT/LOGICAL=(NAME=logical-name[,TABLE=table][,MODE=mode]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tup a logical name associated with the connected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rivileges dictate modes and tab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 /LBN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/BYTECOUNT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ter data format in tra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1874-1992-4351-83FB-AD46D3081D7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5CE6-BC86-42AF-8EA0-962D97F3729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9600" y="1419120"/>
            <a:ext cx="827244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estamps in trac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nly in VMS V8.3 and 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3226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095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8581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7513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6426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8595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95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9557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838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much more checking by the compil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653F-EF0E-4E03-BB71-4FC6613DB7E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A1E5-F448-46C1-B3DA-2750EF84F6D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agtape suppor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Just use LM (Logical Magtape) instead of LD for most comman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tartup like LD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@SYS$STARTUP:LM$START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inimum container file size is 5000 blo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ainer file ha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olume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fast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density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compaction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E160-1412-4476-BC52-A83A4678AA2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5B9B-CEF3-4119-B984-51C6C321A1E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7-05-18T13:45:49Z</dcterms:modified>
  <cp:revision>230</cp:revision>
  <dc:subject>Standard Dark Template</dc:subject>
  <dc:title>HP_TmpIt_dark_final</dc:title>
</cp:coreProperties>
</file>