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783B-AB82-43DE-8B9D-8669A3135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9600" y="40737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A206-AC1D-42B3-AFEA-F46F4AC9E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8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429E-20F1-48F7-A8F8-91A79AEEF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68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40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996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68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40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0A8F-72F5-4C77-B26D-F662584D9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Hv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28400" y="114120"/>
            <a:ext cx="7629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Hv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Hv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3638-9F5F-48B1-82AA-D62539C9C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38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99600" y="40737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38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968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940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996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968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940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C457-0701-45AC-9E90-4DAE59AE1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A6A0-24D4-4261-949F-D328502F8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4553-16C2-401E-926A-60FC8F2B0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28400" y="114120"/>
            <a:ext cx="7629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Hv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21E1-40C0-4F97-9DE8-7C34F61E7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7151-AE6C-4996-9C55-52CF11D68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8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8A6D-5439-42DB-BAA6-6CAA3BDB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A477-B643-4FA8-B8B4-772778FC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93640" y="6629040"/>
            <a:ext cx="146376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48589"/>
                </a:solidFill>
                <a:latin typeface="Futura B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93FB6-9748-4652-8FB7-4E5B2DACAF3D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1, 20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133720" y="6629040"/>
            <a:ext cx="487656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48589"/>
                </a:solidFill>
                <a:latin typeface="Futura B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48589"/>
                </a:solidFill>
                <a:latin typeface="Futura Bk"/>
              </a:rPr>
              <a:t>&lt;footer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229240" y="6629040"/>
            <a:ext cx="76212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48589"/>
                </a:solidFill>
                <a:latin typeface="Futura B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81613-8146-4818-84CA-B7C66FA3D457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71440"/>
            <a:ext cx="257040" cy="5686560"/>
          </a:xfrm>
          <a:prstGeom prst="rect">
            <a:avLst/>
          </a:prstGeom>
          <a:solidFill>
            <a:srgbClr val="0071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257040" cy="1114560"/>
          </a:xfrm>
          <a:prstGeom prst="rect">
            <a:avLst/>
          </a:prstGeom>
          <a:solidFill>
            <a:srgbClr val="0071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3" marL="125748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4" marL="16002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5" marL="16002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fffff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6" marL="16002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fffff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8221680" y="262080"/>
            <a:ext cx="776160" cy="60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426360" y="0"/>
            <a:ext cx="2717640" cy="6858000"/>
          </a:xfrm>
          <a:prstGeom prst="rect">
            <a:avLst/>
          </a:prstGeom>
          <a:solidFill>
            <a:srgbClr val="00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369120" cy="48099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41000" y="1063440"/>
            <a:ext cx="565164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 L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47" name=""/>
          <p:cNvSpPr/>
          <p:nvPr/>
        </p:nvSpPr>
        <p:spPr>
          <a:xfrm>
            <a:off x="465120" y="637704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utura Bk"/>
              </a:rPr>
              <a:t>© 2006 Hewlett-Packard Development Company, L.P.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Futura Bk"/>
              </a:rPr>
              <a:t>The information contained herein is subject to change without notice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389640" y="4097160"/>
            <a:ext cx="2486160" cy="1919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265800" y="4816440"/>
            <a:ext cx="1792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Hv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Futura Hv"/>
            </a:endParaRPr>
          </a:p>
          <a:p>
            <a:pPr lvl="1" marL="343080" indent="0" algn="ctr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685800" algn="ctr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3" marL="1028880" algn="ctr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Arial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4" marL="1371600" algn="ctr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5" marL="1371600">
              <a:spcBef>
                <a:spcPts val="499"/>
              </a:spcBef>
              <a:buClr>
                <a:srgbClr val="fffff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6" marL="1371600">
              <a:spcBef>
                <a:spcPts val="499"/>
              </a:spcBef>
              <a:buClr>
                <a:srgbClr val="fffff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hp.com/go/openvms/freeware" TargetMode="External"/><Relationship Id="rId2" Type="http://schemas.openxmlformats.org/officeDocument/2006/relationships/hyperlink" Target="http://www.hp.com/go/openvms/freeware" TargetMode="External"/><Relationship Id="rId3" Type="http://schemas.openxmlformats.org/officeDocument/2006/relationships/hyperlink" Target="http://www.digiater.nl/lddriver" TargetMode="External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hp.com/go/openvms/journal" TargetMode="External"/><Relationship Id="rId2" Type="http://schemas.openxmlformats.org/officeDocument/2006/relationships/hyperlink" Target="mailto:lddriver@hp.com" TargetMode="External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41000" y="1063440"/>
            <a:ext cx="565164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 Lt"/>
              </a:rPr>
              <a:t>Disk partitioning on VMS with LDdriver</a:t>
            </a:r>
            <a:br>
              <a:rPr sz="4400"/>
            </a:br>
            <a:br>
              <a:rPr sz="4400"/>
            </a:br>
            <a:r>
              <a:rPr b="0" lang="en-US" sz="3200" spc="-1" strike="noStrike">
                <a:solidFill>
                  <a:srgbClr val="ffffff"/>
                </a:solidFill>
                <a:latin typeface="Futura Lt"/>
              </a:rPr>
              <a:t>Session A311/A312</a:t>
            </a:r>
            <a:endParaRPr b="0" lang="en-US" sz="32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33080" y="5372280"/>
            <a:ext cx="4570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Hv"/>
              </a:rPr>
              <a:t>Jur van der Burg</a:t>
            </a:r>
            <a:endParaRPr b="0" lang="en-US" sz="2000" spc="-1" strike="noStrike">
              <a:solidFill>
                <a:srgbClr val="000000"/>
              </a:solidFill>
              <a:latin typeface="Futura Hv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Hv"/>
              </a:rPr>
              <a:t>HP OpenVMS Engineering</a:t>
            </a:r>
            <a:endParaRPr b="0" lang="en-US" sz="2000" spc="-1" strike="noStrike">
              <a:solidFill>
                <a:srgbClr val="000000"/>
              </a:solidFill>
              <a:latin typeface="Futura Hv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Hv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I/O tracing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Very powerful feature to see what’s happening on a low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an be viewed real-time (continuously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an be logged to disk (unattended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lexible selectable outpu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different time formats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different I/O status block formats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different I/O function code formats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3778-3505-4655-9D9C-D9F1EF46829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7B4DDA-0033-48EA-BE6F-AA0391395A9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I/O Tracing exampl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ld trace lda1: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.....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ld show/trace lda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I/O trace for device $7$LDA1: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6-APR-2006 22:18:36.28 on node LDDRVR::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Start Time Elaps  Pid      Lbn  Bytes Iosb  Function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--------------------------------------------------------------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65 00.00 09C00227 0    0     NORMAL PACKACK|INHERLOG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65 00.01 09C00227 1    512   NORMAL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66 00.00 09C00227 1034 512   NORMAL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67 00.00 09C00227 5002 512   NORMAL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68 00.00 09C00227 5002 512   NORMAL WRITE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69 00.00 09C00227 5003 1536  NORMAL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69 00.00 09C00227 5006 512   NORMAL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69 00.00 09C00227 5000 512   NORMAL READPBLK|EXFUNC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69 00.00 09C00227 0    0     NORMAL PACKACK|BYPASS_VALID_CH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70 00.00 09C00227 5016 512   NORMAL READPBLK|EXFUNC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70 00.00 09C00227 5023 1024  NORMAL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70 00.00 09C00227 5016 512   NORMAL WRITEPBLK|EXFUNC|DATACHEC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04A8-4153-409E-98A0-0B748DC4824C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D9BA67-FDB3-4735-8041-13C5AE25E3B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Watchpoint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4560" indent="-21456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 watchpoint is a special action performed when a targeted logical block is hit by a reques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4560" indent="-21456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se actions are possible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37120" indent="-2145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Return a specific error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37120" indent="-2145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Suspend the I/O request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37120" indent="-2145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Generate an Opcom messag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37120" indent="-2145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Crash the system (needs CMKRNL privilege)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14560" indent="-21456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user controls which LBN is watched, on which function code is acted, and which error is returne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4560" indent="-21456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‘Opcom’ action may be combined with other action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2C27-C8D3-4B66-AACE-A3AEBAEDA30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BD1D52-A5EE-4FD4-B87D-E9D284F44F8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Watchpoint exampl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ld watch lda1 1/action=error=2928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ld watch lda1 1/action=opcom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ld show/watch lda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Index LBN     Action     Function         Error return code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--------------------------------------------------------------------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1        1  Opcom    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        1  Error     READPBLK             0B70 (FISH)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dump lda1:/block=(count=1,start=1)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%%%%%%%%%%  OPCOM   5-APR-2006 14:21:46.70  %%%%%%%%%%%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Message from user VDBURG on LDDRVR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***** LDdriver detected LBN watchpoint access *****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PID:      26000224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Image:    DUMP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evice:   $7$LDA1: (LDDRVR)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Function: 000C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LBN:      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DUMP-E-READERR, error reading LDA1: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-SYSTEM-W-FISH, my hovercraft is full of eels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26D2-69B9-485F-BDFD-878A1F229CC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E5350B-45AA-4851-844B-CA3B05A7D2A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Callable interfac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driver is controlled by a user mode program issuing normal QIO request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required function codes and definitions are available in the kit, and in VMS since V8.2-1 ($LDDEF or lddef.h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driver is doing very strong validity checks of all requests (You can’t shoot yourself in the foot (if you can, I apologize, please let me know how you did it)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FC6B-3AA1-4EB9-8995-00FC29BCF00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1E0556-0EDE-4FB3-97DF-4BAAE5789FE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imit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reate as many devices as your diskspace allow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1400" indent="-22140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reation of any device takes BYTLM quota from the creating proces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1400" indent="-22140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tracebuffer as well as watchpoints come out of non-paged pool and are charged against BYTLM as wel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1400" indent="-22140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If 9999 LD devices are not enough then you can create LD devices on other controllers, like LDB1:, LDC1:, etc.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1400" indent="-22140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onfigure the driver with @SYS$STARTUP:LD$STARTUP x where x is the controller to use.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323F-FFF3-47F9-A6F7-9B8C542FF05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A805B5-8DD6-49F8-88F4-C1B424E58D7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New development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V8.1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608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-226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LD CREATE/EXTEND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Allows extension of existing container file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Expand volume with SET VOLUME/SIZE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-226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LD CONNECT/NOFORCED_ERROR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Prevent handling of forced errors with shadowing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-226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Bug fixes: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Fix possible system crash in I/O completion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Fix I/O hang with host-based raid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Fix mount verification issues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2E84-E9D5-4A57-BB74-8728E6B1CA5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C24A4E-CA1F-43EC-B8C2-744079F8275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New development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V8.2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LD V8.2 has no new features when compared to V8.1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t is only a bug fix release.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Properly expel shadowset members on error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Reconnecting an LD device could fail the first time after reboot if the container file was used on another node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Allow container file on an NFS mounted ODS5 volume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Prevent system crash on reconnecting a container file in a cluster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743C-ECE3-4872-8341-B4A89AEF34B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9FEA0F-395B-4107-AFD0-A9C68E11A31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New developments - cont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7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V9.0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380880" indent="0">
              <a:lnSpc>
                <a:spcPct val="70000"/>
              </a:lnSpc>
              <a:spcBef>
                <a:spcPts val="11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-342720">
              <a:lnSpc>
                <a:spcPct val="7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LD CREATE/ERASE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90720" indent="0">
              <a:lnSpc>
                <a:spcPct val="7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Erase container file on creation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90720" indent="0">
              <a:lnSpc>
                <a:spcPct val="7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-342720">
              <a:lnSpc>
                <a:spcPct val="7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More accurate timing in trace records (starting with VMS V8.3)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$ ld show/trace lda1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I/O trace for device $9$LDA1: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17-MAY-2006 09:21:15.16 on node THEBAT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End Time           Elaps    Pid       Lbn     Bytes  Iosb    Function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---------------------------------------------------------------------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09:21:12.232269 00.000000 2060042F          0      0 NORMAL  PACKACK|INHERLOG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09:21:12.240950 00.008581 2060042F          1    512 NORMAL  READPBLK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09:21:12.247513 00.006426 2060042F       1034    512 NORMAL  READPBLK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09:21:12.248595 00.000959 2060042F      50033    512 NORMAL  READPBLK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09:21:12.249557 00.000838 2060042F      50034    512 NORMAL  READPBLK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09:21:12.255176 00.005504 2060042F      50016    512 NORMAL  READPBLK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09:21:12.263548 00.008258 2060042F      50016    512 NORMAL  WRITEPBLK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380880" indent="0">
              <a:lnSpc>
                <a:spcPct val="70000"/>
              </a:lnSpc>
              <a:spcBef>
                <a:spcPts val="751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380880" indent="0">
              <a:lnSpc>
                <a:spcPct val="70000"/>
              </a:lnSpc>
              <a:spcBef>
                <a:spcPts val="751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DD83-24CA-48F6-8214-B3F1BD98815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987F42-A191-49B3-90D7-E92CDB4FE87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New developments – Tape emulation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Emulate tape device (not yet finished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Device is called ‘LM’ (Logical Magtape)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Uses the same driver as LD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$ lm create tape1/siz=10000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$ lm connect tape1 lma1/log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%LD-I-CONNECTED, Connected $9$LMA1: to $9$DKA100:[LD]TAPE1.DSK;1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$ show dev/fu lma1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Magtape $9$LMA1: (THEBAT), device type (Generic SCSI tape), is online, file-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oriented device.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Error count                    0    Operations completed                  2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Owner process                 ""    Owner UIC                         [JUR]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Owner process ID        00000000    Dev Prot            S:RWPL,O:RWPL,G:R,W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Reference count                0    Default buffer size                2048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Density                     6666    Format                        Normal-11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Allocation class              12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Volume status:  no-unload on dismount, odd parity.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6A86-8D04-421E-88E5-8F59B758905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6DB747-4632-4BEB-865C-028A7451EB2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driver: What can it do?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 a file on any disk as a disk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 a range of logical blocks on a disk as a new disk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Investigate I/O behavior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est application error handling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Play around with disks without doing damag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Emulate a magtape (future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reate havoc (with privileges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D36C-C8E7-4831-8A34-FBF7F73C6E8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3D9782-0E84-42AD-8705-C9BEFB1F125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New developments – Tape emulation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7168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$ lm trace lma1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$ mount/for lma1: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%MOUNT-I-MOUNTED,  mounted on _$9$LMA1: (THEBAT)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$ dismount lma1: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$ lm show/trace lma1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 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I/O trace for device $9$LMA1: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17-MAY-2006 09:25:49.65 on node THEBAT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End Time           Elaps    Pid       Lbn     Bytes  Iosb    Function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---------------------------------------------------------------------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09:24:12.914151 00.000000 000000A9          0      0 NORMAL  PACKACK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09:24:12.914153 00.000000 000000A9          0      0 NORMAL  REWIND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09:24:12.914157 00.000000 000000A9          0      0 NORMAL  PACKACK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09:24:12.914159 00.000000 000000A9          0      0 NORMAL  REWIND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09:24:12.914161 00.000000 000000A9          0     80 ILLBLKNUM READPBLK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09:24:12.914163 00.000000 000000A9          0      0 NORMAL  REWIND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09:24:12.980426 00.000000 000000A9          0      0 NORMAL  UNLOAD|CLSEREXCP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09:24:12.980427 00.000000 000000A9          0      0 NORMAL  AVAILABLE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1BF5-D30F-4FAD-913F-F4660E43618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DB53EB-E370-4268-9E1F-C2A9A266E13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Internals – connecting a container fil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most tricky part is connecting an LD device to a container fil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-2260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Container file physical device must be a mounted disk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-2260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t must contain a known file system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-2260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File must be mapped with cathedral windows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-2260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Caching must be disabled for this fil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-2260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Check for usage on other cluster members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File ID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Allocation class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Device name / controller letter / unit number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Geometry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Maximum block size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Sharing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Mode of connection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6080" indent="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DF66-AD3A-4600-90B4-6D7B5D03A99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C9A2B6-7E59-49E7-982A-AAC16A3AD09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Internals – connecting a disk by LBN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onnecting part of a disk by LBN range needs other check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Physical device may not be mounted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t may not be accessed on any other nod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The logical block range must fit and may not be in use anywhere in the cluster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The exception is that parts that match exactly may be shared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After connecting the physical device is guarded against access with a lock which prevents mounting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F4E4-74FA-4FBA-81E0-2E28D3D2AFD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A811E2-04A3-474A-B0DB-F4CB6943860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Internals – checking LBN range (1)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When connecting a part of a physical disk we need to check availability of the logical blocks, clusterwid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We can’s take out a lock based on a resource name with the encoded range as we don’t know what’s used on other nodes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We don’t want to invoke a helper process – driver check only!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We can’t store all ranges in a valueblock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So we use the lockmanager in a smart way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A60E-ADD8-4757-AB2C-6FC98B198B9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9CF6DF-B966-46B7-AA6C-496F959C867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Internals – checking LBN range (2)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t connection time the block range we want is entered in a lock value block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By taking out a lock a blocking AST routine is fired on other nodes with interest in the same devic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The blocking routine scans all local LD devices for a matching devic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f found the LBN range is checked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n case of an error a bit is set in the lock value block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After lock conversion the initiator examines the error bit and rejects the request if set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DBA5-52BD-4CB9-9C12-53DDDF38B11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DB0F66-081D-4FB8-B7CA-2C3357737DB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Internals – Finding an I/O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driver sends most I/O requests it receives directly to the physical disk driver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is may happen for multiple file segments in parall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is can make it harder to find an active I/O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RP’s forwarded to the physical disk can be found in the LDIOB structur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LDdriver’s structure definitions can be found in SYS$LDDRIVER.STB (only after installing the LD kit)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5E01-BB3C-44B1-ADE9-95F329B3142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111868-5F4C-4E59-9759-4C003CB8186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8400" y="-417960"/>
            <a:ext cx="7629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9600" y="101160"/>
            <a:ext cx="8272440" cy="63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SDA&gt; read/exec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SDA&gt; show device lda2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...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SDA&gt; format/typ=ldiob @(ucb+ucb$l_ld_aiofl)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40   LDIOB$L_QFL                              81DD9800    UCB+002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44   LDIOB$L_QBL                     81DD9800             UCB+002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48   LDIOB$W_SIZE                                 008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4A   LDIOB$B_TYPE                               13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4B   LDIOB$B_SPARE                            53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4C   LDIOB$L_IRP                     81DB178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50   LDIOB$L_PID                              0001002B    LNM$C_DEL_OVERLAY+00027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54   LDIOB$L_MEDIA                   000000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58   LDIOB$L_BCNT                             000002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5C   LDIOB$W_FUNC                        000C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5E   LDIOB$W_IOST                    0001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60   LDIOB$Q_STAT                    00000000.000000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68   LDIOB$Q_ST_TIME                 00000000.000000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70   LDIOB$Q_EN_TIME                 000000A8.00010025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78   LDIOB$Q_ST_SCC                  00000000.1C10E15D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80   LDIOB$Q_EN_SCC                  44070017.34465003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88   LDIOB$L_ST_CPU                           000000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8C   LDIOB$L_EN_CPU                  000000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90   LDIOB$L_ELAPSED                          000000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                    </a:t>
            </a: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LDIOB$Q_ELAPSED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94                                   000000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98   LDIOB$Q_ST_USEC                 613D6500.746C7561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A0   LDIOB$Q_EN_USEC                 2F657461.642F6C6C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A8   LDIOB$L_ABCNT                            00000000</a:t>
            </a: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Number of bytes transferred so far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AC   LDIOB$L_KPB                     81C5C9C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B0   LDIOB$L_FWDQFL                           81DC0878</a:t>
            </a: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Queue of forwared IRP's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B4   LDIOB$L_FWDQBL                  81DC0878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B8   LDIOB$W_IRPCNT                               0001</a:t>
            </a: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Number of active forwarded IRP's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BA   LDIOB$W_FLAGS                            00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SDA&gt; format @(@(ucb+ucb$l_ld_aiofl)+ldiob$l_fwdqfl)-irp$l_ld_fwdqfl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C0640   IRP$L_IOQFL                              81DC5BA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C0644   IRP$L_IOQBL                     81DC5BA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C0648   IRP$W_SIZE                                   024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C064A   IRP$B_TYPE                                 0A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C064B   IRP$B_RMOD                               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C064C   IRP$L_PID                       81B278F0             SYS$LDDRIVER+118F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...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3E49-9D9E-41F2-AB99-3F820E99823D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C01FD7-A3FB-4878-8BB6-8E24EDF50F1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Which VMS versions?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Runs on VAX/VMS since V5.5-2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lpha V6.1 and higher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IA64 V8.2 and higher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current kit is HP-VMS-LD-V0802--1.PCSI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Installs on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VAX V7.3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lpha V7.2-2 V7.3 V7.3-1 V7.3-2 V8.2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Ia64 V8.2 V8.2-1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3339-5AE4-4512-9393-CB07E8FB14A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EA0780-6C97-4B8F-BC02-D92BFC6D240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Other version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Other versions may work too, but the driver and utility needs to be built from source (included in the kit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Build procedure is include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 compiler require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Driver may need an edit for specific versions (enable / disable a conditional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V9.0 will NOT run on VAX!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V8.2 is integrated in the VMS V8.3 releas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2A53-B19D-47B8-90C7-0CFBD6E98A0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9134E8-395C-4F18-86C2-D6968B100BC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Known issue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V8.2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f the XFC cache is turned off (VCC_FLAGS != 2) then connecting a file will return this error: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utura Bk"/>
              </a:rPr>
              <a:t>%LD-F-BLKOUTOFRANGE, Blocks out of range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This problem is corrected in VMS V8.3 and the future LD V9.0 kit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98A1-8EA8-473B-B7E8-6995F2D82C3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2B7AC6-FC73-4F10-8813-BE31056AB0D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Where can I find it?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On the OpenVMS freeware websit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 algn="just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b5f01"/>
                </a:solidFill>
                <a:uFillTx/>
                <a:latin typeface="Futura Bk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eb5f01"/>
                </a:solidFill>
                <a:uFillTx/>
                <a:latin typeface="Futura Bk"/>
                <a:hlinkClick r:id="rId2"/>
              </a:rPr>
              <a:t>www.hp.com/go/openvms/freeware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 algn="just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On the main lddriver sit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751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    </a:t>
            </a:r>
            <a:r>
              <a:rPr b="0" lang="en-US" sz="2000" spc="-1" strike="noStrike" u="sng">
                <a:solidFill>
                  <a:srgbClr val="eb5f01"/>
                </a:solidFill>
                <a:uFillTx/>
                <a:latin typeface="Futura Bk"/>
                <a:hlinkClick r:id="rId3"/>
              </a:rPr>
              <a:t>http://www.digiater.nl/lddriver</a:t>
            </a: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 (under construction)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751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Integrated in VMS since V7.3-1(sort of....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ully integrated in VMS V8.2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298E-A2AD-43A1-ACC0-629D9A5C12A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41D028-D8E7-4630-8AB8-4DFF6FD750B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Internal usag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Heavily used for testing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d in the VMS buil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d by the host-based Infoserver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d by CDRECOR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5E83-E7C2-4654-8E46-2CBB75778F59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703DEB-4D9C-45D9-8B54-F4F5299F1CA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Future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Bug fixes (if any....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You name it.... suggestions are welcome (buy me a beer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DE26-6E07-4456-91A0-13DE49BC914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3EB665-BEB9-4E07-BF83-F7C2CB34B61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More information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DRIVER article in the HP technical journa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b5f01"/>
                </a:solidFill>
                <a:uFillTx/>
                <a:latin typeface="Futura Bk"/>
                <a:hlinkClick r:id="rId1"/>
              </a:rPr>
              <a:t>http://www.hp.com/go/openvms/journal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fter installation: $ LD HELP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Questions / Bugs / Ideas?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Email: </a:t>
            </a:r>
            <a:r>
              <a:rPr b="0" lang="en-US" sz="2400" spc="-1" strike="noStrike" u="sng">
                <a:solidFill>
                  <a:srgbClr val="eb5f01"/>
                </a:solidFill>
                <a:uFillTx/>
                <a:latin typeface="Futura Bk"/>
                <a:hlinkClick r:id="rId2"/>
              </a:rPr>
              <a:t>lddriver@digiater.nl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9C5E-F13B-4D28-8B3A-D6C320C9471E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DDDE9B-AE89-467E-882B-E81D2973474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5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007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3" name="" descr=""/>
            <p:cNvPicPr/>
            <p:nvPr/>
          </p:nvPicPr>
          <p:blipFill>
            <a:blip r:embed="rId1"/>
            <a:stretch/>
          </p:blipFill>
          <p:spPr>
            <a:xfrm>
              <a:off x="7120080" y="5126040"/>
              <a:ext cx="1773000" cy="1397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DD3C-87CF-4B31-8A54-463260E3C413}" type="slidenum">
              <a:t>3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7D0652-CCF4-4262-BD87-704CAAA5CF4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FILE.COM</a:t>
            </a: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reate disk1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disk1.dsk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r lda1:[000000]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/rese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elete disk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BB7E-FDE7-40BA-8D3A-7B7649A0AC45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5D9024-D82B-499A-97E4-D0539E33D7B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FILE_SHARE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f f$search("disk1.dsk") .eqs. "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then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ld create disk1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ld connect disk1.dsk lda1:/share/alloclass=4/log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ini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els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ld connect disk1.dsk lda1:/share/alloclass=4/log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endif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/system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/log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f f$search("disk1.dsk") .nes. "" then delete disk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2A14-438F-45A3-A6E1-01427E763AC3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5D17B0-E714-481E-AB67-450FAC33704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FILE_SHARE_LOCK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f f$search("disk1.dsk") .eqs. "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then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ld create disk1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ld connect disk1.dsk lda1:/share/alloclass=4/log/lock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ini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els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ld connect disk1.dsk lda1:/share/alloclass=4/log/lock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endif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/system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/log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f f$search("disk1.dsk") .nes. "" then delete disk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3B50-56CF-410B-BD01-1A9ECB094448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0258E9-78A3-432C-8D66-88B0AEFA8FA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FILE_TRACE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on control_y then goto exi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reate disk1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disk1.dsk lda1:/log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loop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r lda1:[000000]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wait 0:0:5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analyze/disk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wait 0:0:5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goto loop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exit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et noon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/stop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elete disk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4FA7-CFED-4431-8E2E-780242A3D397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064E80-648A-47F3-AA38-D5A4F332B09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FILE_SHADOW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reate disk1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reate disk2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disk1.dsk lda1:/log/alloclass=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disk2.dsk lda2:/log/alloclass=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dsa0:/shadow=($4$lda1:,$4$lda2:)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/rese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/reset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shadow/copy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dsa0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elete disk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elete disk2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CB18-4CE9-4EDB-8169-479D457247F8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3E3C33-7AF3-4156-AB34-5A6CBA37018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LBN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phdev := $9$dka400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1:/log/lbn=(start=0,count=10000)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2:/log/lbn=(start=10000,count=10000)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3:/log/lbn=(start=20000,count=10000)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4:/log/lbn=(start=30000,count=10000)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1: test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2: test2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3: test3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4: test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1: test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2: test2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3: test3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4: test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2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3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3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4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/log/all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CCEF-71DA-4024-8541-312EE0717934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C70003-AC26-43E0-9460-661E77CBE7C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Preparation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Ready for use after @SYS$STARTUP:LD$STARTUP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ny command that needs the driver will give an error if not started properly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utura Bk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Futura Bk"/>
              </a:rPr>
              <a:t>$ LD CONNECT FILE.DSK LDA1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utura Bk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Futura Bk"/>
              </a:rPr>
              <a:t>%LD-F-INVOKESTARTUP, LD has not been setup correctly, invoke @SYS$STARTUP:LD$STARTUP.COM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Exceptions are LD HELP and LD CREAT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Version can be obtained like this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utura Bk"/>
              </a:rPr>
              <a:t>$ LD VERSION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utura Bk"/>
              </a:rPr>
              <a:t>%LD-I-VERSION, LD version V9.0, module X-9 built on May 17 2006 09:01:31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utura Bk"/>
              </a:rPr>
              <a:t>-LD-I-DRIVERVERSION, Driver version: 17-MAY-2006 09:02:10.86 (MON version)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utura Bk"/>
              </a:rPr>
              <a:t>-LD-I-SYSINFO, Node: THEBAT, Hardware: hp AlphaServer DS20L 833 MHz, VMS version: XB9P-BL2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50C7-1463-447E-B753-DDDD520D3EA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44894C-A35D-4D6F-867A-3F3FFB8AE25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LBN_SHARE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phdev := $9$dka400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1:/log/lbn=(start=0,count=10000)/share/alloclass=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2:/log/lbn=(start=10000,count=10000)/share/alloclass=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3:/log/lbn=(start=20000,count=10000)/share/alloclass=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4:/log/lbn=(start=30000,count=10000)/share/alloclass=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/system lda1: test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/system lda2: test2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/system lda3: test3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/system lda4: test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2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3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3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4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/log/all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FD38-FA33-42EE-9FBC-C4A61D5F6A18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8FC3B5-4DE6-4EFC-908D-7835CB8D28B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REPLACE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phdev := $9$dka400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1:/log/replac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1: test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1: test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/full lda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/full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/log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FD23-010A-4886-ACED-C84487E90B37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85B44F-B90A-42EA-80BB-FDD61BCCC82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MOUNTVER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reate disk1.dsk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/log/symbol disk1.dsk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/nohigh/system lda'ld_unit'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'ld_unit'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watch lda'ld_unit': 1/action=error=%x84/function=code=%x0808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watch lda'ld_unit': 10/action=error=%x84/function=read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watch lda'ld_unit': 10/action=opcom/function=read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watch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reply/enable/temp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pawn/nowait/input=nl: dump lda'ld_unit':/block=(start=10,count=1)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nowatch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reply/disabl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wait 0:0: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et noon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/stop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elete/nolog/noconf disk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9936-9AFB-46E3-A37C-1164EB84EEAC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D4360E-E330-403C-BCCF-E69B25AC4F3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Basics – File mod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 a file as a disk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6080" indent="-22608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reate a file on a physical disk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REATE DKA100:[LD]DISK/SIZE=10000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226080" indent="-22608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onnect the file to a device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ONNECT DKA100:[LD]DISK LDA1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226080" indent="-22608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 it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INIT LDA1: LDDISK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MOUNT LDA1: LDDISK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.....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DISMOUNT LDA1: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marL="226080" indent="-22608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Disconnect the file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DISCONNECT LDA1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F2CD-FE10-4AA8-B68F-DA643B43B15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33DC31-7FD3-48D7-9CA7-BF995CD2B5A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Basics – LBN mod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 a range of logical blocks as a disk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Physical disk may not be used by anything else 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onnect a range of logical blocks to a disk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ONNECT DKA100:/LBN=(START=0,END=9999) LDA1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ONNECT DKA100:/LBN=(START=10000,END=19999) LDA2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ONNECT DKA100:/LBN=(START=20000,END=29999) LDA3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onnect using a size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ONNECT DKA100:/LBN=(START=0,SIZE=10000) LDA1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ONNECT DKA100:/LBN=(START=10000,SIZE=10000) LDA2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ONNECT DKA100:/LBN=(START=20000,SIZE=10000) LDA3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7209-D65E-42CF-98BC-8BE7C13076B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1C5341-302D-4145-84A0-A56C3E14101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Basics – Replace mod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ccess another disk via an LD devic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Not a real form of partitioning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ful for I/O tracing and watchpoint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Physical disk may not be used by anything els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onnect and replace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ONNECT DKA100:/REPLACE LDA1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B4DE-BFDA-4AF5-91EF-2E87B9E40CF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96E3B9-53AE-4E4A-A26C-024D38DE414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Advanced us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haring of LD devices in a cluster is possibl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devices itself are not MSCP-serve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or shared use the physical devices where the container file resides must be MSCP serve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hadowing host-based raid disk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devices may be nested, i.e. you can create an LD disk on an LD disk on an LD disk etc.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6595-9745-4916-A913-61AE5E94D97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30BC28-06F9-441B-8061-A2B19D5F5BE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Sharing LD device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devices must be connected the same way on multiple nodes to allow sharing of  container file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is means the same device name, allocation class, geometry, filename, etc.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ny mismatch will be detected by the driver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utility attempts to give the reason for the failur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utura Bk"/>
              </a:rPr>
              <a:t>$ ld connect $1$dga1: lda3:/lbn=(start=600,end=2000)/log/share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utura Bk"/>
              </a:rPr>
              <a:t>%LD-F-DEVICEINUSE, Device incompatible connected to other LD disk in cluster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utura Bk"/>
              </a:rPr>
              <a:t>-LD-F-RANGEINUSE, LBN range already in use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B938-239D-41AA-BB97-37FBBD3E346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E4EC1C-A8A4-414C-A604-905A9DF8008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9:03:39Z</dcterms:created>
  <dc:creator>Duarte Design, Inc</dc:creator>
  <dc:description>The dark template was designed for PowerPoint  98 through 2000</dc:description>
  <cp:keywords>Dark Template</cp:keywords>
  <dc:language>en-US</dc:language>
  <cp:lastModifiedBy>Jur van der Burg</cp:lastModifiedBy>
  <dcterms:modified xsi:type="dcterms:W3CDTF">2006-05-22T11:41:25Z</dcterms:modified>
  <cp:revision>79</cp:revision>
  <dc:subject>Standard Dark Template</dc:subject>
  <dc:title>HP_TmpIt_dark_final</dc:title>
</cp:coreProperties>
</file>