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906280" y="225360"/>
            <a:ext cx="3645000" cy="27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hdr"/>
          </p:nvPr>
        </p:nvSpPr>
        <p:spPr>
          <a:xfrm>
            <a:off x="28368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Presentation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275760" y="8918640"/>
            <a:ext cx="5807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6206760" y="892944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116B-2B73-4483-9233-B43312FA3FF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8C42-DDB6-4502-8233-319500B3324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C09B-1F99-4981-88D1-091251BAE4A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3B05-32F7-487C-9C52-9ECC9D5F5E5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7A4E-4CE6-4012-B97E-268BF1272C7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132-1CBE-4343-A667-96D43F0C947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DA81-AB30-4963-99E3-1FFA1C959DA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E7CA-6FB2-40F0-9EE4-531AA05490C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8490-A518-4288-A6D4-D681DF03275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7A85-8A33-4C6D-812F-11B77061B6B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7997-8707-476C-AA6B-7A2EE24E1BD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22D2-5D77-46DB-8181-08DCE2A1FC2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6520-C65D-47C3-A788-A2E6C959B04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775-A3C8-443B-B9AB-6B584F04AD1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F355-843E-4B29-A698-13BDA4BACF6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6330-C538-49E6-99AE-A70F936245E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844A-6B53-476D-97DF-8D0E1B7F3DB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FEA0-D2D6-49EC-8CBD-B27F4A4692E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7CE8-683E-4DA0-85FF-BBE6883A70D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1152-809B-4EC8-A10C-CC4F2D36585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E7A2-765D-443D-8BAD-B40E1975B26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1D61-3284-42DD-95D0-542906BAFB9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957-1987-49FF-AF8C-5C8B7579F04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283B-052D-4D65-8DEF-748B9EC51F6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51E4-A3D6-451E-8A81-7EA49C0BBED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14560" y="260280"/>
            <a:ext cx="3646440" cy="2735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50560" y="3200040"/>
            <a:ext cx="613548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2550-0D30-41AE-ADEA-63FA370C52B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C813-9BB8-4F3B-94A7-E1E4AAD94F1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E877-1B79-4913-A96E-588E41555B7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E633-D0DD-4087-B5B8-AA1193C3A78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550E-01FD-4CED-ABDD-EFAD99CD210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1D3-3E98-40E6-A71A-93D17893008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E48E-0E25-4921-B955-3A409AC5D53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2924-4948-4CFF-A4E9-9E526A96647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2CC-C951-444C-83BD-5B18FC9C171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3E4A-CC12-4C7D-A3EF-4D23030A7F1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39FD-D24D-44E1-BA90-00F618D9375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5AED-8C07-4D1A-9F86-38CA03E0B0E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3EE4-06DA-43DD-9889-DC85706C43B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C487-934E-4F2E-BE08-F9361868E77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12E8-9E32-4A46-B141-590871B93DE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5E1C-8800-4065-B94A-0AB5E9DA1E1E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80E-5362-4FC5-B8B6-2946EA13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354-48A2-4AEC-B64E-B4AAA927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2A0-981B-4571-AAE1-D15A9E0F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91D-E52D-458F-8047-39B6E6B2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67E-877F-4072-97C8-71400559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A4B-D405-4BFE-8016-2B5D1ABD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90E-6B3F-43EF-9181-3E991EBC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E78-E958-457D-9E68-133CF382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2F2-4968-4D23-9BF9-FD79582B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51E-88F4-4454-B7C4-F5E7579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8C1-2059-403C-96B4-5F55AA8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8FA-9990-46DD-B0D3-7E7510FE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3885-10CD-4994-B0D0-35566447BD02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936B-9B20-4CD9-9153-E316BE5E3B27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7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downloads" TargetMode="External"/><Relationship Id="rId3" Type="http://schemas.openxmlformats.org/officeDocument/2006/relationships/hyperlink" Target="http://www.hp.com/go/openvms/freewar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LDdriver V9.0: Tapes in disguise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Advanced Technical Bootca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May 2007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digiater.n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92" name="Picture 6" descr="D:\Jur\Digiater.nl-2.jpg"/>
          <p:cNvPicPr/>
          <p:nvPr/>
        </p:nvPicPr>
        <p:blipFill>
          <a:blip r:embed="rId1"/>
          <a:stretch/>
        </p:blipFill>
        <p:spPr>
          <a:xfrm>
            <a:off x="6440400" y="0"/>
            <a:ext cx="27036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cre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LM CREATE instead of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adds metadata to the container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t needed for correct operation right now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ill be needed in the future for fast ski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tadata can be initialized later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Original file contents will be preserved as the metadata space will always be reserv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nitialize later on with LM CONNECT/INI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will not be done by default as it would overwrite the first block of a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hat if you would connect the wrong file by mistake?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632E-2502-4101-BE49-FA2F42FE339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A658-247F-4C58-8FF5-771C8BA0745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metadata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rocess name:            SysDamag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Account:                 SYSTEM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creation:         8-MAY-2007 20:50:19.90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connect:     8-MAY-2007 20:50:25.4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disconnect:  8-MAY-2007 20:53:23.54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ize:               999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hecksum:                A7C35A3F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53DC-B173-4AAA-994A-BC6E0218921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0B4-A4B1-40CF-978C-6D497714363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reate tape.dsk/size=1000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onnect/log tape.dsk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CONNECTED, Connected $3$LMA1: to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: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backup sys$sysroot:[syshlp.examples.ld]*.* lma1:test/verif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BACKUP-I-STARTVERIFY, starting verification pass at 17-MAY-2007 11:14:07.7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disconnect lma1:/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DISCONNECTED, Disconnected $3$LMA1: from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8DFD-B27C-44AF-9402-F704F9BCACA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79D0-71A3-4478-A9D0-3290451DE6E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ows loading a new container file as soon as backup runs out of spa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anual load/unloa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UN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step approach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s will automatically unload the old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oad existing file if the unit is unloaded (for example, $ DISMOUNT/UNLOA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855D-7C84-43EE-A216-2958FCC93A3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DF47-0AB8-495A-9A3B-777CA9E4BC5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ape will initially be loa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connect tape lma1/full/log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mount/for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MOUNT-I-MOUNTED, TEST mounted on _$2$LMA1: (THEBAT)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dismount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show  lma1/full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</a:t>
            </a:r>
            <a:r>
              <a:rPr b="0" lang="en-US" sz="1600" spc="-1" strike="noStrike">
                <a:solidFill>
                  <a:srgbClr val="ff0000"/>
                </a:solidFill>
                <a:latin typeface="Lucida Console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ehavior is just like a real tape un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FCDC-4373-4EDB-A4E9-11BDD2ED90A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1038-2FD8-4C1A-9D78-D2CEA51100A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is possible to create a tape device without an attached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$ lm connect lma2/noload/log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%LM-W-NOTCONNECTED, Device $2$LMA2: is not connect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-LM-I-OPTIONS, Not Forced Error capable, Tape unit, Tape unload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43E6-3025-43ED-9696-748670893A3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AD3A-D5D9-4566-BE1B-3BA320B1FC2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to or from disk on behalf of the driver is not logged by defaul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be enabled with LM TRACE/A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will show up in trace data with a PID field of zer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k requests are subject to segmentation dictated by the maximum transfer size of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8989-AF34-4391-BD35-E8F5769E58D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5957-2F49-45F3-A943-D562F9932CA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trace lma1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/a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moun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8-MAY-2007 20:51:59.14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071 00.000005 2020042F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33 00.000000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74 00.000001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4598 00.014676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 1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6553 00.00191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257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76429 00.009853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513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08 00.01035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769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37 00.036922 2020042F          0     80 OPINCOMPL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04 00.000001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45 00.000000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CD25-889C-4D8A-AC9F-1E32330B640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606A-E438-493E-90D0-0BD290A703C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ANALYZE file.dsk [/RECORDS] [/DATA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ill detect container file issu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rmally not needed by end us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rocess name:            Jur van der BU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ccoun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creation:        15-MAY-2007 20:13:21.3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connect:    15-MAY-2007 20:50:13.2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disconnect: 15-MAY-2007 20:50:26.7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ize:               99999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hecksum:                C26E593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Bytes read:         4928307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Records read:           596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bytes read:     4880014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Eof count:                 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D066-A094-4D9C-9C19-DA1B21AD481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0A15-ABB2-46C9-B768-2300CC0EAEA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layou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disk it’s easy: ODS2 or ODS5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tape it’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Header record layou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CNUM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OFFSET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LAGS           structure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            address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railer record layou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tecount in trailer record facilitates reverse ski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CEF7-CF91-49B9-BAF7-E2C160AAE90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1AD3-C370-421E-9081-77E2B6920CC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93F3-6254-46D7-9187-BFCAE35710E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AD65-D109-4CC3-9ED6-8662CB27C49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or tape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ig issue: writing sequential variable records to a block structured medium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ing required for efficiency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ffer management is comple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uffer manager is a sort of ‘Kernel mode RMS’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ust be able to seek to any posi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 manipulation must be done from system contex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 usermode or process availab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copies needed from/to user buffer to driver buffer by double mapp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26C-C1CF-433F-A6C2-D53FB053E9E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886E-7607-4858-8F9C-F78E925D4A0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 is fixed 512Kb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cated from nonpaged pool for every un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efficient way to handl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driver for LD and LM devices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river is still named SYS$LDDRIVER.EX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device name during driver connect will determine if it’s a disk or a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asy driver maintenance (one source fil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an old LDdriver is active when installing LD V9.0 then LM can not be used before the system has been reboo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4DE2-4732-4BC5-913C-E7BD50EE51F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6E8-1496-473D-BD14-D68E2ABA014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B1A5-CDB6-4E7B-B56F-4E3D71F5FCA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7E9F-3F1D-4724-A830-53D6E34FD20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devices can not be sha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nd of data is currently fixed at 95% of the container file siz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n-foreign (Files-11) mounted tapes may not handle certain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VMS I/O subsystem enforces a minimum record size of 14 bytes for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pying .OBJ files or other types may give SS$_BADATTRIB erro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al tape devices behave the sam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7095-39C4-4C18-87F9-37BDE5972F4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DF3D-F2F8-4A90-B8E1-F8611E356FF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32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atchpoints are not supported on virtual tap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 is the last release supporting VA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oo much 64-bit stuff need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imited interest in new featur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problem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witching volumes on Files-11 mounted tape may give error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SHOW/TRACE/CONTINUOUS may cause invalid data to be written to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ing in trace data may we way off if a cpu has been stopped and restart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orkaround is to disconnect and reconnect the LM or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B2E4-2CE6-47B8-A217-23195D4F2E0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EAF5-3B9A-48A8-88A2-3A1D8DA6607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8B19-3319-4B6A-A3A4-74DA57E6CD2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DD4B-B674-4D6D-9C14-EB6D7BC58BD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31B0-4847-45A7-BC4D-F965B5F3DE9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E0D0-EE69-45FF-BF24-5CD670EF389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3 has no new features when compared to V8.2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 (and what a bug!)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f a container file resides on a volumeset then reads and writes are always directed to the member of the set where the first blocks of the file are loca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o if data would need to go to another member it would go to this me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uess what the result will b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s present in V9.0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blem was introduced in LD V8.0, on Alpha, IA64 and VAX, and is also present in LD V8.1 and LD V8.2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2 is not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3 is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ext VMS release after VMS V8.3 will have the fix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600" y="145548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utomatic volume switch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UTOSWITCH file1,file2,… LMAx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itates a stack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chanism to automatically create new container fi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ast 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ready partly implemented but not finished in V9.0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ensity selec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ight be limited in us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llback to applications on certain driver conditions (via AST’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1F34-A29E-4778-9EDD-829C6909380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D34A-25FA-454F-AB0E-3B1BA206D0B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mpaction may be possible now that we can handle variable length recor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ight be used for Logical Disks as well (data compression on virtual disks!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ney might speed up things considerab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1D7E-8C18-4591-BA3F-81B037DC3F2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4A9C-AD2A-462C-973E-5F89B5AADC6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6E0E-035C-4CC2-AF98-BB6FE5B01F3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91FB-1F29-496C-B716-C53DECFF1C6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websit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 article from the HP technical 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ld present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2039-F29E-41C0-B2EA-102A7B37155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02ED-049F-45F0-AEB9-648DF092AD1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V8.3 will remain available as it is the last release that supports VAX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ay not be the latest vers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Digiater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EC1-1450-4B95-A33A-74DAA529105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56C7-A616-4CB4-8D21-05121CBEA39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2B4B-D663-4EFC-8DD5-83E1EFC46EF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895-632A-49BF-BFB5-B6AA2D8125E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402C-E1F8-4D5A-AC95-35280BD71A6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4D76-A6AB-471E-B5CA-EA2A4817E6B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D8CD-53EA-44FC-B855-F9CA8C45F46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5911-B06B-4B72-A66B-F97BA2601C9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C3D5-38CD-4C92-A67D-97691204801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E114-9EB0-438D-9656-F050C18BD12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42B6-2A4A-4933-8DF3-548B6380E292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E87C-CC32-49C8-92D4-64D9FE82764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0AD3-D796-4DF9-B81B-FB95620931A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21F6-D434-4E02-B794-53FF76402CB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031F-CD0B-417F-AF61-FDA1F161F5E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1D5E-C890-486D-B1E5-7DA3E37111C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CD3B-3927-411D-9013-D1148E96C00F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066D-F5F4-4734-9088-6072072D44D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B6E8-539C-450A-BB97-0AE3C6CBCBD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9D55-9A11-4119-B98E-75A90327241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M_FIL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reate tape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onnect tape1.dsk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 lma1:/fu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 lma1: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m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ma1:/f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backup/log/verify sys$sysroot:[syshlp.examples.ld]*.* lma1: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/rese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disconnec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tape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63D9-324C-4AA9-8214-326D008FFE6A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499D-1C32-443E-90E4-0DA2570C2FE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rases container file after crea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plicit when highwater marking is turned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erase pattern set by $ERAPA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arning message issued if file is more than 100000 blocks (VMS V8.2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combined with /EXTEND only the extended part will be eras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rieves unit number and container filename in DCL symbols: LD_UNIT and LD_CONTAIN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DFAD-F0D4-4B0D-8CCA-93400DF5552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76F7-7F2A-471E-A5FA-6CF216C4989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hows extended attributes of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show/all/fu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1: to $1$DGA100:[JUR]FILE.DSK;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Shar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2: to _$3$DQA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Replaced, Trace active, No DSE support, Not Forced Error capab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selection of absolute start and end time of trace data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4CE-52CF-4C81-A376-1D5BBEC1D92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06C4-6088-4332-87B8-7BD180EC524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ONNECT/LOGICAL=(NAME=logical-name[,TABLE=table][,MODE=mode]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tup a logical name associated with the connected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rivileges dictate modes and tab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 /LBN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/BYTECOUNT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ter data format in tra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B1A0-DD30-4B44-8C26-C8A263D9BAD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BF89-2C4F-46A2-9E8B-CCE2840080F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9600" y="1419120"/>
            <a:ext cx="82724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estamps in trac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nly in VMS V8.3 and 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3226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095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8581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7513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6426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8595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95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9557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838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much more checking by the compil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B20F-2E14-4AEE-97AE-65F7B66DFF9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548D-1869-490E-9B27-980A50CECD7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agtape suppor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Just use LM (Logical Magtape) instead of LD for most comman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tartup like LD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@SYS$STARTUP:LM$START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inimum container file size is 5000 blo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ainer file ha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olume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fast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density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compaction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A260-1068-4AB8-8200-1C3F9E46AD9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6942-5024-4BD6-BBC1-DD6B32B07F7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7-05-18T13:45:49Z</dcterms:modified>
  <cp:revision>230</cp:revision>
  <dc:subject>Standard Dark Template</dc:subject>
  <dc:title>HP_TmpIt_dark_final</dc:title>
</cp:coreProperties>
</file>