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976-7326-47FC-B24B-16D59D8B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53C-DFE5-4DC4-8F37-A12286EA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C94-3558-416F-9BA5-E5C81F5C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73DE-2EFA-42FA-BF26-5CA053E6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F4F-A0BB-4872-83FE-7A9557F3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E57-3953-49F3-BDA5-88DE2D8D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BDEF-4021-4BDE-89ED-2C30AA08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964-DE65-4425-BA8D-DE6DA726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4E98-39C2-4C1F-9F15-F159C3F9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EEEF-0F41-4C4E-9623-1F8C618C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4E57-032D-4EC0-9684-A6F2C1B9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D97-1A3E-481F-9248-5E7BD9AF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7E75-DFB0-4A55-901E-5719A75AD279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9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Futura Bk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AE26-DBC4-4183-93BC-591D0DBDB227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221680" y="262080"/>
            <a:ext cx="77616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7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65800" y="4816440"/>
            <a:ext cx="1792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lvl="1" marL="343080"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6858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3" marL="102888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4" marL="13716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5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6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p.com/go/openvms/freeware" TargetMode="External"/><Relationship Id="rId2" Type="http://schemas.openxmlformats.org/officeDocument/2006/relationships/hyperlink" Target="http://www.hp.com/go/openvms/freeware" TargetMode="External"/><Relationship Id="rId3" Type="http://schemas.openxmlformats.org/officeDocument/2006/relationships/hyperlink" Target="http://www.digiater.nl/lddriver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hp.com/go/openvms/journal" TargetMode="External"/><Relationship Id="rId2" Type="http://schemas.openxmlformats.org/officeDocument/2006/relationships/hyperlink" Target="mailto:lddriver@hp.com" TargetMode="Externa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Disk partitioning on VMS with LDdriver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Futura Lt"/>
              </a:rPr>
              <a:t>Session A311/A312</a:t>
            </a:r>
            <a:endParaRPr b="0" lang="en-US" sz="32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33080" y="537228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Jur van der Burg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HP OpenVMS Engineering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ery powerful feature to see what’s happening on a low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viewed real-time (continuously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logged to disk (unattende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lexible selectable outpu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tim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status block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function cod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6B0-D869-4993-9C23-F3EAFEC4AFF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D997C-744B-48BD-AFA0-59668CB0453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.....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7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6-APR-2006 22:18:36.28 on node LDDRVR: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Start Time Elaps  Pid      Lbn  Bytes Iosb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0 09C00227 0    0     NORMAL PACKACK|INHERLOG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1 09C00227 1   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6 00.00 09C00227 1034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7 00.00 09C00227 5002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8 00.00 09C00227 5002 512   NORMAL WRITE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3 1536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6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0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0    0     NORMAL PACKACK|BYPASS_VALID_CH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23 1024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WRITEPBLK|EXFUNC|DATACHE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6449-C1C5-496E-BF4B-11EA1A4AD8C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5060A-D89C-43AC-AAF8-68CA5F6B50F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 watchpoint is a special action performed when a targeted logical block is hit by a reques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se actions are possib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turn a specific 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uspend the I/O reques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Generate an Opcom messag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rash the system (needs CMKRNL privileg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ser controls which LBN is watched, on which function code is acted, and which error is return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‘Opcom’ action may be combined with other action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9371-9B42-43BB-9375-31A9138BBF4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8D901-9FFC-4AF9-BE33-1ACF674E75A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error=2928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opcom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watch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ndex LBN     Action     Function         Error return code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        1  Opcom   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        1  Error     READPBLK             0B70 (FISH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ump lda1:/block=(count=1,start=1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%%%%%%%%%%  OPCOM   5-APR-2006 14:21:46.70  %%%%%%%%%%%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Message from user VDBURG on LDDRVR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***** LDdriver detected LBN watchpoint access *****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PID:      26000224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mage:    DUMP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evice:   $7$LDA1: (LDDRVR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Function: 000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LBN:      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DUMP-E-READERR, error reading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SYSTEM-W-FISH, my hovercraft is full of eels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3725-ED8E-4598-B774-6D3C25095A8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E7872-E8A6-477E-BB4B-3C0F9CD7D78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allable interfac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is controlled by a user mode program issuing normal QIO reques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required function codes and definitions are available in the kit, and in VMS since V8.2-1 ($LDDEF or lddef.h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driver is doing very strong validity checks of all requests (You can’t shoot yourself in the foot (if you can, I apologize, please let me know how you did it)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ED10-33EF-4C19-886F-50A73E567B4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D913E-8FB9-46D7-8030-89384041A99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imi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s many devices as your diskspace allow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ion of any device takes BYTLM quota from the creating proces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tracebuffer as well as watchpoints come out of non-paged pool and are charged against BYTLM as we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f 9999 LD devices are not enough then you can create LD devices on other controllers, like LDB1:, LDC1: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figure the driver with @SYS$STARTUP:LD$STARTUP x where x is the controller to u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F2C-D6F2-4A0A-B14E-CE8D01CD533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0BE7F-3B95-4CD6-A2F7-CF75475911D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1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REATE/EXTEN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s extension of existing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Expand volume with SET VOLUME/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ONNECT/NOFORCED_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handling of forced errors with shadow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Bug fixes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possible system crash in I/O comple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I/O hang with host-based ra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mount verification issue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211-E788-4FF7-83C1-90912CAE0E6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BB523-B0E8-4567-BCBC-BDBE9FA3C6B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V8.2 has no new features when compared to V8.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is only a bug fix release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operly expel shadowset members on erro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Reconnecting an LD device could fail the first time after reboot if the container file was used on another nod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 container file on an NFS mounted ODS5 volum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system crash on reconnecting a container file in a clust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582-8655-476F-9E82-13D3CE793BA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DBE1E-9F94-490B-A78A-C28E421EB38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- con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9.0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CREATE/ERAS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90720" indent="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Erase container file on crea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9072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ore accurate timing in trace records (starting with VMS V8.3)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I/O trace for device $9$LD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17-MAY-2006 09:21:15.16 on node THEBA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nd Time           Elaps    Pid       Lbn     Bytes  Iosb    Func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32269 00.000000 2060042F          0      0 NORMAL  PACKACK|INHERLO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0950 00.008581 2060042F          1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7513 00.006426 2060042F       1034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8595 00.000959 2060042F      50033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9557 00.000838 2060042F      50034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55176 00.005504 2060042F      50016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63548 00.008258 2060042F      50016    512 NORMAL  WRITE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A33-B49F-40C2-838A-4F15A34378A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88773-0BB4-42D6-8A44-A0EFD784584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tape device (not yet finishe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evice is called ‘LM’ (Logical Magtap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Uses the same driver as L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reate tape1/siz=10000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onnect tape1 lma1/lo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D-I-CONNECTED, Connected $9$LMA1: to $9$DKA100:[LD]TAPE1.DSK;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show dev/fu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Magtape $9$LMA1: (THEBAT), device type (Generic SCSI tape), is online, file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riented device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rror count                    0    Operations completed                  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                ""    Owner UIC                         [JUR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ID        00000000    Dev Prot            S:RWPL,O:RWPL,G:R,W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Reference count                0    Default buffer size                2048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Density                     6666    Format                        Normal-1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Allocation class              1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Volume status:  no-unload on dismount, odd parity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7A3-B7FB-413B-B3B8-6435D59BAEB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8B0C4-C9F0-4636-AA68-314273A59C8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driver: What can it do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on a disk as a new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vestigate I/O behavio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est application error handl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lay around with disks without doing damag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a magtape (future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havoc (with privilege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58B-72DA-47A4-A0C7-DE09B0BEFC5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02D11-B8EE-40BE-950B-E0C93F197DC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trace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mount/for 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MOUNT-I-MOUNTED,  mounted on _$9$LMA1: (THEBAT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dismount 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show/trace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I/O trace for device $9$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17-MAY-2006 09:25:49.65 on node THEBA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nd Time           Elaps    Pid       Lbn     Bytes  Iosb    Func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1 00.000000 000000A9          0      0 NORMAL  PACKAC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3 00.000000 000000A9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7 00.000000 000000A9          0      0 NORMAL  PACKAC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9 00.000000 000000A9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61 00.000000 000000A9          0     80 ILLBLKNUM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63 00.000000 000000A9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80426 00.000000 000000A9          0      0 NORMAL  UNLOAD|CLSEREXCP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80427 00.000000 000000A9          0      0 NORMAL  AVAILABL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B66F-9272-4841-A400-06CE76CE422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35B58-1F55-4B7F-BBB8-EA0CD0CC6A0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container fi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most tricky part is connecting an LD device to a container fi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ntainer file physical device must be a mounted dis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ust contain a known file system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File must be mapped with cathedral window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aching must be disabled for this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heck for usage on other cluster member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le 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cation clas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Device name / controller letter / unit numb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Geometry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aximum block 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har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ode of connec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BA7C-3758-4155-A668-06EBE0E1A9B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F5D33-C08F-4DD6-9341-3EE413E1723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disk by LB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ing part of a disk by LBN range needs other chec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Physical device may not be mount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ay not be accessed on any other nod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logical block range must fit and may not be in use anywhere in the clust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exception is that parts that match exactly may be shar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connecting the physical device is guarded against access with a lock which prevents mounting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52C-6299-4D37-B4BD-32E89F16CD5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99225-9EDC-4087-9F23-7C7A163CD90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1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When connecting a part of a physical disk we need to check availability of the logical blocks, clusterwid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s take out a lock based on a resource name with the encoded range as we don’t know what’s used on other nod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don’t want to invoke a helper process – driver check only!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t store all ranges in a value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o we use the lockmanager in a smart way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A5A-16DA-4595-A63B-A4447FC6BD3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A40C9-4117-4C16-948F-FE85FD9410E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2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t connection time the block range we want is entered in a lock value bloc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y taking out a lock a blocking AST routine is fired on other nodes with interest in the same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blocking routine scans all local LD devices for a matching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found the LBN range is check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n case of an error a bit is set in the lock value 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lock conversion the initiator examines the error bit and rejects the request if se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24A-D1B8-497B-97C4-084432C772C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612C9-BE1C-4F47-9A19-3A653E2538E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Finding an I/O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sends most I/O requests it receives directly to the physical disk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ay happen for multiple file segments in parall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can make it harder to find an active I/O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RP’s forwarded to the physical disk can be found in the LDIOB structur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driver’s structure definitions can be found in SYS$LDDRIVER.STB (only after installing the LD kit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CD7-A06A-4F38-BE16-EF251B517D7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940D2-9649-455B-B20B-CB12F14CB8D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00" y="-417960"/>
            <a:ext cx="7629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600" y="101160"/>
            <a:ext cx="827244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read/exe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show device lda2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/typ=ldiob @(ucb+ucb$l_ld_aiofl)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0   LDIOB$L_QFL                              81DD9800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4   LDIOB$L_QBL                     81DD9800         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8   LDIOB$W_SIZE                                 00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A   LDIOB$B_TYPE                               1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B   LDIOB$B_SPARE                            5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C   LDIOB$L_IRP                     81DB17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0   LDIOB$L_PID                              0001002B    LNM$C_DEL_OVERLAY+00027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4   LDIOB$L_MEDIA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8   LDIOB$L_BCNT                             000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C   LDIOB$W_FUNC                        000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E   LDIOB$W_IOST                    000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0   LDIOB$Q_STAT   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8   LDIOB$Q_ST_TIME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0   LDIOB$Q_EN_TIME                 000000A8.00010025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8   LDIOB$Q_ST_SCC                  00000000.1C10E15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0   LDIOB$Q_EN_SCC                  44070017.3446500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8   LDIOB$L_ST_CPU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C   LDIOB$L_EN_CPU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0   LDIOB$L_ELAPSED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LDIOB$Q_ELAPSE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4        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8   LDIOB$Q_ST_USEC                 613D6500.746C756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0   LDIOB$Q_EN_USEC                 2F657461.642F6C6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8   LDIOB$L_ABCNT                            00000000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bytes transferred so far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C   LDIOB$L_KPB                     81C5C9C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0   LDIOB$L_FWDQFL                           81DC0878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Queue of forwar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4   LDIOB$L_FWDQBL                  81DC0878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8   LDIOB$W_IRPCNT                               0001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active forward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A   LDIOB$W_FLAGS                            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 @(@(ucb+ucb$l_ld_aiofl)+ldiob$l_fwdqfl)-irp$l_ld_fwdqfl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0   IRP$L_IOQFL         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4   IRP$L_IOQBL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8   IRP$W_SIZE                                   024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A   IRP$B_TYPE                                 0A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B   IRP$B_RMOD                               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C   IRP$L_PID                       81B278F0             SYS$LDDRIVER+118F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A51-A7B7-4D65-B683-DCB2C45A734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286E5-FBCC-48B6-AB17-0DA48A67B7C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ich VMS versions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Runs on VAX/VMS since V5.5-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6.1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current kit is HP-VMS-LD-V0802--1.PCSI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stalls on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AX V7.3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7.2-2 V7.3 V7.3-1 V7.3-2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V8.2-1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30E9-0AAD-44C6-A1AF-14D23208AF0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17042-2169-4190-9F6D-D39292DA08C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ther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ther versions may work too, but the driver and utility needs to be built from source (included in the kit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ild procedure is includ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 compiler requir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river may need an edit for specific versions (enable / disable a conditional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9.0 will NOT run on VAX!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 is integrated in the VMS V8.3 relea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582-B1D1-447F-B840-6B5A1B7AA92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04CAF-396F-4E44-9219-1974872B75E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Known issu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the XFC cache is turned off (VCC_FLAGS != 2) then connecting a file will return this error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BLKOUTOFRANGE, Blocks out of rang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problem is corrected in VMS V8.3 and the future LD V9.0 ki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B437-7D66-4EFC-BBD5-58F4C805781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6B901-0259-4D9C-BA0A-2E45834B216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ere can I find it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OpenVMS freeware web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www.hp.com/go/openvms/freewar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main lddriver 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http://www.digiater.nl/lddriver</a:t>
            </a: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(under construction)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grated in VMS since V7.3-1(sort of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ully integrated in VMS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7372-4361-4D59-859E-FC9EFDB383C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95FD0-48B3-4523-B66A-C9758FFD79D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 usag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Heavily used for test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in the VMS buil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by the host-based Infoser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by CDRECOR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C764-1C8D-4FAA-9D42-C94EC59425B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258FE-F90B-4971-A186-3B30D5A6FB4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g fixes (if any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You name it.... suggestions are welcome (buy me a beer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3C3-BEB1-45B4-8ABC-CBF9FC2184E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866EC-A8EF-4D67-B0F2-75F07B977AD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ore inform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article in the HP technical journa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hp.com/go/openvms/journa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fter installation: $ LD HELP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Questions / Bugs / Ideas?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mail: </a:t>
            </a: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lddriver@digiater.n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3DA-D146-4366-9B26-416F4FDCBF5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D9795-6078-4D09-B7C9-A65E28E0CD5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7120080" y="5126040"/>
              <a:ext cx="1773000" cy="139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E712-7B38-4C42-BCF9-031B5BF51B0A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A5BDE-417F-4760-8A1F-5341D6CB55A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.COM</a:t>
            </a: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CC61-9CA8-4899-AA9E-F2B82229A7B6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7CC7D-5267-4B39-92D3-A54BF3572BC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366-1100-4330-9C12-14759433A8C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846CF-8041-4D4C-807E-966580F363B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_LOCK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CD15-DC0E-45E9-BBD4-A25034D2E8A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22FA1-7D2B-4B3E-B1FD-638B94EDA24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TR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on control_y then goto exi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loop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analyze/di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goto loo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exi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1101-FE6E-4E7E-8366-78591D5F4D22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12E25-B26C-4286-914C-54B6A0D70FC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DOW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2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2.dsk lda2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dsa0:/shadow=($4$lda1:,$4$lda2:)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shadow/cop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dsa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2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65E-2326-4F92-A16A-B5CC2EDA7990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6024D-95FC-4653-8F58-094840856CD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C10-6A34-4552-90C1-1BD83B2FEDE7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08395-17AC-4046-BDA7-392ED6D82F4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Prepar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Ready for use after @SYS$STARTUP:LD$STARTUP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ny command that needs the driver will give an error if not started properly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CONNECT FILE.DSK LD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F-INVOKESTARTUP, LD has not been setup correctly, invoke @SYS$STARTUP:LD$STARTUP.CO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xceptions are LD HELP and LD CREA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ersion can be obtained like this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VERS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I-VERSION, LD version V9.0, module X-9 built on May 17 2006 09:01:3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DRIVERVERSION, Driver version: 17-MAY-2006 09:02:10.86 (MON version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SYSINFO, Node: THEBAT, Hardware: hp AlphaServer DS20L 833 MHz, VMS version: XB9P-BL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ADFD-7F11-40FB-9FA7-3AFE3EAF07B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0C05E-FACE-4591-B4C0-87AF118EDC0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8B29-B42D-4CB7-B0FD-AA48B97DBFA2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3DEFF-6129-4A10-84E1-D4B71C8135C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REPL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replac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0AA-ECF4-4513-89DB-24E0B6D52D01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113C5-FEF9-4BD8-A6E4-95A10D8BAF7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MOUNTVER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/log/symbol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/nohigh/system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/action=error=%x84/function=code=%x0808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error=%x84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opcom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enable/tem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pawn/nowait/input=nl: dump lda'ld_unit':/block=(start=10,count=1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no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dis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/nolog/noconf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31A-DD4E-4A52-88C1-55834DFEB61C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A5563-06E4-43E2-8E39-D5474938779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Fil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 file on a physical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DKA100:[LD]DISK/SIZE=1000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the file to a devi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[LD]DISK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it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INI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MOUN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DISMOUNT LDA1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connect the fi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DISCONNECT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E57-DDEF-466B-9725-7796BAEE4F9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A9F69-3FF1-4A09-A1FA-52963EFC1EE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LBN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 range of logical blocks to a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END=9999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END=19999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END=29999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using a siz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SIZE=10000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SIZE=10000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SIZE=10000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9214-1F90-4497-9420-6D34F160FB7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3EF85-3636-4283-B2FE-6A9448E8E3D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Replac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ess another disk via an LD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t a real form of partition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ful for I/O tracing and watchpoin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nd repla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REPLACE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FCA5-357D-48AD-87F4-08BDEDDA4DC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4302A-7A0B-4826-AAB6-7A13E92F3E9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Advanced us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ring of LD devices in a cluster is possib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itself are not MSCP-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shared use the physical devices where the container file resides must be MSCP 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dowing host-based raid dis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ay be nested, i.e. you can create an LD disk on an LD disk on an LD disk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956-3167-45DB-A2C3-2E6D899643C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D50EF-E765-4B67-90F2-4FCADFEA8CD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Sharing LD devic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ust be connected the same way on multiple nodes to allow sharing of  container fil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eans the same device name, allocation class, geometry, filename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ny mismatch will be detected by the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tility attempts to give the reason for the failur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$ ld connect $1$dga1: lda3:/lbn=(start=600,end=2000)/log/shar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DEVICEINUSE, Device incompatible connected to other LD disk in cluste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F-RANGEINUSE, LBN range already in us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0AF-E276-4DFC-A61A-056DDDAF6BD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CDE4B-5027-4ADA-87E9-15882754534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03:39Z</dcterms:created>
  <dc:creator>Duarte Design, Inc</dc:creator>
  <dc:description>The dark template was designed for PowerPoint  98 through 2000</dc:description>
  <cp:keywords>Dark Template</cp:keywords>
  <dc:language>en-US</dc:language>
  <cp:lastModifiedBy>Jur van der Burg</cp:lastModifiedBy>
  <dcterms:modified xsi:type="dcterms:W3CDTF">2006-05-22T11:41:25Z</dcterms:modified>
  <cp:revision>79</cp:revision>
  <dc:subject>Standard Dark Template</dc:subject>
  <dc:title>HP_TmpIt_dark_final</dc:title>
</cp:coreProperties>
</file>