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906280" y="225360"/>
            <a:ext cx="3645000" cy="27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hdr"/>
          </p:nvPr>
        </p:nvSpPr>
        <p:spPr>
          <a:xfrm>
            <a:off x="28368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Presentation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275760" y="8918640"/>
            <a:ext cx="5807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6206760" y="892944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8F9F-F7C0-4D3D-8429-1FE5BFBED0A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AEEC-51CF-4F86-9696-B0ED568C2CE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533B-28A6-4C51-BBB0-67597546724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E683-5EB6-4FFC-9A3A-64A45719624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C8D4-F6D0-4B1A-9484-E9A661CE25B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435B-9BAD-414A-A1E5-5455036DAB5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0A06-CC97-45F8-9CB6-BD7299D98A6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5E44-E7DF-455A-B42F-CF22D468273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7B24-6E3E-4FDC-A861-307AE3CB178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B307-CA7E-439C-B374-45730BCF1DB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9432-68BC-40A0-9C43-DA221182A55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DC24-79DD-433E-BA83-38D67D76A02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D836-CF9B-47DB-8C92-D5547178963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CC08-3C18-4A25-B60D-CFC7F5AFBF0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27EA-79F1-4BA2-A0C9-BD12CCCA2CD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F20-7D2C-4CF5-90F8-A9D2A831CF1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96E8-8807-4C20-9353-ED9CC92D5B7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7111-C892-4EB3-B7E3-983B3237CA7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8DC2-291F-4CA5-B18E-7CC07BF4141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CB12-0706-4AC0-B4A4-F7151EA2727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E770-B6B4-4C24-8444-E99412997EB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5380-9101-4457-948A-43FFBDBA94B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EEA-A810-44A0-A68E-938AC816416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49C5-D966-45B4-9E06-0C689123129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1D6B-BEE2-4109-B564-C29B7859C23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14560" y="260280"/>
            <a:ext cx="3646440" cy="2735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50560" y="3200040"/>
            <a:ext cx="613548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C7D3-130D-4B49-93AF-62C65613329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1AF-3A99-46D4-BA82-AD7A4D7FD20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21E-C84D-41CB-B2AC-9DF45C7A2DC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5B77-4ECB-4233-A07C-B63EC35C9F8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291-0708-4CCD-B2B9-DAA85D74E69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468D-2A77-458E-A0B9-F14CA8B865C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8ABC-8ED9-4F01-9629-BF2ADF7D548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4266-DF80-492E-9A1D-5798E632715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6B02-25A7-4BF4-A378-DE2920B7273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7233-AF79-49A4-A9B1-9882E44A8E3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504-F052-4008-92EF-4BBC254D8A1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47C4-C13D-40EC-AB47-76062F13A3C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AF3-DE21-4260-87B3-34BCFC35CF8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C633-6B51-4382-AAD9-9982E81F927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8D9D-15C8-4720-8D5A-66A3719365D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D396-44DF-4085-83C7-582AB75E26C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E1C-BB70-4634-AF74-19C89126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8F6-7D35-4F98-A9FC-E2478737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D77-353F-47C1-AF2E-9FEF559F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4F2-2D04-4312-8AB0-6F36FF91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709-F42B-4775-84C6-4025A8E1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E6A-24E3-4F80-BC07-F8F6883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F26-D177-45DA-83C4-AD2B835E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04D-0490-409B-AA16-6CAE7022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9FD-E052-4193-8FBA-E0C117CB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447-BC4D-42E9-91BA-CCE58B81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A8B-ECF2-43FA-A1D1-C34F68BC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FA4-7ED7-40D7-B9BC-377D251D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FD02-B0E4-4083-ABE0-33FA65A69C8F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D9EC-4DEB-4794-8DFC-D3D8446126A3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7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downloads" TargetMode="External"/><Relationship Id="rId3" Type="http://schemas.openxmlformats.org/officeDocument/2006/relationships/hyperlink" Target="http://www.hp.com/go/openvms/freewar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LDdriver V9.0: Tapes in disguise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Advanced Technical Bootca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May 2007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digiater.n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92" name="Picture 6" descr="D:\Jur\Digiater.nl-2.jpg"/>
          <p:cNvPicPr/>
          <p:nvPr/>
        </p:nvPicPr>
        <p:blipFill>
          <a:blip r:embed="rId1"/>
          <a:stretch/>
        </p:blipFill>
        <p:spPr>
          <a:xfrm>
            <a:off x="6440400" y="0"/>
            <a:ext cx="27036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cre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LM CREATE instead of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adds metadata to the container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t needed for correct operation right now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ill be needed in the future for fast ski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tadata can be initialized later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Original file contents will be preserved as the metadata space will always be reserv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nitialize later on with LM CONNECT/INI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will not be done by default as it would overwrite the first block of a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hat if you would connect the wrong file by mistake?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5C58-009D-4A0A-B55C-16C8AA3EFA3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CC65-C5ED-4B5F-B043-3D0154B4FC4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metadata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rocess name:            SysDamag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Account:                 SYSTEM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creation:         8-MAY-2007 20:50:19.90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connect:     8-MAY-2007 20:50:25.4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disconnect:  8-MAY-2007 20:53:23.54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ize:               999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hecksum:                A7C35A3F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E14F-41F7-424C-B798-2DA9F6BAD35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AED-82C9-4043-9C9C-8D1B1398B34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reate tape.dsk/size=1000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onnect/log tape.dsk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CONNECTED, Connected $3$LMA1: to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: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backup sys$sysroot:[syshlp.examples.ld]*.* lma1:test/verif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BACKUP-I-STARTVERIFY, starting verification pass at 17-MAY-2007 11:14:07.7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disconnect lma1:/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DISCONNECTED, Disconnected $3$LMA1: from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5295-206B-43DD-BC87-49969AF0C0D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41C1-2F66-4899-9DA8-BB2F1A03D94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ows loading a new container file as soon as backup runs out of spa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anual load/unloa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UN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step approach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s will automatically unload the old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oad existing file if the unit is unloaded (for example, $ DISMOUNT/UNLOA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2810-FF8B-4F91-890D-937C686B5FB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C3B3-301F-4861-BCF2-246C18A6972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ape will initially be loa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connect tape lma1/full/log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mount/for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MOUNT-I-MOUNTED, TEST mounted on _$2$LMA1: (THEBAT)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dismount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show  lma1/full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</a:t>
            </a:r>
            <a:r>
              <a:rPr b="0" lang="en-US" sz="1600" spc="-1" strike="noStrike">
                <a:solidFill>
                  <a:srgbClr val="ff0000"/>
                </a:solidFill>
                <a:latin typeface="Lucida Console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ehavior is just like a real tape un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9385-489F-42FE-9EA7-24C7EB4B233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218B-A4FC-4E66-9AE7-CA3BA7360D0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is possible to create a tape device without an attached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$ lm connect lma2/noload/log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%LM-W-NOTCONNECTED, Device $2$LMA2: is not connect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-LM-I-OPTIONS, Not Forced Error capable, Tape unit, Tape unload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21B7-1488-40AE-B49C-C8D9B4C6AF5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7DC7-3E9B-4943-AC9B-3C8EC672F79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to or from disk on behalf of the driver is not logged by defaul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be enabled with LM TRACE/A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will show up in trace data with a PID field of zer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k requests are subject to segmentation dictated by the maximum transfer size of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EF6D-8C8B-4B2C-AA16-98DFBFFAEF7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4D7A-1C73-476E-83CB-ACE4C2A79BC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trace lma1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/a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moun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8-MAY-2007 20:51:59.14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071 00.000005 2020042F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33 00.000000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74 00.000001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4598 00.014676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 1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6553 00.00191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257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76429 00.009853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513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08 00.01035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769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37 00.036922 2020042F          0     80 OPINCOMPL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04 00.000001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45 00.000000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9E0D-DDE7-4DF7-AB57-96388A2A005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7EE-6D49-462C-9A2B-131AD166058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ANALYZE file.dsk [/RECORDS] [/DATA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ill detect container file issu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rmally not needed by end us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rocess name:            Jur van der BU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ccoun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creation:        15-MAY-2007 20:13:21.3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connect:    15-MAY-2007 20:50:13.2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disconnect: 15-MAY-2007 20:50:26.7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ize:               99999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hecksum:                C26E593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Bytes read:         4928307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Records read:           596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bytes read:     4880014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Eof count:                 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2CE1-88BC-49F3-B5D5-FE9F49EE80D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788F-CC71-44FC-9CE0-A1C192A7EB9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layou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disk it’s easy: ODS2 or ODS5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tape it’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Header record layou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CNUM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OFFSET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LAGS           structure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            address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railer record layou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tecount in trailer record facilitates reverse ski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54DB-42CA-4498-8592-036B0C09B60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91E3-274B-4764-9380-B06C09A9F3E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866B-AE5C-417D-A539-1A6FAB92424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8EAF-0BB4-466F-BEB3-4CAB65EE44C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or tape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ig issue: writing sequential variable records to a block structured medium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ing required for efficiency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ffer management is comple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uffer manager is a sort of ‘Kernel mode RMS’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ust be able to seek to any posi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 manipulation must be done from system contex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 usermode or process availab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copies needed from/to user buffer to driver buffer by double mapp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BC6A-50E2-4E96-A67A-F6B91536090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C48E-E606-4B79-AED4-652E0EF402B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 is fixed 512Kb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cated from nonpaged pool for every un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efficient way to handl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driver for LD and LM devices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river is still named SYS$LDDRIVER.EX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device name during driver connect will determine if it’s a disk or a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asy driver maintenance (one source fil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an old LDdriver is active when installing LD V9.0 then LM can not be used before the system has been reboo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84CF-C9B4-46C2-9295-CE6C54B3E6C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6594-DD3B-42FF-9009-9C4EEE8FB7E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F674-50D9-4771-984A-E1CCC8D8556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2F79-0A9C-4B8B-99C4-DA303C3D868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devices can not be sha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nd of data is currently fixed at 95% of the container file siz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n-foreign (Files-11) mounted tapes may not handle certain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VMS I/O subsystem enforces a minimum record size of 14 bytes for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pying .OBJ files or other types may give SS$_BADATTRIB erro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al tape devices behave the sam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E2F3-DA27-4BDF-8979-9AB3804717E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CDE1-B834-4034-B63E-2AEF1572286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32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atchpoints are not supported on virtual tap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 is the last release supporting VA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oo much 64-bit stuff need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imited interest in new featur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problem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witching volumes on Files-11 mounted tape may give error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SHOW/TRACE/CONTINUOUS may cause invalid data to be written to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ing in trace data may we way off if a cpu has been stopped and restart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orkaround is to disconnect and reconnect the LM or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EF04-E3A7-46F6-9EE6-6F22FB7E0F1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1C0E-6033-4D21-9D27-9994B6A45EF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7209-A8EB-47F5-9948-F60ED2D893C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7D6E-00AD-4228-B407-660335C6B6D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F954-7EB5-4A08-99EF-FB8E6F18721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2EFC-66D4-439E-AC49-E40BD659B7D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3 has no new features when compared to V8.2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 (and what a bug!)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f a container file resides on a volumeset then reads and writes are always directed to the member of the set where the first blocks of the file are loca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o if data would need to go to another member it would go to this me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uess what the result will b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s present in V9.0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blem was introduced in LD V8.0, on Alpha, IA64 and VAX, and is also present in LD V8.1 and LD V8.2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2 is not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3 is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ext VMS release after VMS V8.3 will have the fix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600" y="145548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utomatic volume switch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UTOSWITCH file1,file2,… LMAx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itates a stack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chanism to automatically create new container fi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ast 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ready partly implemented but not finished in V9.0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ensity selec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ight be limited in us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llback to applications on certain driver conditions (via AST’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5DB9-497D-45E1-A8AE-8796942BAFF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A753-D2C8-4B05-8B1B-0F7CEE85572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mpaction may be possible now that we can handle variable length recor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ight be used for Logical Disks as well (data compression on virtual disks!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ney might speed up things considerab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746-BF81-42FF-933B-827648C1C50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F9D4-DE2B-4237-B2C5-6EC78865264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0DED-B3AB-4FC6-BE6D-39FBFA9A226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8077-9792-429C-B806-05B89F2A161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websit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 article from the HP technical 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ld present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5EC5-3217-4B7F-A3E8-364174050AF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B21D-91C1-4430-A91C-0B48EA2E43A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V8.3 will remain available as it is the last release that supports VAX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ay not be the latest vers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Digiater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B555-DA08-4B14-8217-D7C68F2F1A2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3970-92F0-4246-A0CC-45CAEA654CC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6ABB-EDF8-44E2-BDB8-ECF881E2297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9277-8D94-4DFB-8905-4471B78DC45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FC5-5D78-403E-9017-F3E05A49B17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A3F0-C1F0-4C34-BA1F-99462F73998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D9C-CAE5-4F45-8140-B8431086943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1265-5995-463F-AC07-67443FD4FFE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5E3E-8CC9-4E44-89C9-7D30757153D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52F2-F8D5-4809-BF98-E07A54889A1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4B4B-BD2E-44C1-870C-942C5364BA6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23E4-4BC8-4FC7-9435-DAC7CCA8E63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20F9-C0B3-4A01-AE45-E3E18530FEF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8464-13F3-41CB-AE69-FAD3C03CE97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602-067E-4245-B444-6BF2C5E895D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D47A-F04D-4019-BB9A-A57BCAFF193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69C6-1F8E-40F6-8F43-590F6332F8D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7477-C97A-4842-AB64-073557D8CC2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C945-A9CC-435F-B863-1F4171547DF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6141-75FF-4DAE-A2AF-905B18D2961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M_FIL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reate tape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onnect tape1.dsk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 lma1:/fu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 lma1: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m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ma1:/f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backup/log/verify sys$sysroot:[syshlp.examples.ld]*.* lma1: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/rese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disconnec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tape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5F8B-441C-4A5A-9A6C-3CC23C595C8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455B-9AFC-4F5F-8490-51CFEA90BD0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rases container file after crea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plicit when highwater marking is turned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erase pattern set by $ERAPA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arning message issued if file is more than 100000 blocks (VMS V8.2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combined with /EXTEND only the extended part will be eras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rieves unit number and container filename in DCL symbols: LD_UNIT and LD_CONTAIN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C0F7-6212-4667-8088-08F8371BD96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A2C-64A5-4F5E-9B5A-820CCE6D6D5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hows extended attributes of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show/all/fu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1: to $1$DGA100:[JUR]FILE.DSK;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Shar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2: to _$3$DQA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Replaced, Trace active, No DSE support, Not Forced Error capab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selection of absolute start and end time of trace data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29F4-34A1-4C75-845B-8718A5CEF58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47FA-2716-4E81-A0CA-DD4F75DF9E1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ONNECT/LOGICAL=(NAME=logical-name[,TABLE=table][,MODE=mode]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tup a logical name associated with the connected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rivileges dictate modes and tab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 /LBN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/BYTECOUNT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ter data format in tra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C61C-9D2C-4098-AF1B-2FBF7051AB9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C772-A6FC-4962-B030-2A08FC02738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9600" y="1419120"/>
            <a:ext cx="82724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estamps in trac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nly in VMS V8.3 and 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3226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095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8581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7513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6426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8595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95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9557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838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much more checking by the compil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D258-136E-4965-A8F4-45FE2D73D33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913D-E997-47A8-B65C-8560C494C7F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agtape suppor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Just use LM (Logical Magtape) instead of LD for most comman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tartup like LD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@SYS$STARTUP:LM$START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inimum container file size is 5000 blo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ainer file ha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olume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fast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density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compaction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EB35-E0AF-48AB-B3CC-EFA9FE4F054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D238-3E4C-4025-BD27-832895CB8F9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7-05-18T13:45:49Z</dcterms:modified>
  <cp:revision>230</cp:revision>
  <dc:subject>Standard Dark Template</dc:subject>
  <dc:title>HP_TmpIt_dark_final</dc:title>
</cp:coreProperties>
</file>