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02E-AB10-451C-9916-28773E9F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E89-7407-497B-BCA0-BE980ED5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DDE-B94C-4D8A-BEE6-335E998D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716-EB1D-402E-B675-ED042B26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17A-2FB8-4881-873F-212E5B28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CE9-3CCB-4829-B7F8-56564DEC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EC9-3D5B-4F15-B6A8-6E8B8311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90A-DB67-4087-89A5-0D690A85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7E7-3218-4D98-86F8-762B85D6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43D-0C81-434F-96F1-CD904306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BB3-1AC8-48FB-A4DA-B290A787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9FB-72B2-4B5C-B1C6-7CA4034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A684-8267-4DA6-8AFE-7F4B6F4DBA6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1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5AA7-859E-434D-998E-9A4C431D094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21680" y="262080"/>
            <a:ext cx="776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mailto:lddriver@hp.com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Futura Lt"/>
              </a:rPr>
              <a:t>Session A311/A312</a:t>
            </a:r>
            <a:endParaRPr b="0" lang="en-US" sz="32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HP OpenVMS Engineerin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B1B-F7CD-45E0-9B79-BE8E527D3E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4DEA1-14E7-4844-BBD8-9767CB6AC81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1E9-DCF8-4E85-BB39-2483985BBF2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1BCC3-7499-452E-9696-C9EB004203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193-7713-492D-8A62-7D756A24D3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65B03-82D6-4CD8-B3F8-849C2EAA4C5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15A-3DE0-476E-B368-EAF38C65E4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C3E52-6BA9-4825-8610-E7C6B5B2E2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797-4985-4A54-AEBA-9A1C0FB846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D3A94-FE69-4A82-A4FC-0752826C4F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9F9-5390-4E6C-997C-9543EAC5FBD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EBC4A-0AA0-46F2-844B-B0D08D94DDF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637-887B-40EF-BA98-9B5CEDCEA8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56C9B-C8BF-48E2-802A-DEFEA1A614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0E8-FB1E-4D7C-AE77-008BAD85F9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8A985-C383-4618-94C5-09B857CC49B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rase container file on crea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re accurate timing in trace records (starting with VMS V8.3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D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|INHER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92F-72E3-42CA-A452-D65F4C9F3E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04DAD-AFC2-47DA-AB0E-D50304C17F5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 (not yet finish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$9$LMA1: to $9$DKA100:[LD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9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A6E-3DA9-4952-B3B7-69739E96E6F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1EEB3-6FBB-42B3-B02D-243F46722FC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(future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DA8-202A-40C0-9ED4-2DF0C240A0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A23B6-3E35-4874-BD58-96F2A98FE2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mount/for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MOUNT-I-MOUNTED,  mounted on _$9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5:49.65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1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7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9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1 00.000000 000000A9          0     80 ILLBLKNUM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6 00.000000 000000A9          0      0 NORMAL  UNLOAD|CLSEREXCP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7 00.000000 000000A9          0      0 NORMAL  AVAIL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CF7-6406-4CB5-BF8C-83EC37C2E5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A8E6E-043B-4230-A659-71C3539BDE1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A4D-7C40-4AAF-83AE-7DF6A4768F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79189-8481-4916-B257-F0FB2ED130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2A2-A43F-4088-BAE1-8A93B405FF5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FCA35-3834-4ABC-9A21-D8C77D9033D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A32-4EF1-4FEA-A51D-07BFBF6E89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20F87-BEC0-4F27-969C-3B3AA0B7AFD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646-FB12-4C87-BDDD-AAE5C1E3885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EBD89-40C4-47A3-BB4D-7DBA3A476C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01C-F3F1-441E-A2F3-046649832E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51F27-CDCF-4A64-A320-FC7C9290BA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422-5F6E-45F4-B748-0501FB85BBE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236ED-336B-4B2C-B113-03973BC948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200-DA8B-4D58-B91B-292CB5EA4C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13F98-F661-4899-8933-F7E862FC42F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BE6-BF82-47F8-AD37-60EE83DF4F5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1CC6E-04AC-4AAF-859E-1D0E9A8E8F0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79C-D2A4-4862-88F5-756E7C6B6B9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FA3DF-35F3-4689-A1EA-BC83A38872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digiater.nl/lddriver</a:t>
            </a: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(under construction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D71-67B3-4F61-9EED-B200FBFB29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498CE-3DB5-4D52-87A9-BDB65F8276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the 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338-8DB5-47DB-976B-B388876D2A6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66AC7-8444-42D7-ADD5-E8252F6AAD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be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ADA-309C-468B-AFB1-0450EBC140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D9072-993F-4606-951A-2761C93820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52E-FB38-4C24-A1C3-0D6C2306144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FADAF-8614-4642-895C-FE8751AA84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58C-C845-4B59-838D-578EEF10D3AA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CBDB5-D281-46F7-A589-757426F073F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83F-3FCA-4631-B4A4-B6826F01F4E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45FB8-73BF-40F3-826B-4AFBBFB3275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980-1936-4686-B89D-FA6A51AC76F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C6881-484A-4EB2-B507-C305694595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00F-6042-4FDC-AB3F-C8572B0FBB1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E3265-0D58-4EEA-AAF8-FA627CE3A0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208-393C-43B3-8307-C45FC4CAAE1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997EF-A7F3-4596-8455-2467134F1EE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213-6559-4945-AC75-9A93CCE766D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10C1A-093E-4247-982B-9C17C7B20F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CFC-19F9-46C7-B9E3-EC7B658CADF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74E86-BB77-4CD7-AB1D-2B00C738645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May 17 2006 09:01:3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7-MAY-2006 09:02:10.86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781-6CE5-4F56-9072-AF6FB25192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92DAD-4527-4E81-BE13-A591E9BCBC0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B5C-78AC-4545-9FF8-8731871DA1A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5165F-10E8-4342-A125-783C572326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4DD-65D7-4787-96E3-00373EC41B87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2B9E8-5C87-4C58-8F97-467CD127F2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487-730E-4A8F-B865-E3DA34D4468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55CF3-9A51-44A7-8757-CBB5B4BD262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330-3C3D-47DA-92B3-1A1159AB88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6C8D6-67B0-4B67-979D-C9C494953B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AA8-984E-4597-A30B-FDF6B62E05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CB005-EF84-4FFB-A2ED-6C4AE074D15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95D-DDBB-4B56-AE29-39C0E7F4A6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1BC6C-D8FB-49D4-AE99-0B89673D8B0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46C-63D9-4229-A0EA-9D860534436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AFA54-A506-4CC9-8B6F-9BABFC4FBBE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E8A-38DA-4860-9790-D2DFD79CC0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306B8-5E15-4D3D-BF53-2730F1FE0B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05-22T11:41:25Z</dcterms:modified>
  <cp:revision>79</cp:revision>
  <dc:subject>Standard Dark Template</dc:subject>
  <dc:title>HP_TmpIt_dark_final</dc:title>
</cp:coreProperties>
</file>