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9869-685C-496F-BF1B-E9B5736AB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B266-A906-4DB9-83F8-FB5E77FD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C81E-C7DB-41FB-B316-3454071E5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96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68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0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00FD-A882-4D8A-A11A-F30FD3BEB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28400" y="114120"/>
            <a:ext cx="7629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600C-5896-4C67-9B58-09F1EDDC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996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968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40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4D45-6841-4008-9551-B5BAC675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60D4-C446-4307-9C19-339C2C23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C4BD-C3F8-4DE1-96D3-0D1F680A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28400" y="114120"/>
            <a:ext cx="7629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275B-8E0E-447B-8DA4-C7664A7A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D1A9-9E18-4E50-91CA-CEB2D3C6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6313-FB9F-4083-83F7-8B5AD492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7630-1F76-401C-9ABA-88675A4B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93640" y="6629040"/>
            <a:ext cx="14637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Futura 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E0EA-5792-41A2-B318-B0DD9518ED48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133720" y="6629040"/>
            <a:ext cx="48765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Futura B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48589"/>
                </a:solidFill>
                <a:latin typeface="Futura Bk"/>
              </a:rPr>
              <a:t>&lt;footer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229240" y="6629040"/>
            <a:ext cx="76212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Futura 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4530-5E81-465D-8100-E2B2A31924CA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71440"/>
            <a:ext cx="257040" cy="5686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57040" cy="1114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3" marL="12574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4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5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6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426360" y="0"/>
            <a:ext cx="2717640" cy="6858000"/>
          </a:xfrm>
          <a:prstGeom prst="rect">
            <a:avLst/>
          </a:prstGeom>
          <a:solidFill>
            <a:srgbClr val="00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5120" y="637704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© 2006 Jur van der Burg www.digiater.nl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The information contained herein is subject to change without notice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381720" cy="4809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1000" y="1063440"/>
            <a:ext cx="565164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Hv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  <a:p>
            <a:pPr lvl="1" marL="343080" indent="0" algn="ct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685800" algn="ct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3" marL="1028880" algn="ct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Arial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4" marL="1371600" algn="ct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5" marL="1371600">
              <a:spcBef>
                <a:spcPts val="499"/>
              </a:spcBef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6" marL="1371600">
              <a:spcBef>
                <a:spcPts val="499"/>
              </a:spcBef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hp.com/go/openvms/freeware" TargetMode="External"/><Relationship Id="rId2" Type="http://schemas.openxmlformats.org/officeDocument/2006/relationships/hyperlink" Target="http://www.hp.com/go/openvms/freeware" TargetMode="External"/><Relationship Id="rId3" Type="http://schemas.openxmlformats.org/officeDocument/2006/relationships/hyperlink" Target="http://www.digiater.nl/lddriver" TargetMode="External"/><Relationship Id="rId4" Type="http://schemas.openxmlformats.org/officeDocument/2006/relationships/hyperlink" Target="http://www.digiater.nl/lddriver" TargetMode="External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hp.com/go/openvms/journal" TargetMode="External"/><Relationship Id="rId2" Type="http://schemas.openxmlformats.org/officeDocument/2006/relationships/hyperlink" Target="http://www.digiater.nl/lddriver" TargetMode="External"/><Relationship Id="rId3" Type="http://schemas.openxmlformats.org/officeDocument/2006/relationships/hyperlink" Target="mailto:lddriver@hp.com" TargetMode="External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1000" y="1063440"/>
            <a:ext cx="565164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Disk partitioning on VMS with LDdriver</a:t>
            </a:r>
            <a:br>
              <a:rPr sz="4400"/>
            </a:b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Futura Lt"/>
              </a:rPr>
              <a:t>OpenVMS Technical Update Day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Futura Lt"/>
              </a:rPr>
              <a:t>The Netherland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Futura Lt"/>
              </a:rPr>
              <a:t>October 11,2006</a:t>
            </a:r>
            <a:endParaRPr b="0" lang="en-US" sz="2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33080" y="537228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Hv"/>
              </a:rPr>
              <a:t>Jur van der Burg</a:t>
            </a: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Hv"/>
              </a:rPr>
              <a:t>Software Resources International</a:t>
            </a: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Hv"/>
              </a:rPr>
              <a:t>www.softresint.eu</a:t>
            </a:r>
            <a:endParaRPr b="0" lang="en-US" sz="1600" spc="-1" strike="noStrike">
              <a:solidFill>
                <a:srgbClr val="000000"/>
              </a:solidFill>
              <a:latin typeface="Futura Hv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utura Hv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427800" y="0"/>
            <a:ext cx="271620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/O tracing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Very powerful feature to see what’s happening on a low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an be viewed real-time (continuously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an be logged to disk (unattended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lexible selectable outpu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different time format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different I/O status block format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different I/O function code format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F2AF-B28E-485A-B033-8E4134CA4F8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B95298-4DC8-4090-9BFC-60BAF7AE7DA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/O Tracing exampl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.....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show/trace lda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I/O trace for device $7$LD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6-APR-2006 22:18:36.28 on node LDDRVR: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Start Time Elaps  Pid      Lbn  Bytes Iosb  Function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--------------------------------------------------------------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5 00.00 09C00227 0    0     NORMAL PACKACK|INHERLOG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5 00.01 09C00227 1    512 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6 00.00 09C00227 1034 512 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7 00.00 09C00227 5002 512 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8 00.00 09C00227 5002 512   NORMAL WRITE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9 00.00 09C00227 5003 1536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9 00.00 09C00227 5006 512 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9 00.00 09C00227 5000 512   NORMAL READPBLK|EXFUNC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9 00.00 09C00227 0    0     NORMAL PACKACK|BYPASS_VALID_CH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70 00.00 09C00227 5016 512   NORMAL READPBLK|EXFUNC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70 00.00 09C00227 5023 1024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70 00.00 09C00227 5016 512   NORMAL WRITEPBLK|EXFUNC|DATACHEC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AA50-2AB8-4BC1-8B07-FA192E0CCA6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EB07CB-91F7-4030-B6C4-F08A72EB979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Watchpoint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 watchpoint is a special action performed when a targeted logical block is hit by a reques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se actions are possibl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Return a specific erro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Suspend the I/O request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Generate an Opcom messag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rash the system (needs CMKRNL privilege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user controls which LBN is watched, on which function code is acted, and which error is return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‘Opcom’ action may be combined with other action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0885-FDB7-4947-B7ED-CB93932E862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B65DF0-3135-416F-A0E9-9F2F7C429D0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Watchpoint exampl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watch lda1 1/action=error=2928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watch lda1 1/action=opcom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show/watch lda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Index LBN     Action     Function         Error return code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--------------------------------------------------------------------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        1  Opcom   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        1  Error     READPBLK             0B70 (FISH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dump lda1:/block=(count=1,start=1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%%%%%%%%%%  OPCOM   5-APR-2006 14:21:46.70  %%%%%%%%%%%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Message from user VDBURG on LDDRVR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***** LDdriver detected LBN watchpoint access *****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PID:      26000224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Image:    DUMP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evice:   $7$LDA1: (LDDRVR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Function: 000C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LBN:      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DUMP-E-READERR, error reading LD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-SYSTEM-W-FISH, my hovercraft is full of eels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5F74-A68B-4196-B9D7-A76813092E1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0E342B-524F-4F6A-9692-C31CC316646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allable interfac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driver is controlled by a user mode program issuing normal QIO request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required function codes and definitions are available in the kit, and in VMS since V8.2-1 ($LDDEF or lddef.h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driver is doing very strong validity checks of all requests (You can’t shoot yourself in the foot (if you can, I apologize, please let me know how you did it)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36C8-E834-4463-AFC4-AF8D2F51A3B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0B02C3-1C24-4E0F-90CD-AFE29D307D6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imit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e as many devices as your diskspace allow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ion of any device takes BYTLM quota from the creating proces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tracebuffer as well as watchpoints come out of non-paged pool and are charged against BYTLM as wel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f 9999 LD devices are not enough then you can create LD devices on other controllers, like LDB1:, LDC1:, etc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figure the driver with @SYS$STARTUP:LD$STARTUP x where x is the controller to use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F1E1-213D-447F-B65D-C325382BF67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6D750B-32FE-4F62-8910-30FCA88BEA8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Old version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8.1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608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 CREATE/EXTEN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Allows extension of existing container fil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Expand volume with SET VOLUME/SIZ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 CONNECT/NOFORCED_ERRO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Prevent handling of forced errors with shadowing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Bug fixes: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x possible system crash in I/O completion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x I/O hang with host-based rai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x mount verification issues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AD92-3BCD-4D7B-B70C-3677E5718C6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ADF6EA-9937-4DB0-BBA2-6BC1CD3869C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Old version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8.2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 V8.2 has no new features when compared to V8.1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t is only a bug fix release.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Properly expel shadowset members on error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Reconnecting an LD device could fail the first time after reboot if the container file was used on another nod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Allow container file on an NFS mounted ODS5 volum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Prevent system crash on reconnecting a container file in a cluster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464E-858D-4B34-9DC3-2471ECA441F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4DE095-A2DC-437C-B443-79C1F88693B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70000"/>
              </a:lnSpc>
              <a:spcBef>
                <a:spcPts val="1199"/>
              </a:spcBef>
              <a:spcAft>
                <a:spcPts val="400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 Bk"/>
              </a:rPr>
              <a:t>LD V9.0:</a:t>
            </a:r>
            <a:endParaRPr b="0" lang="en-US" sz="3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-34272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ontrol utility rewritten in Ansi-C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-34272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More accurate timing in trace records (With VMS V8.3 and up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show/trace lda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I/O trace for device $3$LD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7-MAY-2006 09:21:15.16 on node THEBAT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End Time           Elaps    Pid       Lbn     Bytes  Iosb    Function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---------------------------------------------------------------------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09:21:12.232269 00.000000 2060042F          0      0 NORMAL  PACKAC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09:21:12.240950 00.008581 2060042F          1    512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09:21:12.247513 00.006426 2060042F       1034    512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09:21:12.248595 00.000959 2060042F      50033    512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09:21:12.249557 00.000838 2060042F      50034    512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09:21:12.255176 00.005504 2060042F      50016    512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09:21:12.263548 00.008258 2060042F      50016    512 NORMAL  WRITE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380880" indent="0">
              <a:lnSpc>
                <a:spcPct val="7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380880" indent="0">
              <a:lnSpc>
                <a:spcPct val="7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5CCA-EC05-4D56-AFAE-1CF062D2FC0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F4BF02-7150-43AE-BB5A-3A77D4FEFFB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- con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REATE/ERASE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Erase container file on creation. This has no effect if highwater marking is turned on.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REATE will issue a warning if highwater-marking is turned on and the size of the container file is more than 100000 blocks (VMS V8.2 and up):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LD-W-HIGHWATER, Highwater marking is enabled on device, be patient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SHOW/FULL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Will show all attributes of the selected LD device. 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ld show/all/full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%LD-I-CONNECTED, Connected _$3$LDA1: to $1$DGA100:[JUR.LD.V90.SRC]FILE.DSK;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-LD-I-OPTIONS, Shared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%LD-I-CONNECTED, Connected _$3$LDA2: to _$3$DQA0: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-LD-I-OPTIONS, Replaced, Trace active, No DSE support, Not Forced Error capable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7FF6-F320-4CB9-A2B4-550441D0F20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CC8CFD-C5FF-4185-9CE9-65BA674F139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driver: What can it do?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file on any disk as a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range of logical blocks on a disk as a new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nvestigate I/O behavio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est application error handling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Play around with disks without doing damag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Emulate a magtape on disk (V9.0, in development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e havoc (with privileges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000D-014C-4E33-BE24-F55BF5F8EF1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AC221E-6FFC-4BA1-9AB0-3EDFB7B5B71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- con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4572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LD SHOW/SYMBO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1066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Get the LD unit number in DCL symbol LD_UNIT, and the container file specification in the symbol LD_CONTAINER. 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8002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800280" indent="-4572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LD SHOW/TRACE/TIMESTAMP=START or EN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1066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Allow display of absolute start and end time of trace data. 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8002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800280" indent="-4572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LD CONNECT/LOGICAL=(NAME=logical-name [,TABLE=table] [,MODE=mode]) 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1066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Assign logical name to LD device at connect tim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3" marL="14097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FCFE-D9FE-4AC0-A5FA-FE5DAE2DE8A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E570A7-CAE0-4AD4-A85E-7CF43817D6C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– Tape emul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Emulate tape devic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Device is called ‘LM’ (Logical Magtape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Uses the same driver as L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One single driver acts like a disk or tape (!)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lm create tape1/size=10000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lm connect tape1 lma1/log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%LM-I-CONNECTED, Connected $3$LMA1: to $1$DGA100:[JUR.LD.V90.SRC]TAPE1.DSK;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show dev/fu lma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Magtape $3$LMA1: (THEBAT), device type (Generic SCSI tape), is online, file-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oriented device.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Error count                    0    Operations completed                  2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Owner process                 ""    Owner UIC                         [JUR]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Owner process ID        00000000    Dev Prot            S:RWPL,O:RWPL,G:R,W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Reference count                0    Default buffer size                2048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Density                     6666    Format                        Normal-1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Allocation class              12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Volume status:  no-unload on dismount, odd parity.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FEA8-9125-4795-9449-A158CEA66C8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B5A40E-11B3-42A1-AD16-F4B280D67AB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– Tape emul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init lma1 test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m trace lma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mount/foreign lma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MOUNT-I-MOUNTED, TEST mounted on _$3$LMA1: (THEBAT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dismount lm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m show/trace lm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I/O trace for device $3$LM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0-OCT-2006 14:38:17.05 on node THEBAT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Start Time  Elaps   Pid       Lbn     Bytes  Iosb    Function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-------------------------------------------------------------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0 00.00 2020042A          0      0 NORMAL  PACKAC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0 00.00 2020042A          0      0 NORMAL  REWIND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0 00.00 2020042A          0      0 NORMAL  PACKAC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0 00.00 2020042A          0      0 NORMAL  REWIND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0 00.01 00000000          0 524288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1 00.00 2020042A          0     80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1 00.00 2020042A          0     80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1 00.00 2020042A          0     80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1 00.00 2020042A          0     80 ENDOFFILE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1 00.00 2020042A          0      0 NORMAL  REWIND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1 00.00 2020042A          0      0 NORMAL  REWIND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4.71 00.00 2020042A          0      0 NORMAL  UNLOAD|CLSEREXCP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4.71 00.00 2020042A          0      0 NORMAL  AVAILABLE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DEBD-0C5A-4CC5-BC8C-607521CDC32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BA5A2E-B5ED-46F5-B826-B945A3CC6E9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– Tape emul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M SWITCH LMA1 newfile.dsk 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Allows volume switching for backup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M ANALYZE file.dsk [/FULL]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Verifies the integrity of the container fil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m analyze file.ds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LM-I-ANALYZEOK, Container file structure successfully verified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6429-270C-4863-BE8A-7B20CD52BEC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59CD24-B46E-4764-AFC4-617846E4772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– Tape emul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70000"/>
              </a:lnSpc>
              <a:spcBef>
                <a:spcPts val="901"/>
              </a:spcBef>
              <a:spcAft>
                <a:spcPts val="300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is is where we are right now.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70000"/>
              </a:lnSpc>
              <a:spcBef>
                <a:spcPts val="901"/>
              </a:spcBef>
              <a:spcAft>
                <a:spcPts val="300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Backup support will follow soon.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copy/log 10mb.bin lm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COPY-S-COPIED, DATA:[JUR.LD.V90.SRC]10MB.BIN;1 copied to LMA1: (163840 records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set magtape/rewind lm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copy/log lma1: 10mb.new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COPY-S-COPIED, LMA1: copied to DATA:[JUR.LD.V90.SRC]10MB.NEW;1 (163840 records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diff/mode=hex 10mb.bin 10mb.new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Number of difference sections found: 0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Number of difference records found: 0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FFERENCES /IGNORE=()/MERGED=1/MODE=(HEXADECIMAL)-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ATA:[JUR.LD.V90.SRC]10MB.BIN;1-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ATA:[JUR.LD.V90.SRC]10MB.NEW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0BE1-DD42-4063-AF1B-1F5CEE1E826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BBEC33-5D71-4B6D-A3B7-F18A91A1F98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– Tape emul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init lma2 test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back/log DATA:[JUR.LD.V90.KIT]*.* lma2:lm/save/rewind/ignore=label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MOUNT-I-MOUNTED, TEST mounted on _$3$LMA2: (THEBAT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I-LBLOVRWRITE, volume label TEST         overwritten, new label is LM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MOUNT-I-MOUNTED, LM mounted on _$3$LMA2: (THEBAT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BIGDISK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LD_FILE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LD_FILE_SHADOW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LD_FILE_SHARE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LD_FILE_SHARE_LOCK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LD_FILE_TRACE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LD_LBN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LD_LBN_SHARE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LD_MOUNTVER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LD_REPLACE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MOUNTVER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SHADOW_RAM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m analyze file.ds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LM-I-ANALYZEOK, Container file structure successfully verified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48C7-7472-4CA5-8115-E4EB935412A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A15F25-14AB-4D55-BDEA-FEA90B532AC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connecting a container fil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most tricky part is connecting an LD device to a container fil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ontainer file physical device must be a mounted disk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t must contain a known file system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File must be mapped with cathedral window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aching must be disabled for this fil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heck for usage on other cluster member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le I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Allocation class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Device name / controller letter / unit number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Geometry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Maximum block siz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Sharing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Mode of connection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6080" indent="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8E09-45DE-4E0E-909C-5ABC0D4F61CA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40597F-7E82-4A86-A049-A9A230DB33C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connecting a disk by LB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ing part of a disk by LBN range needs other check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Physical device may not be mounte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t may not be accessed on any other nod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e logical block range must fit and may not be in use anywhere in the cluste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e exception is that parts that match exactly may be share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After connecting the physical device is guarded against access with a lock which prevents mounting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869C-25F0-40A0-9354-325A008888C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ACD291-2969-428B-B61D-3A934EE1AD8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checking LBN range (1)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When connecting a part of a physical disk we need to check availability of the logical blocks, clusterwid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We can’s take out a lock based on a resource name with the encoded range as we don’t know what’s used on other node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We don’t want to invoke a helper process – driver check only!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We can’t store all ranges in a valueblock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So we use the lockmanager in a smart way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6201-F3D6-4A1B-9B7C-C750A9F103D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A406EA-5B87-4709-BA61-5E96A734C4C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checking LBN range (2)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t connection time the block range we want is entered in a lock value bloc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By taking out a lock a blocking AST routine is fired on other nodes with interest in the same devic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e blocking routine scans all local LD devices for a matching devic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f found the LBN range is checke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n case of an error a bit is set in the lock value block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After lock conversion the initiator examines the error bit and rejects the request if set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EE71-B0AD-4ACF-9C2D-18B738A725C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199C84-ECF3-4931-A9C1-305A402B511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Where can I find it?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n the OpenVMS freeware websit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 algn="just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b5f01"/>
                </a:solidFill>
                <a:uFillTx/>
                <a:latin typeface="Futura Bk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eb5f01"/>
                </a:solidFill>
                <a:uFillTx/>
                <a:latin typeface="Futura Bk"/>
                <a:hlinkClick r:id="rId2"/>
              </a:rPr>
              <a:t>www.hp.com/go/openvms/freeware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 algn="just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n the main lddriver sit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    </a:t>
            </a:r>
            <a:r>
              <a:rPr b="0" lang="en-US" sz="2000" spc="-1" strike="noStrike" u="sng">
                <a:solidFill>
                  <a:srgbClr val="eb5f01"/>
                </a:solidFill>
                <a:uFillTx/>
                <a:latin typeface="Futura Bk"/>
                <a:hlinkClick r:id="rId3"/>
              </a:rPr>
              <a:t>http://</a:t>
            </a:r>
            <a:r>
              <a:rPr b="0" lang="en-US" sz="2000" spc="-1" strike="noStrike" u="sng">
                <a:solidFill>
                  <a:srgbClr val="eb5f01"/>
                </a:solidFill>
                <a:uFillTx/>
                <a:latin typeface="Futura Bk"/>
                <a:hlinkClick r:id="rId4"/>
              </a:rPr>
              <a:t>www.digiater.nl/lddriver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ntegrated in VMS since V7.3-1(sort of....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ully integrated in VMS V8.2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6A3B-4D0B-4168-A76D-39829638AF0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827EEB-F54C-47A0-B18C-E8B1AEF1C38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Finding an I/O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driver sends most I/O requests it receives directly to the physical disk driv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s may happen for multiple file segments in parall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s can make it harder to find an active I/O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RP’s forwarded to the physical disk can be found in the LDIOB structur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driver’s structure definitions can be found in SYS$LDDRIVER.STB (only after installing the LD kit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FD28-FE91-4D54-9710-E31A446455C6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2F5D9A-9123-4232-84C7-48CD1DDB353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8400" y="-417960"/>
            <a:ext cx="7629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9600" y="101160"/>
            <a:ext cx="8272440" cy="63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SDA&gt; read/exec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SDA&gt; show device lda2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...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SDA&gt; format/typ=ldiob @(ucb+ucb$l_ld_aiofl)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0   LDIOB$L_QFL                              81DD9800    UCB+002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4   LDIOB$L_QBL                     81DD9800             UCB+002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8   LDIOB$W_SIZE                                 008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A   LDIOB$B_TYPE                               13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B   LDIOB$B_SPARE                            53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C   LDIOB$L_IRP                     81DB178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0   LDIOB$L_PID                              0001002B    LNM$C_DEL_OVERLAY+00027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4   LDIOB$L_MEDIA 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8   LDIOB$L_BCNT                             000002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C   LDIOB$W_FUNC                        000C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E   LDIOB$W_IOST                    0001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60   LDIOB$Q_STAT                    00000000.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68   LDIOB$Q_ST_TIME                 00000000.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70   LDIOB$Q_EN_TIME                 000000A8.00010025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78   LDIOB$Q_ST_SCC                  00000000.1C10E15D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80   LDIOB$Q_EN_SCC                  44070017.34465003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88   LDIOB$L_ST_CPU         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8C   LDIOB$L_EN_CPU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90   LDIOB$L_ELAPSED        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                    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LDIOB$Q_ELAPSED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94                 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98   LDIOB$Q_ST_USEC                 613D6500.746C7561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A0   LDIOB$Q_EN_USEC                 2F657461.642F6C6C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A8   LDIOB$L_ABCNT                            00000000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Number of bytes transferred so far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AC   LDIOB$L_KPB                     81C5C9C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B0   LDIOB$L_FWDQFL                           81DC0878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Queue of forwared IRP's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B4   LDIOB$L_FWDQBL                  81DC0878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B8   LDIOB$W_IRPCNT                               0001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Number of active forwarded IRP's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BA   LDIOB$W_FLAGS                            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SDA&gt; format @(@(ucb+ucb$l_ld_aiofl)+ldiob$l_fwdqfl)-irp$l_ld_fwdqfl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0   IRP$L_IOQFL                              81DC5BA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4   IRP$L_IOQBL                     81DC5BA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8   IRP$W_SIZE                                   024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A   IRP$B_TYPE                                 0A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B   IRP$B_RMOD                               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C   IRP$L_PID                       81B278F0             SYS$LDDRIVER+118F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...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97F9-35B5-482F-9879-0DCA43F58A9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6464EC-BE5D-49D5-8EE0-5776ED1F0C1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Which VMS versions?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Runs on VAX/VMS since V5.5-2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lpha V6.1 and high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A64 V8.2 and high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current kit is HP-VMS-LD-V0802--1.PCSI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nstalls on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VAX V7.3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lpha V7.2-2 V7.3 V7.3-1 V7.3-2 V8.2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a64 V8.2 V8.2-1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D137-9AE5-4E08-BA60-3E0458D3F5AF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1021BC-0F18-4380-9FB1-5F2A7BC6D29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Other version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ther versions may work too, but the driver and utility needs to be built from source (included in the kit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Build procedure is includ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 compiler requir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Driver may need an edit for specific versions (enable / disable a conditional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9.0 will NOT run on VAX!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LD V8.2 will be the last release for VAX/VMS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8.2 is integrated in the VMS V8.3 releas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59D1-E531-414E-8A86-48E59A246657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5EC5C7-022A-4316-8577-55F48BAA9F4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Known issue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V8.2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f the XFC cache is turned off (VCC_FLAGS != 2) then connecting a file will return this error: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%LD-F-BLKOUTOFRANGE, Blocks out of range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is problem is corrected in VMS V8.3 and the future LD V9.0 kit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BD0A-FB03-4D76-AFE5-078D3A055DC8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6A4BD1-7A46-4E6E-8DBE-8AF576D914D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HP internal usag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Heavily used for testing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d in the VMS buil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Host-based Infoserv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DRECOR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PY/RECORDABLE_MEDIA (CDDVD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EA66-59C9-4280-AA08-E817D207A83F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A6A417-A2E0-46E1-8328-D27A277D0E9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Future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Bug fixes (if any....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You name it.... suggestions are welcome (buy me a drink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2426-BDF2-47EB-86D7-E3226384D9E6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70591D-8119-46EE-A1D5-D1C83C6E2D9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More inform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DRIVER article in the HP technical journal (V6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4864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5f01"/>
                </a:solidFill>
                <a:uFillTx/>
                <a:latin typeface="Futura Bk"/>
                <a:hlinkClick r:id="rId1"/>
              </a:rPr>
              <a:t>http://www.hp.com/go/openvms/journal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4864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fter installation: $ LD HELP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Keep an eye on the website for the V9.0 release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4864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5f01"/>
                </a:solidFill>
                <a:uFillTx/>
                <a:latin typeface="Futura Bk"/>
                <a:hlinkClick r:id="rId2"/>
              </a:rPr>
              <a:t>http://www.digiater.nl/lddriver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Questions / Bugs / Ideas?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4864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Email: </a:t>
            </a:r>
            <a:r>
              <a:rPr b="0" lang="en-US" sz="2400" spc="-1" strike="noStrike" u="sng">
                <a:solidFill>
                  <a:srgbClr val="eb5f01"/>
                </a:solidFill>
                <a:uFillTx/>
                <a:latin typeface="Futura Bk"/>
                <a:hlinkClick r:id="rId3"/>
              </a:rPr>
              <a:t>lddriver@digiater.nl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9286-25C6-4E42-A61F-7775BE8F4158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D9098D-566B-41AF-87BB-A3A71F8E8AB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2560" cy="68562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2082960" y="2216160"/>
            <a:ext cx="4978080" cy="242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4B73-8DD9-4085-9F1D-36E1B0263328}" type="slidenum">
              <a:t>3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00D864-CE78-40DA-8384-691D54D8F14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.COM</a:t>
            </a: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1.dsk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r lda1:[000000]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rese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4507-5730-492C-BD29-C4FE98D99873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4C190D-0B06-4299-956B-01427FE3B11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Prepar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1199"/>
              </a:spcBef>
              <a:spcAft>
                <a:spcPts val="400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 Bk"/>
              </a:rPr>
              <a:t>Ready for use after @SYS$STARTUP:LD$STARTUP</a:t>
            </a:r>
            <a:endParaRPr b="0" lang="en-US" sz="3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80000"/>
              </a:lnSpc>
              <a:spcBef>
                <a:spcPts val="1199"/>
              </a:spcBef>
              <a:spcAft>
                <a:spcPts val="400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 Bk"/>
              </a:rPr>
              <a:t>Any command that needs the driver will give an error if not started properly:</a:t>
            </a:r>
            <a:endParaRPr b="0" lang="en-US" sz="3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 Bk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$ LD CONNECT FILE.DSK LDA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%LD-F-INVOKESTARTUP, LD has not been setup correctly, invoke @SYS$STARTUP:LD$STARTUP.COM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80000"/>
              </a:lnSpc>
              <a:spcBef>
                <a:spcPts val="1199"/>
              </a:spcBef>
              <a:spcAft>
                <a:spcPts val="400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 Bk"/>
              </a:rPr>
              <a:t>Exceptions are LD HELP and LD CREATE</a:t>
            </a:r>
            <a:endParaRPr b="0" lang="en-US" sz="3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80000"/>
              </a:lnSpc>
              <a:spcBef>
                <a:spcPts val="1199"/>
              </a:spcBef>
              <a:spcAft>
                <a:spcPts val="400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 Bk"/>
              </a:rPr>
              <a:t>Version can be obtained like this:</a:t>
            </a:r>
            <a:endParaRPr b="0" lang="en-US" sz="3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$ LD VERSION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%LD-I-VERSION, LD version V9.0, module X-9 built on Oct 10 2006 13:46:25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-LD-I-DRIVERVERSION, Driver version: 10-OCT-2006 13:56:45.44 (MON version)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-LD-I-SYSINFO, Node: THEBAT, Hardware: hp AlphaServer DS20L 833 MHz, VMS version: XB9P-BL2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3171-B5C0-4419-B52F-16B0B02111E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0308D0-E558-43C3-96A7-AF50BCAFC7C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SHAR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eqs. "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the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ls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ndif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nes. "" then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C8F5-EE89-483B-871F-37325A2398A4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978A47-6F10-42AE-8CA6-051777A69DB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SHARE_LOCK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eqs. "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the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/loc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ls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/loc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ndif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nes. "" then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1ACA-18C3-4BE9-9241-C60B96C9C5AE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4F2801-B9F2-4101-B15D-81F65DD2FB4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TRAC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on control_y then goto exi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1.dsk lda1:/lo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loop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r lda1:[000000]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wait 0:0:5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analyze/disk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wait 0:0:5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goto loop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exit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et noo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stop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2F3C-FC6E-4C52-9E18-FC5F8BEBAA52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7C6B5F-F968-49C7-960B-C9E275428CC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SHADOW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2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1.dsk lda1:/log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2.dsk lda2:/log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dsa0:/shadow=($4$lda1:,$4$lda2:)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rese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rese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shadow/copy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dsa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2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3049-02BD-4687-86E0-C0DC82E9D859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B27C96-2D1A-4A66-8BAD-9B9612BECB2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LBN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phdev := $9$dka40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1:/log/lbn=(start=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2:/log/lbn=(start=1000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3:/log/lbn=(start=2000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4:/log/lbn=(start=3000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2: test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3: test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4: test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2: test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3: test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4: test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3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4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/all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12B9-2206-40C9-A015-EACD72B54AB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4F536B-29D5-44D4-8F57-B09D6E1085D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LBN_SHAR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phdev := $9$dka40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1:/log/lbn=(start=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2:/log/lbn=(start=1000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3:/log/lbn=(start=2000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4:/log/lbn=(start=3000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2: test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3: test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4: test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3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4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/all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7BFB-7979-450A-9E6B-824AA6F0B29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A42A46-4243-444E-8ABD-D6600A8FFDB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REPLAC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phdev := $9$dka40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1:/log/replac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/full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/full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5145-2410-4ED4-8F99-F5B63A67F6E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DBF92B-33AC-4DB7-AE5C-3952147DA2D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MOUNTVER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/log/symbol disk1.ds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/nohigh/system lda'ld_unit'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'ld_unit'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watch lda'ld_unit': 1/action=error=%x84/function=code=%x0808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watch lda'ld_unit': 10/action=error=%x84/function=read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watch lda'ld_unit': 10/action=opcom/function=read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watch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reply/enable/temp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pawn/nowait/input=nl: dump lda'ld_unit':/block=(start=10,count=1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nowatch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reply/disabl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wait 0:0: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et noo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stop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/nolog/noconf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A69A-42A5-4E45-9342-0EE2B78FB823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954221-655E-4C68-BF49-B840888410C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Basics – File mod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file as a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e a file on a physical disk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REATE DKA100:[LD]DISK/SIZE=10000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 the file to a devic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[LD]DISK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it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INIT LDA1: LDDISK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MOUNT LDA1: LDDISK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.....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DISMOUNT LDA1: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Disconnect the fil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DISCONNECT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07DE-8F57-472F-8B31-67879A9776F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76FF1D-40ED-4F83-BF60-F2A063F6E5A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Basics – LBN mod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range of logical blocks as a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Physical disk may not be used by anything else 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 a range of logical blocks to a disk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0,END=9999)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10000,END=19999) LDA2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20000,END=29999) LDA3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 using a siz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0,SIZE=10000)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10000,SIZE=10000) LDA2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20000,SIZE=10000) LDA3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C80D-9251-462A-A84C-EBE18079BEB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F2EDFC-1EC4-4945-A923-5E942DB2B54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Basics – Replace mod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ccess another disk via an LD devic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Not a real form of partitioning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ful for I/O tracing and watchpoint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Physical disk may not be used by anything els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 and replac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REPLACE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F081-3914-41AF-B6F8-1B6C59DA5AA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AB0301-78D8-459F-8161-03D87B2C7F6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Advanced us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haring of LD devices in a cluster is possibl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devices itself are not MSCP-serv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or shared use the physical devices where the container file resides must be MSCP serv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hadowing host-based raid disk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devices may be nested, i.e. you can create an LD disk on an LD disk on an LD disk etc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9D3F-3FF6-423F-B303-0D4D0C73552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CE325E-3351-43C0-A1AD-F22151AC40C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Sharing LD device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devices must be connected the same way on multiple nodes to allow sharing of  container file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s means the same device name, allocation class, geometry, filename, etc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ny mismatch will be detected by the driv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utility attempts to give the reason for the failur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$ ld connect $1$dga1: lda3:/lbn=(start=600,end=2000)/log/share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%LD-F-DEVICEINUSE, Device incompatible connected to other LD disk in cluster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-LD-F-RANGEINUSE, LBN range already in use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D2A3-4CAC-4379-BE78-0C5806BD09F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ED14AE-D286-4FC4-AB55-3BD11B6E9C8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9:03:39Z</dcterms:created>
  <dc:creator>Duarte Design, Inc</dc:creator>
  <dc:description>The dark template was designed for PowerPoint  98 through 2000</dc:description>
  <cp:keywords>Dark Template</cp:keywords>
  <dc:language>en-US</dc:language>
  <cp:lastModifiedBy>Jur van der Burg</cp:lastModifiedBy>
  <dcterms:modified xsi:type="dcterms:W3CDTF">2006-10-10T18:51:47Z</dcterms:modified>
  <cp:revision>90</cp:revision>
  <dc:subject>Standard Dark Template</dc:subject>
  <dc:title>HP_TmpIt_dark_final</dc:title>
</cp:coreProperties>
</file>