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6B47-6AEA-4137-93DB-1068E6A3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C0D-C903-4D1F-9443-A62FD99B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818-8275-4EF6-BFD0-331699B8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BAC-265D-4BCF-8608-F399981F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ACE-EC00-423B-8004-B22406B6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8160-2212-48F4-BB29-56F20162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A67-F418-4E95-9925-89C47F40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FEA8-577F-4064-AFBF-536E58D8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90F5-FFFC-4078-B071-8BCB8424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DED-759D-4AD8-9E04-E3EBA441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0BF-95FD-4486-A7F1-753E645D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9B4-0096-436B-8580-51BABE11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EB02-DE4D-4B02-8596-3D5B5C1AF75B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Futura Bk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331A-CE04-4891-9A01-BBC76BF10AD3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221680" y="262080"/>
            <a:ext cx="77616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65800" y="4816440"/>
            <a:ext cx="1792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p.com/go/openvms/freeware" TargetMode="External"/><Relationship Id="rId2" Type="http://schemas.openxmlformats.org/officeDocument/2006/relationships/hyperlink" Target="http://www.hp.com/go/openvms/freeware" TargetMode="External"/><Relationship Id="rId3" Type="http://schemas.openxmlformats.org/officeDocument/2006/relationships/hyperlink" Target="http://www.digiater.nl/lddriver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hp.com/go/openvms/journal" TargetMode="External"/><Relationship Id="rId2" Type="http://schemas.openxmlformats.org/officeDocument/2006/relationships/hyperlink" Target="mailto:lddriver@hp.com" TargetMode="Externa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Disk partitioning on VMS with LDdriver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Futura Lt"/>
              </a:rPr>
              <a:t>Session A311/A312</a:t>
            </a:r>
            <a:endParaRPr b="0" lang="en-US" sz="32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33080" y="537228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Jur van der Burg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HP OpenVMS Engineering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ery powerful feature to see what’s happening on a low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viewed real-time (continuously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logged to disk (unattende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lexible selectable outpu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tim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status block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function cod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1373-854E-42F4-B13F-059567C9464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C1C7D-6245-404D-8775-215ECCF37B0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.....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7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6-APR-2006 22:18:36.28 on node LDDRVR: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Start Time Elaps  Pid      Lbn  Bytes Iosb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0 09C00227 0    0     NORMAL PACKACK|INHERLO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1 09C00227 1   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6 00.00 09C00227 1034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7 00.00 09C00227 5002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8 00.00 09C00227 5002 512   NORMAL WRITE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3 1536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6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0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0    0     NORMAL PACKACK|BYPASS_VALID_CH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23 1024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WRITEPBLK|EXFUNC|DATACHE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C6D-EFCE-47DC-9851-EBAD9196A45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F3ABA-6AD3-431C-AE16-4BE958AC295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 watchpoint is a special action performed when a targeted logical block is hit by a reques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se actions are possib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turn a specific 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uspend the I/O reques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Generate an Opcom messag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rash the system (needs CMKRNL privileg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ser controls which LBN is watched, on which function code is acted, and which error is return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‘Opcom’ action may be combined with other action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18F4-C08D-488A-AE38-EA8D8FD3848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CC0BB-3DBD-4F1D-BCC1-2DD31C70B51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error=2928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opcom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watch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ndex LBN     Action     Function         Error return code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        1  Opcom   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        1  Error     READPBLK             0B70 (FISH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ump lda1:/block=(count=1,start=1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%%%%%%%%%%  OPCOM   5-APR-2006 14:21:46.70  %%%%%%%%%%%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Message from user VDBURG on LDDRVR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***** LDdriver detected LBN watchpoint access *****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PID:      26000224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mage:    DUMP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evice:   $7$LDA1: (LDDRVR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Function: 000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LBN:      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DUMP-E-READERR, error reading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SYSTEM-W-FISH, my hovercraft is full of eels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DF8-8F7D-4F9B-8AC6-02F2F75D06D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2E99D-13B7-4B4E-8B40-A1E83BE565F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allable interfac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is controlled by a user mode program issuing normal QIO reques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required function codes and definitions are available in the kit, and in VMS since V8.2-1 ($LDDEF or lddef.h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driver is doing very strong validity checks of all requests (You can’t shoot yourself in the foot (if you can, I apologize, please let me know how you did it)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EB5-4B95-418A-8315-BCEBAA84EF4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9F0B9-42AA-4526-8626-C61FE12DAA0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imi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s many devices as your diskspace allow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ion of any device takes BYTLM quota from the creating proces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tracebuffer as well as watchpoints come out of non-paged pool and are charged against BYTLM as we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f 9999 LD devices are not enough then you can create LD devices on other controllers, like LDB1:, LDC1: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figure the driver with @SYS$STARTUP:LD$STARTUP x where x is the controller to u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0AF-D9EF-429C-975B-3F6957AE430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EFEB8-2810-4E41-9EE0-A7E7B01C574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1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REATE/EXTEN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s extension of existing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xpand volume with SET VOLUME/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ONNECT/NOFORCED_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handling of forced errors with shadow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Bug fixes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possible system crash in I/O comple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I/O hang with host-based ra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mount verification issue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2B4-72AD-487E-8E80-6AD6EB75FF9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F2353-7DD1-4D90-9BB1-5B9E514F90C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V8.2 has no new features when compared to V8.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is only a bug fix release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operly expel shadowset members on erro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Reconnecting an LD device could fail the first time after reboot if the container file was used on another nod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 container file on an NFS mounted ODS5 volum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system crash on reconnecting a container file in a clust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66C4-FED0-43BA-BC0B-6E551E84C69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9AA26-B1D2-4A7D-A0B6-996F3C86E97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- con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9.0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CREATE/ERAS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90720" indent="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rase container file on crea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9072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ore accurate timing in trace records (starting with VMS V8.3)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I/O trace for device $9$LD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17-MAY-2006 09:21:15.16 on node THEBA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nd Time           Elaps    Pid       Lbn     Bytes  Iosb    Func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32269 00.000000 2060042F          0      0 NORMAL  PACKACK|INHERLO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0950 00.008581 2060042F          1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7513 00.006426 2060042F       1034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8595 00.000959 2060042F      50033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9557 00.000838 2060042F      50034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55176 00.005504 2060042F      50016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63548 00.008258 2060042F      50016    512 NORMAL  WRITE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11E-6741-404D-BCE8-ECCB45117C8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4C526-B771-4555-9DBB-4F0C033623E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tape device (not yet finishe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evice is called ‘LM’ (Logical Magtap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Uses the same driver as L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reate tape1/siz=10000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onnect tape1 lma1/lo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D-I-CONNECTED, Connected $9$LMA1: to $9$DKA100:[LD]TAPE1.DSK;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show dev/fu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Magtape $9$LMA1: (THEBAT), device type (Generic SCSI tape), is online, file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riented device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rror count                    0    Operations completed                  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                ""    Owner UIC                         [JUR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ID        00000000    Dev Prot            S:RWPL,O:RWPL,G:R,W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Reference count                0    Default buffer size                2048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Density                     6666    Format                        Normal-1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Allocation class              1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Volume status:  no-unload on dismount, odd parity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AB45-1E41-436F-9F38-D421FF251EE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18B69-E830-401F-A598-BFB63243B1C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driver: What can it do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on a disk as a new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vestigate I/O behavio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est application error handl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lay around with disks without doing damag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a magtape (future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havoc (with privilege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0A3-18CF-40B1-8A62-1D831D1B12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DB2B7-48C7-4AC7-8AB9-167EE963DF3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trace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mount/for 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MOUNT-I-MOUNTED,  mounted on _$9$LMA1: (THEBAT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dismount 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show/trace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I/O trace for device $9$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17-MAY-2006 09:25:49.65 on node THEBA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nd Time           Elaps    Pid       Lbn     Bytes  Iosb    Func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1 00.000000 000000A9          0      0 NORMAL  PACKAC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3 00.000000 000000A9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7 00.000000 000000A9          0      0 NORMAL  PACKAC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9 00.000000 000000A9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61 00.000000 000000A9          0     80 ILLBLKNUM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63 00.000000 000000A9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80426 00.000000 000000A9          0      0 NORMAL  UNLOAD|CLSEREXCP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80427 00.000000 000000A9          0      0 NORMAL  AVAILABL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DE10-5993-4DA4-A8A3-BA33F118EA8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6A354-276D-46C2-83AF-223846D25DB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container fi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most tricky part is connecting an LD device to a container fi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ntainer file physical device must be a mounted dis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ust contain a known file system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File must be mapped with cathedral window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aching must be disabled for this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heck for usage on other cluster member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le 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cation clas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Device name / controller letter / unit numb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Geometry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aximum block 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har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ode of connec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788-C799-4CB7-9568-1EFF3A840CB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07B80-1F74-4A4E-965D-5392549211D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disk by LB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ing part of a disk by LBN range needs other chec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Physical device may not be mount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ay not be accessed on any other nod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logical block range must fit and may not be in use anywhere in the clust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exception is that parts that match exactly may be shar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connecting the physical device is guarded against access with a lock which prevents mounting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BA1-BA64-413A-8176-F78C00A9005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DF0D9-F0C0-41B0-8335-52C7BBCB6D7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1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When connecting a part of a physical disk we need to check availability of the logical blocks, clusterwid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s take out a lock based on a resource name with the encoded range as we don’t know what’s used on other nod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don’t want to invoke a helper process – driver check only!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t store all ranges in a value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o we use the lockmanager in a smart way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362-261D-4DF4-9003-6B9AD6D77C6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50B48-0BE2-4553-B908-E2D42473C8D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2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t connection time the block range we want is entered in a lock value bloc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y taking out a lock a blocking AST routine is fired on other nodes with interest in the same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blocking routine scans all local LD devices for a matching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found the LBN range is check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n case of an error a bit is set in the lock value 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lock conversion the initiator examines the error bit and rejects the request if se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15F-47B8-4713-B224-EB444FBFF88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01A81-43B1-47AB-9188-A8EDB120360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Finding an I/O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sends most I/O requests it receives directly to the physical disk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ay happen for multiple file segments in parall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can make it harder to find an active I/O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RP’s forwarded to the physical disk can be found in the LDIOB structur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driver’s structure definitions can be found in SYS$LDDRIVER.STB (only after installing the LD kit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AC4-3172-4BE8-87C5-A5E9F607759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B7C27-2B55-4651-87AC-4652496C900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0" y="-417960"/>
            <a:ext cx="7629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600" y="101160"/>
            <a:ext cx="827244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read/exe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show device lda2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/typ=ldiob @(ucb+ucb$l_ld_aiofl)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0   LDIOB$L_QFL                              81DD9800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4   LDIOB$L_QBL                     81DD9800         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8   LDIOB$W_SIZE                                 00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A   LDIOB$B_TYPE                               1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B   LDIOB$B_SPARE                            5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C   LDIOB$L_IRP                     81DB17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0   LDIOB$L_PID                              0001002B    LNM$C_DEL_OVERLAY+00027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4   LDIOB$L_MEDIA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8   LDIOB$L_BCNT                             000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C   LDIOB$W_FUNC                        000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E   LDIOB$W_IOST                    000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0   LDIOB$Q_STAT   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8   LDIOB$Q_ST_TIME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0   LDIOB$Q_EN_TIME                 000000A8.00010025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8   LDIOB$Q_ST_SCC                  00000000.1C10E15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0   LDIOB$Q_EN_SCC                  44070017.3446500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8   LDIOB$L_ST_CPU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C   LDIOB$L_EN_CPU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0   LDIOB$L_ELAPSED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LDIOB$Q_ELAPSE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4        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8   LDIOB$Q_ST_USEC                 613D6500.746C756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0   LDIOB$Q_EN_USEC                 2F657461.642F6C6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8   LDIOB$L_ABCNT                            00000000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bytes transferred so far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C   LDIOB$L_KPB                     81C5C9C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0   LDIOB$L_FWDQFL                           81DC0878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Queue of forwar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4   LDIOB$L_FWDQBL                  81DC0878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8   LDIOB$W_IRPCNT                               0001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active forward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A   LDIOB$W_FLAGS                            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 @(@(ucb+ucb$l_ld_aiofl)+ldiob$l_fwdqfl)-irp$l_ld_fwdqfl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0   IRP$L_IOQFL         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4   IRP$L_IOQBL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8   IRP$W_SIZE                                   024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A   IRP$B_TYPE                                 0A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B   IRP$B_RMOD                               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C   IRP$L_PID                       81B278F0             SYS$LDDRIVER+118F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826-011D-48C6-81DF-94832347FB4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BC535-6632-4D51-A4B6-2C33D426551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ich VMS versions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Runs on VAX/VMS since V5.5-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6.1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current kit is HP-VMS-LD-V0802--1.PCSI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stalls on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AX V7.3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7.2-2 V7.3 V7.3-1 V7.3-2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V8.2-1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588-DF6C-4551-8169-12901C8576D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B7BC6-8EC3-4AE5-9CFF-0DF5FAFC212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ther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ther versions may work too, but the driver and utility needs to be built from source (included in the kit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ild procedure is includ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 compiler requir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river may need an edit for specific versions (enable / disable a conditional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9.0 will NOT run on VAX!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 is integrated in the VMS V8.3 relea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CC93-A8CC-4B2C-B081-A68187A25D6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C4F94-84FD-4E59-827D-4FDF49281C5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Known issu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the XFC cache is turned off (VCC_FLAGS != 2) then connecting a file will return this error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BLKOUTOFRANGE, Blocks out of rang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problem is corrected in VMS V8.3 and the future LD V9.0 ki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F76E-3121-4BD1-BCDA-0558348820C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1B387-C204-455C-8C25-5356D4BF93B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ere can I find it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OpenVMS freeware web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www.hp.com/go/openvms/freewar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main lddriver 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http://www.digiater.nl/lddriver</a:t>
            </a: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(under construction)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grated in VMS since V7.3-1(sort of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ully integrated in VMS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E3F-E52A-4EBB-B89F-5952BB36336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8CDCA-67E0-4D8C-BC18-7821AF888EE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 usag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Heavily used for test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in the VMS buil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by the host-based Infoser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by CDRECOR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82A-9EC3-4093-A823-BD711F9F813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70407-E42A-4A72-BDFA-C9E0A5D66C5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g fixes (if any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You name it.... suggestions are welcome (buy me a beer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EDE-91AA-4E51-BE48-DF02978EEDD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96B57-FF93-4927-890E-124F4025AB1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ore inform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article in the HP technical journa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hp.com/go/openvms/journa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fter installation: $ LD HELP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Questions / Bugs / Ideas?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mail: </a:t>
            </a: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lddriver@digiater.n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4FED-548F-4EB3-904D-535B34121FB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101D1-7ED5-4A20-A58C-A2CBAE603C1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7120080" y="5126040"/>
              <a:ext cx="1773000" cy="139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AA4A-BFFA-45ED-A3BC-8F02E625CC11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ADEF5-4FFD-4FEF-9033-A4A3475A36B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.COM</a:t>
            </a: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5CCB-467E-4BB1-BD72-418899ECD6E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E182E-115C-41E8-9E13-640D42360DA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1FC-4938-46A0-87CE-872DBF91341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21FE2-9BD9-416C-A5CD-D2826C3B9E3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_LOCK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AAF-7F23-47D6-8FF5-744AFB965B8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42D17-641D-4A83-AFCD-0F14CF2A71B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TR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on control_y then goto exi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loop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analyze/di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goto loo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exi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1DF5-3D61-4D86-999C-C1AEE448271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56FE9-BECF-4BAF-8904-CE7F9EF55CD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DOW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2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2.dsk lda2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dsa0:/shadow=($4$lda1:,$4$lda2:)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shadow/cop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dsa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2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DC38-99A0-41C5-865A-E41110A104F5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8A4D3-0C89-433B-B5F2-A527CA1F70C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0BE5-0600-462D-86DD-6048744D0BA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4F26C-20EB-4963-8837-C32A3EA520B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Prepar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Ready for use after @SYS$STARTUP:LD$STARTUP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ny command that needs the driver will give an error if not started properly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CONNECT FILE.DSK LD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F-INVOKESTARTUP, LD has not been setup correctly, invoke @SYS$STARTUP:LD$STARTUP.CO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xceptions are LD HELP and LD CREA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ersion can be obtained like this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VERS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I-VERSION, LD version V9.0, module X-9 built on May 17 2006 09:01:3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DRIVERVERSION, Driver version: 17-MAY-2006 09:02:10.86 (MON version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SYSINFO, Node: THEBAT, Hardware: hp AlphaServer DS20L 833 MHz, VMS version: XB9P-BL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CA9-F44C-42A6-A606-A9CCB8FAEB7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5C81C-FB25-49E7-BD71-B35FA15335B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338-A647-40A6-BC0E-33F0FE58450D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20099-827C-481D-B6B4-A157FD50FD2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REPL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replac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62D-0D52-4F94-9D73-C2EDEBAF4E4A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2228F-4513-43C1-B570-079BA0CC5A4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MOUNTVER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/log/symbol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/nohigh/system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/action=error=%x84/function=code=%x0808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error=%x84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opcom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enable/tem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pawn/nowait/input=nl: dump lda'ld_unit':/block=(start=10,count=1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no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dis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/nolog/noconf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E50-2DBA-4A07-9864-0E224C9061A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61FD3-8482-416C-B336-CAA8794B6F8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Fil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 file on a physical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DKA100:[LD]DISK/SIZE=1000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the file to a devi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[LD]DISK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it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NI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MOUN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DISMOUNT LDA1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connect the fi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DISCONNECT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511A-D3A4-41D5-8A0F-55FB770A9D2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347BF-C6E9-4388-9C3A-5ECE89A209E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LBN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 range of logical blocks to a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END=9999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END=19999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END=29999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using a siz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SIZE=10000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SIZE=10000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SIZE=10000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8D4-24AB-4DF1-9C1C-9BA9DB59412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238DA-3292-403E-B5FD-4D51E91ABB4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Replac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ess another disk via an LD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t a real form of partition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ful for I/O tracing and watchpoin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nd repla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REPLACE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200B-FE13-4CC4-984B-6DE32AB3898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DB3A1-E0FE-4624-9E7E-25E50B59F0F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Advanced us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ring of LD devices in a cluster is possib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itself are not MSCP-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shared use the physical devices where the container file resides must be MSCP 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dowing host-based raid dis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ay be nested, i.e. you can create an LD disk on an LD disk on an LD disk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F43-24B8-4CD7-ACC0-60CA3BEDC92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96D79-066A-445A-89BA-E2A3868F194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Sharing LD devic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ust be connected the same way on multiple nodes to allow sharing of  container fil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eans the same device name, allocation class, geometry, filename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ny mismatch will be detected by the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tility attempts to give the reason for the failur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$ ld connect $1$dga1: lda3:/lbn=(start=600,end=2000)/log/shar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DEVICEINUSE, Device incompatible connected to other LD disk in cluste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F-RANGEINUSE, LBN range already in us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E07-653E-44C7-9A13-C25CF04C7D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C6E1E-7223-4E14-B836-B6307BE1B6E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03:39Z</dcterms:created>
  <dc:creator>Duarte Design, Inc</dc:creator>
  <dc:description>The dark template was designed for PowerPoint  98 through 2000</dc:description>
  <cp:keywords>Dark Template</cp:keywords>
  <dc:language>en-US</dc:language>
  <cp:lastModifiedBy>Jur van der Burg</cp:lastModifiedBy>
  <dcterms:modified xsi:type="dcterms:W3CDTF">2006-05-22T11:41:25Z</dcterms:modified>
  <cp:revision>79</cp:revision>
  <dc:subject>Standard Dark Template</dc:subject>
  <dc:title>HP_TmpIt_dark_final</dc:title>
</cp:coreProperties>
</file>